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A12-835A-40FC-B592-A046269E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0BD-4B10-47A3-8F33-B41BDD1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770-90F1-4101-A612-8B804106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E68-3342-4249-9F2C-98136ED8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B50-A9ED-4116-865B-300D8C75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6B3-D00B-447A-AD5E-7BF3C03B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D76-3252-4DD5-88CB-6E0A3EA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358-A9CB-4FCB-99DD-5E97E40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AB1-0E19-4BFA-946C-FEF4824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E48-1223-477F-A8BE-B8CEF6F0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DD1-1F2A-43C6-9ED4-43BEA79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8B8-3D15-4814-86B1-45B565B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9348-5361-4294-A7D5-FC0B4D1D1A0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应用系统中，经常需要用到信息的打印输出。单片机可以通过外接的打印机来输出运行状态、测量结果以及格式化输出数据等。目前，市场上打印机有很多种。按照打印原理可以分为：键式打印机、针式打印机、热敏打印机、喷墨式打印机、激光打印机等。按照打印的行宽可以分为：宽行打印机、窄行打印机、微型打印机。按打印头是否能往返打印可以分为：单向打印机和双向打印机。按打印的字符颜色可以分为：单色打印机和彩色打印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型打印机体积小巧、接口简单、控制灵活。因此，微型打印机最适合与单片机相连接。本章主要介绍如何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来控制微型打印机进行打印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四色描绘式打印机，包括其接口、工作时序、文本模式和图形模式等。本章最后还通过一个具体的实例，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接口简单、控制方便，十分适合作为单片机系统的智能输出扩展。因此，熟练掌握本章内容对以后的设计工作很有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打印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，常用的微型打印机均采用规范化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标准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可以方便地和计算机以及微处理器的并行端口连接。目前，市场上应用最为广泛的微型打印机有如下几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绘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1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4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P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嵌入式汉字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1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描绘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四色描绘式微型打印机，其具有文本模式和图形模式两种工作方式。可用来描绘字符以及图形，具有较强的绘图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微处理器相结合，便可以在智能仪表及实时控制系统中作为微型绘图机使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要特点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丰富的打印指令，格式简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字符，以及常用的控制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较强的绘制图形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2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文本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文本模式和图形模式两种操作方式，上电后初始状态为文本模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文本模式下可打印输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879640"/>
            <a:ext cx="7010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3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图形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于文本模式时，外部控制器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由文本模式转换成图形模式；再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又回到文本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图形模式工作时，可选择各种绘图操作命令，以便绘出各种图形、表格、曲线。绘图命令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，分为如下所示的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满足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，可以通过单片机来实现打印输出控制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0292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的程序代码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1:04Z</dcterms:created>
  <dc:creator>cheng</dc:creator>
  <dc:description/>
  <dc:language>en-US</dc:language>
  <cp:lastModifiedBy>cheng</cp:lastModifiedBy>
  <dcterms:modified xsi:type="dcterms:W3CDTF">2008-10-13T09:14:52Z</dcterms:modified>
  <cp:revision>2</cp:revision>
  <dc:subject/>
  <dc:title>第35章  单片机控制打印机实例</dc:title>
</cp:coreProperties>
</file>