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09D8-1E33-4F7D-9718-AABBCC35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F9A-FA66-4502-A86E-505EBC17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3EC-D78C-4FD0-8EE3-BD53CDAA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520-8E23-441C-B1C8-81D07785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9652-8D4C-45C0-9F60-9CCBD1FD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EF2-F536-4AEF-B621-151EFC97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226-DE89-4A4E-A4B8-54834EE3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4F9-BD11-4CE5-888A-18D90498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F77-66EC-4D06-A7A2-B0199386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7B7-C6BD-4B25-A130-471ABB08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537-D6B4-4533-ABC9-12642A6D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F23C-C43B-441E-9163-A009E422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D6B6-031E-4C07-9254-945EFD12B874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单片机读写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lligent Car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卡，是指一张集成了部分电路的卡片。其一般采用固定大小，其内部的电路主要用于存储和处理数据。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一般简称为智能卡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取款机、公交卡以及学校的饭卡均是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带来了灵活方便的身份识别和支付等功能，目前已广泛应用于交通、校园、金融、电信、医疗以及门禁系统等领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概述，常用的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及其读写方式。本章还通过一个实例，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如何读写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读写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本质上属于存储器件，可以通过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接口来对其进行读写操作。在实际使用时，一般都规定好信息的特殊存储格式，以满足不同场合的需要。这里为了方便，只介绍如何使用单片机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用户可以根据需要自行定义数据信息的格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，因此需要选择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的单片机。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没有集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控制器，这里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的电路原理图，电路图中，所使用的元器件列表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57320" y="3048120"/>
            <a:ext cx="755316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2  SPI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接口单片机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微处理器，它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完全兼容，但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上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。其主要功能特性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.7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.5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电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K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在系统重编程可下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K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兼容的可编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源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接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编程看门狗定时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软件，进行程序设计。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508644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4  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读写子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读写需要使用相关的指令，并满足一定的时序。这里将用到的函数封装成子函数的形式，方便调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主函数中首先初始化串行口为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波特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800bit/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接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来扫描串口输入，根据输入数据来调用函数执行不同的功能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的相关知识。其中对目前市场上广泛使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进行了详细介绍，包括芯片的功能、内存空间和指令。本章还通过一个具体的实例，介绍了如何使用单片机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进行读写操作。由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数据接口，这里使用了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进行读写操作。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目前得到广泛的使用，读者应该熟练掌握本章内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从本质上说，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是部分集成电路的组合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制作成标准大小的卡片形式，是为了方便携带以及便于读写操作。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目前已经深入到我们生活的方方面面。这里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的分类，以及常见的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和非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分类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按照用途来分，可以分为如下几类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身份识别，例如门禁卡、居民身份证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支付工具，例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取款机、公交卡、学校的饭卡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加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密，例如数据备份卡、加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息，例如手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按照使用的方式来分，可以分为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和非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通过机械触点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读写设备获取能量和交换数据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通过射频感应从读写设备获取能量和交换数据。非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又称为射频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是在卡片上引出了机械触点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。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内部的芯片通过机械触点来进行数据读写操作。使用时，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插入读写器的插槽内，由读写器完成对芯片的读出和写入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每次读写时，都必须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正确插入到读写器中才能完成数据的交换。因此，存在着操作不方便、触点易磨损、读写速度慢等缺点。但是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制作起来比较简单，成本也比较低，目前使用的非常广泛。本章就以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为主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芯片是目前市场上最常见的。其提供了存储器型、逻辑加密型等多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类型，可广泛应用于多种场合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非接触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没有明显的触点，其内部除了存储单元、控制逻辑外，还集成有感应线圈。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通过线圈射频感应从读写设备获取能量和交换数据。在使用时，将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放在读写器附近一定的距离之内，读写器通过射频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内部的电路提供能量，并通过一定的协议完成数据的交换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由于不存在机械触点，因此使用方便快捷、不易损坏。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制作比较复杂，成本也比较高，其常用于使用频繁、可靠性要求高的场合。目前，很多应用领域的智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都开始使用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f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技术是当今非接触式智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射频卡的主流技术，目前已经被指定为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的国际标准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SO/IEC 14443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标准）。现在一些大型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制造商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读写器制造商以及相关软件设计公司等都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f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技术作为标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芯片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以接触式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例进行介绍。最常见的接触式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，其内部芯片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这里便以该芯片为例，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的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2.1  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T45DB04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45DB04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串行数据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支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S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系统重编程（擦写和编程），可用于语音、图像和数据的存储，特别适合于存储器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设计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最新的型号，其主要功能特性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.5V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电或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.7V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.6V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电源供电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串行接口结构，兼容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串行外设接口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支持页编程操作，可在单周期完成编程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04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页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6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字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页）主内存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可进行页擦除或块擦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据缓冲器，可以允许在系统重编程时接收数据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可以连续进行读操作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具有内部程序和控制定时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具有硬件数据保护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低功耗，输入输出兼容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MO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电平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最大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66MHz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工作频率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00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擦写次数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据可以保存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以上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2.2  AT45DB041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内存空间及其读写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共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M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内存空间，其结构按照页面、块和扇区来组织，分别介绍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页面为单元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存中共分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04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，每页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节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块为单元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存中共分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，每块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1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节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一块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扇区为单元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存中共分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扇区，扇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，相当于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；扇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4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，对应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到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；扇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，对应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到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；扇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均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，每个扇区对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的空间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对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内存空间进行操作时，所有编程写操作都以页面为基本单位，而擦除操作可以选择页面操作或者块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2.3  AT45DB041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指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读写操作由主控制器发送指令来实现。由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串行接口，指令执行时，首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低电平，然后启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脚，并装载指令代码和操作对象的地址，完成一条指令的输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操作对象的寻址主要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主内存寻址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寻址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寻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FA8~BF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地址来实现，可以定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具体字节的地址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内存区寻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A10~P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A8~B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实现的。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A10~P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地址，用于确定页面的位置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A8~B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地址，用于确定页面内具体字节的位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16:03Z</dcterms:created>
  <dc:creator>cheng</dc:creator>
  <dc:description/>
  <dc:language>en-US</dc:language>
  <cp:lastModifiedBy>cheng</cp:lastModifiedBy>
  <dcterms:modified xsi:type="dcterms:W3CDTF">2008-10-13T09:21:13Z</dcterms:modified>
  <cp:revision>2</cp:revision>
  <dc:subject/>
  <dc:title>第37章  单片机读写智能IC卡</dc:title>
</cp:coreProperties>
</file>