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CF82-0475-46DA-93E0-150616A7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A41-2AB8-4B3C-BF2E-A6A7E5A1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E21-817A-47BE-A913-DB5C4E00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2D1-F310-4CCD-B577-0C160031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DDE-6F55-4EF6-9666-B30B2987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5C8-4A7C-4A22-8655-02B35FAD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6A7-6616-4D1A-BCF8-BE8EAC4E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0E4-CD18-4327-9AB8-9AB52F9D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7DB-5F92-495C-A10C-392B8E9B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F43-FB88-4C8F-A463-C03FEED9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404-9266-4E95-917A-600B0229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1B37-0482-4B39-A9AC-642698F6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CD8D-115E-4AF9-8CCB-03E9634EFE4C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单片机控制打印机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单片机应用系统中，经常需要用到信息的打印输出。单片机可以通过外接的打印机来输出运行状态、测量结果以及格式化输出数据等。目前，市场上打印机有很多种。按照打印原理可以分为：键式打印机、针式打印机、热敏打印机、喷墨式打印机、激光打印机等。按照打印的行宽可以分为：宽行打印机、窄行打印机、微型打印机。按打印头是否能往返打印可以分为：单向打印机和双向打印机。按打印的字符颜色可以分为：单色打印机和彩色打印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微型打印机体积小巧、接口简单、控制灵活。因此，微型打印机最适合与单片机相连接。本章主要介绍如何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来控制微型打印机进行打印输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四色描绘式打印机，包括其接口、工作时序、文本模式和图形模式等。本章最后还通过一个具体的实例，介绍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打印输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接口简单、控制方便，十分适合作为单片机系统的智能输出扩展。因此，熟练掌握本章内容对以后的设计工作很有帮助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打印机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，常用的微型打印机均采用规范化的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并行接口标准。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可以方便地和计算机以及微处理器的并行端口连接。目前，市场上应用最为广泛的微型打印机有如下几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描绘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P-UP-16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点阵式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P-UP-40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点阵式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P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L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嵌入式汉字微型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.1  LASER PP4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描绘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种四色描绘式微型打印机，其具有文本模式和图形模式两种工作方式。可用来描绘字符以及图形，具有较强的绘图功能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微处理器相结合，便可以在智能仪表及实时控制系统中作为微型绘图机使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主要特点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的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并行接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丰富的打印指令，格式简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支持全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码字符，以及常用的控制字符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较强的绘制图形能力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.2  LASER PP4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文本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文本模式和图形模式两种操作方式，上电后初始状态为文本模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文本模式下可打印输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符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7920" y="2879640"/>
            <a:ext cx="701028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.3  LASER PP4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图形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于文本模式时，外部控制器将回车符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D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由文本模式转换成图形模式；再将回车符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D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又回到文本模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图形模式工作时，可选择各种绘图操作命令，以便绘出各种图形、表格、曲线。绘图命令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，分为如下所示的几类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控制打印机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满足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，可以通过单片机来实现打印输出控制。这里介绍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。系统电路原理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33720" y="2362320"/>
            <a:ext cx="54100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38280" y="2514600"/>
            <a:ext cx="50292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打印输出的程序代码，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内容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11:04Z</dcterms:created>
  <dc:creator>cheng</dc:creator>
  <dc:description/>
  <dc:language>en-US</dc:language>
  <cp:lastModifiedBy>cheng</cp:lastModifiedBy>
  <dcterms:modified xsi:type="dcterms:W3CDTF">2008-10-13T09:14:52Z</dcterms:modified>
  <cp:revision>2</cp:revision>
  <dc:subject/>
  <dc:title>第35章  单片机控制打印机实例</dc:title>
</cp:coreProperties>
</file>