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EB4-91A2-447F-9CC5-C32F6167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74B-1CF2-428F-B19C-6F39E86A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853-6DF8-42AE-AC66-9B200448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F4D-B193-4292-8A2A-955D788D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2E3-F960-49A6-A09D-88E0E8AE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512-30FC-4533-9B9D-5324D6D7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70A-2DF8-40E3-BABB-65DF2C78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A70-1D2E-4A23-A902-146A0958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2AF-01B2-4DD2-BD5D-B65DF343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9F5-FF94-4E95-9B2A-956A787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2AD-BF02-463C-9262-A5178810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109-73A0-4214-B37E-4CE6CD65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8C03-3E06-49FE-B1E4-8D3C90CA0F25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ligent Ca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卡，是指一张集成了部分电路的卡片。其一般采用固定大小，其内部的电路主要用于存储和处理数据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一般简称为智能卡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以及学校的饭卡均是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带来了灵活方便的身份识别和支付等功能，目前已广泛应用于交通、校园、金融、电信、医疗以及门禁系统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概述，常用的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及其读写方式。本章还通过一个实例，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读写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本质上属于存储器件，可以通过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来对其进行读写操作。在实际使用时，一般都规定好信息的特殊存储格式，以满足不同场合的需要。这里为了方便，只介绍如何使用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户可以根据需要自行定义数据信息的格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，因此需要选择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单片机。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这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电路原理图，电路图中，所使用的元器件列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57320" y="3048120"/>
            <a:ext cx="755316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2  SP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口单片机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处理器，它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完全兼容，但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上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。其主要功能特性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电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在系统重编程可下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兼容的可编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编程看门狗定时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软件，进行程序设计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0864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4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需要使用相关的指令，并满足一定的时序。这里将用到的函数封装成子函数的形式，方便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相关知识。其中对目前市场上广泛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了详细介绍，包括芯片的功能、内存空间和指令。本章还通过一个具体的实例，介绍了如何使用单片机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读写操作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数据接口，这里使用了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进行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得到广泛的使用，读者应该熟练掌握本章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本质上说，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是部分集成电路的组合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制作成标准大小的卡片形式，是为了方便携带以及便于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已经深入到我们生活的方方面面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分类，以及常见的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分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用途来分，可以分为如下几类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身份识别，例如门禁卡、居民身份证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付工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、学校的饭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密，例如数据备份卡、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息，例如手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使用的方式来分，可以分为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机械触点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读写设备获取能量和交换数据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射频感应从读写设备获取能量和交换数据。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又称为射频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是在卡片上引出了机械触点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芯片通过机械触点来进行数据读写操作。使用时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插入读写器的插槽内，由读写器完成对芯片的读出和写入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每次读写时，都必须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正确插入到读写器中才能完成数据的交换。因此，存在着操作不方便、触点易磨损、读写速度慢等缺点。但是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起来比较简单，成本也比较低，目前使用的非常广泛。本章就以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为主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芯片是目前市场上最常见的。其提供了存储器型、逻辑加密型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类型，可广泛应用于多种场合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没有明显的触点，其内部除了存储单元、控制逻辑外，还集成有感应线圈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通过线圈射频感应从读写设备获取能量和交换数据。在使用时，将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放在读写器附近一定的距离之内，读写器通过射频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电路提供能量，并通过一定的协议完成数据的交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由于不存在机械触点，因此使用方便快捷、不易损坏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比较复杂，成本也比较高，其常用于使用频繁、可靠性要求高的场合。目前，很多应用领域的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都开始使用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是当今非接触式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射频卡的主流技术，目前已经被指定为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的国际标准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SO/IEC 1444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）。现在一些大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造商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读写器制造商以及相关软件设计公司等都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作为标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以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进行介绍。最常见的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，其内部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便以该芯片为例，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1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串行数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系统重编程（擦写和编程），可用于语音、图像和数据的存储，特别适合于存储器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设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最新的型号，其主要功能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5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电或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.6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电源供电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接口结构，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外设接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页编程操作，可在单周期完成编程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4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）主内存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进行页擦除或块擦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缓冲器，可以允许在系统重编程时接收数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连续进行读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内部程序和控制定时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硬件数据保护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低功耗，输入输出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电平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最大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6MHz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工作频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0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擦写次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可以保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2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内存空间及其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M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，其结构按照页面、块和扇区来组织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页面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0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，每页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块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，每块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1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一块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扇区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扇区，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相当于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均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每个扇区对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的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进行操作时，所有编程写操作都以页面为基本单位，而擦除操作可以选择页面操作或者块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3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主控制器发送指令来实现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指令执行时，首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低电平，然后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脚，并装载指令代码和操作对象的地址，完成一条指令的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操作对象的寻址主要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内存寻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FA8~BF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来实现，可以定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具体字节的地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内存区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实现的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的位置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内具体字节的位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6:03Z</dcterms:created>
  <dc:creator>cheng</dc:creator>
  <dc:description/>
  <dc:language>en-US</dc:language>
  <cp:lastModifiedBy>cheng</cp:lastModifiedBy>
  <dcterms:modified xsi:type="dcterms:W3CDTF">2008-10-13T09:21:13Z</dcterms:modified>
  <cp:revision>2</cp:revision>
  <dc:subject/>
  <dc:title>第37章  单片机读写智能IC卡</dc:title>
</cp:coreProperties>
</file>