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8DF4-01A5-4727-94CD-415C489BE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BF61-4635-4254-9243-F4E6605D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368E-56B8-479D-9CF0-723D4E4BA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9B0C-B3DC-4D47-A43E-E2B9FF99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2729-B271-48B1-BF0A-3E3E8497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1596-CC5F-47AD-A636-901FCE45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58CD-64F6-470D-84BF-AF2829A0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8690-CA42-4E7F-8EF4-2C9D031D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DCAF-BE4D-427E-81E2-423203CE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4424-304D-4DFB-A748-4027170F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7F0E-B516-4174-A34D-8DD34DD9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3245-3E08-4805-BCDD-F3A9A94A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3226-60E9-4A31-A172-0C62F35FC54C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实时时钟芯片应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一些测控系统或者手持式设备，经常需要显示以及设定时间。目前，市场上有多种实时时钟芯片提供了这类功能。这种可编程的实时时钟芯片内置了可编程的日历时钟以及一定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，用于设定以及保存时间。另外，实时时钟芯片一般内置闰年补偿系统，计时很准确。其采用备份电池供电，在系统断电时仍可以工作。实时时钟芯片的这些优点，使得其广泛应用于需要时间显示的场合。本章详细介绍了美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LLA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推出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功能、控制指令以及时间的操作。本章通过一个具体的实例，讲解了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来读写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主程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例的程序功能是首先初始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然后通过输入不同的字符来分别执行初始化、时钟操作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操作。分别介绍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输入字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进入时钟操作。此时可以选择显示时间（输入字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或者写时钟（输入字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输入字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进入初始化操作。此时可以详细设置时间和日期等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输入字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进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操作。此时可以选择单字节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输入字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、多字节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输入字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或者多字节读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输入字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复位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复位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setDS1302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现对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硬件复位操作。程序中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T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来进行复位操作，其程序代码示例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oid ResetDS1302()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K = 0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TB = 0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TB = 1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字节读取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节读取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adByteDS1302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读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内部数据。该函数中，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时钟下，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逐位读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的字节数据，并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tur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返回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字节写入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字节写入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riteByteDS130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用于向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写入寄存器地址或者数据。该函数中，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K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引脚时钟下，通过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引脚逐位写入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的字节数据。其程序代码示例如下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void WriteByteDS1302(uchar W_Byte) 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char i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for(i = 0; i &lt; 8; ++i)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循环逐位写入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_O = 0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f(W_Byte &amp; 0x01) I_O = 1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K = 0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时钟操作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K = 1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_Byte &gt;&gt;= 1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移位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7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初始化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初始化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itDS1302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时钟寄存器进行初始化操作。该函数中，分别输入需要设置的年、月、星期、日、小时、分钟和秒的数值，然后调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setDS1302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复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并允许涓流充电，最后以多字节突发方式写入时钟数据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8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时钟字节写入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钟字节写入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riteClkByte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对时钟寄存器执行写操作。该函数中，首先获取时钟寄存器地址以及时钟数据，然后分别调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riteByteDS1302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来执行写寄存器地址和写数据操作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9  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字节写入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节写入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riteRamByte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片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执行写操作。该函数中，首先获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地址以及时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据，然后分别调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riteByteDS1302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来执行写寄存器地址和写数据操作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10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时钟寄存器内容显示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钟寄存器内容显示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isplay(uchar loop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读取并显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部时钟寄存器中的数据。该函数中，首先复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然后采用多字节突发方式读取时钟寄存器中的数据，然后每秒显示一次结果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1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多字节突发方式读取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字节突发方式读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urstReadRAM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读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数据。该函数中，首先以多字节突发方式来读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片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并将数据保存在数组中，接着将各个数据输出显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1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多字节突发方式写入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字节突发方式写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urstWriteRAM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片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执行写操作。该函数中，首先获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据，然后采用多字节突发方式来写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据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0000"/>
                </a:solidFill>
                <a:latin typeface="宋体"/>
              </a:rPr>
              <a:t>30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美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LLA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推出的一款实时时钟芯片。其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线串行接口，芯片内部集成了可编程日历时钟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字节的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日历时钟可自动进行闰年补偿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芯片自身还具有对备份电池进行涓流充电功能，可有效长备份电池的使用寿命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以其计时准确、接口简单、使用方便、工作电压范围宽和低功耗等优点，得到了广泛的应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介绍了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命令字节和数据格式，并介绍了两种数据传输方式：单字节传输方式和多字节突发传输方式。本章通过一个具体的实例，讲解了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来实现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控制，在该实例中分别采用了单字节传输方式和多字节传输方式来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时钟寄存器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进行操作。实时时钟常用于需要时间设定和显示的场合，在单片机应用系统中很常见，熟练掌握本章可以轻松实现单片机的时钟显示扩展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1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排列，如图所示。其中各个引脚功能如下所述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90920" y="2971800"/>
            <a:ext cx="449568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命令字节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从器件，由外部微处理器来控制数据传输。每次传送时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写入一个命令字节开始，后面是数据字节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3962520"/>
            <a:ext cx="724392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1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数据格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据格式分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时钟两种操作，下面分别进行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6520" y="2666880"/>
            <a:ext cx="609588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0.1.4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数据传输方式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与外部微处理器之间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传送同步串行数据。其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串行通信时的位同步时钟，一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脉冲传送一位数据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每次数据传送时以字节为单位，先发送低位，再发送高位，因此传送一个字节需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脉冲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数据传输可采用单字节或多字节突发方式进行。下面分别进行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981080" y="4648320"/>
            <a:ext cx="6205680" cy="16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读写实时时钟芯片实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采用串行接口，只需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根引脚便可以完成操作，其使用非常方便。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作为外部微处理器，来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进行控制。当然也可以选择其它兼容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路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给出单片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读写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电路图，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057400" y="2438280"/>
            <a:ext cx="6095880" cy="39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建立项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编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上的程序，来实现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控制。首先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建立项目，具体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590920" y="2971800"/>
            <a:ext cx="472428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3:02:31Z</dcterms:created>
  <dc:creator>cheng</dc:creator>
  <dc:description/>
  <dc:language>en-US</dc:language>
  <cp:lastModifiedBy>cheng</cp:lastModifiedBy>
  <dcterms:modified xsi:type="dcterms:W3CDTF">2008-10-13T08:52:34Z</dcterms:modified>
  <cp:revision>2</cp:revision>
  <dc:subject/>
  <dc:title>第30章  实时时钟芯片应用</dc:title>
</cp:coreProperties>
</file>