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ADB-7069-4545-8C9F-179999FD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EDC-53F6-4497-9253-A736868C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A56-5F67-4413-80F0-5BECBE83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2EB-E911-4933-9755-8AEB2A5E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C15-0E57-4D77-A41A-BFE5A64F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DBC-7D0B-4E85-920D-901D2C3A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CD7-610E-4AB6-8BFE-6EB071BF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A54-34AA-454C-B682-2CC93A2F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706-EA6D-47BF-987C-CAC58D55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28F-DEC6-400E-90E9-B9C362AE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EAD-F8A5-40E9-893F-B08F02A9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B58-3764-4C1E-A39B-254760D4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965C-FF2E-4179-975A-0401F0A77230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发工具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程序设计需要在特定的编译器中进行。编译器完成对程序的编译、连接等工作，并最终生成可执行文件。对于单片机程序的开发，一般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的集成开发环境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开发工具目前的最高版本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支持汇编语言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的程序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、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进行单片机设计与仿真。本章内容包括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安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集成开发环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包括安装过程、项目管理窗口、菜单栏、工具栏，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管理配置和各种常用的窗口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十分优秀的单片机开发软件，应用的十分广泛，熟练掌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使用是单片机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德国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Softwa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兼容单片机软件开发系统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集成的可视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操作界面，其提供了丰富的库函数和各种编译工具，能够对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以及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兼容的绝大部分类型的单片机进行设计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可以支持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设计语言，也可以直接进行汇编语言的设计与编译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已经被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收购，成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旗下的产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的集成开发环境最高版本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版本号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8.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一个非常优秀的编译器，受到广大单片机设计者的广泛使用。其主要特点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汇编语言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等多种单片机设计语言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视化的文件管理，界面友好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丰富的产品线，除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及其兼容内核的单片机外，还新增加了对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产品的支持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完善的编译连接工具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备丰富的仿真调试功能，可以仿真串口、并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以及中断等资源，同时也可以和外部仿真器联合进行在线调试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时多任务操作系统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在一个工作空间中进行多项目的程序设计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多级代码优化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2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安装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可以单独安装，也可以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中国区特殊设计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 RealView MDK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获得。这里以最新版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 V8.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介绍其集成开发环境的安装及使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系统要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了达到比较好的软件运行效果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计算机的硬件和软件配置有一定的要求，其实这些要求是十分低的，一般的系统都完全可以胜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存大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M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至少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5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硬盘剩余空间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及其以上的操作系统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软件安装步骤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0200" y="4221000"/>
            <a:ext cx="2666880" cy="187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266688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集成开发环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良好的图形交互界面和强大的功能，其支持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单片机。这里首先介绍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软件开发环境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1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项目管理窗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是具有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界面的应用程序，对于一个打开的项目工程，其界面效果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48006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2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菜单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菜单栏，其中提供了项目操作、编辑操作、编译调试以及帮助等各种常用操作。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ile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“File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文件操作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单片机程序源代码的各种编辑方式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ie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ie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窗口和工具栏的显示和隐藏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rojec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rojec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项目的管理和编译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bug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bug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项目调试和仿真中使用的各种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ash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“Flash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程序下载、擦除以及配置等操作，需要外部仿真器的支持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eripheral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eripheral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单片机上的各种资源，供项目仿真调试时使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ool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ool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第三方软件的控制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VC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VC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软件版本的控制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ndo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ndo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对窗口的排列管理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Help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Help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帮助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3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具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同其他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应用程序一样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除了在菜单栏提供了完整而丰富的操作命令外，也提供了相当完善的工具栏，便于快速进行操作。下面分别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文件操作工具栏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编译工具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编译工具栏提供了编译项目和文件的各种操作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调试工具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试工具栏提供了项目仿真和调试过程中经常使用的命令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038840" cy="6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95280" y="2616120"/>
            <a:ext cx="7086600" cy="60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514600" y="5257800"/>
            <a:ext cx="44766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4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管理配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集成开发环境提供了良好的项目管理配置，用户可以根据自己的习惯和需要进行适当的配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选择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→“Configurati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命令，此时弹出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nfigurati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对话框，如图所示。其中有多个选项卡，下面分别对其进行介绍。并且每个选项卡中有很多设置选项，这里不能逐个都介绍，这里选择最常用的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14600" y="3200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5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各种常用窗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集成开发环境中提供了很多不同用途的窗口，利用这些窗口可以完成源代码的编辑、反汇编的查看、各种编译和调试的输出结果、堆栈中的数据查看、程序变量的内容查看以及仿真波形图等。下面介绍一些在程序设计及仿真调试中常用的窗口及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源代码编辑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反汇编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观察和堆栈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存储器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寄存器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串行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逻辑分析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符号观察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11:19Z</dcterms:created>
  <dc:creator>cheng</dc:creator>
  <dc:description/>
  <dc:language>en-US</dc:language>
  <cp:lastModifiedBy>cheng</cp:lastModifiedBy>
  <dcterms:modified xsi:type="dcterms:W3CDTF">2008-10-13T05:37:21Z</dcterms:modified>
  <cp:revision>2</cp:revision>
  <dc:subject/>
  <dc:title>第3章  Keil C51开发工具简介</dc:title>
</cp:coreProperties>
</file>