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297-BE84-49E0-ADB5-7883C213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B0A-2391-408F-8FF0-049DF3FE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50F-C50A-4D7C-BF67-F8A7F9A2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53F-00BE-4D0B-886E-740D06AE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8C9-68E9-4528-A4D5-EA0254EA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900-3DD4-48A6-9B20-B101F61E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551-653E-4BEC-9ACB-E453AD8F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CF9-0282-4676-B14E-DD380E8E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104-7085-4E8A-B18B-99813B5C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922-4200-47C7-8F03-40304A4E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908-11FA-4F81-AA06-6851A586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63E-0824-47AA-B70C-EBC0321A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27C8-AD44-4A01-A42E-5E1234153891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串行总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应用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步串行总线接口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提出的串行同步双工通讯接口。由于其采用三根信号线，所以常称为三线制同步串行总线接口。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步串行总线接口最早应用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P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微控制器上，后来被广泛应用到其他微控制器、存储器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等领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占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少，使用简单方便，可以提高系统的可靠性。本章主要介绍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，以及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使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3.3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读写子函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操作需要严格遵守总线协议。这里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用到的操作指令封装为子函数，方便调用。这些子函数不仅适用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同样适用于其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接口的器件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通过调用前面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读写子函数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操作。其中，在程序中指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。主函数中首先初始化串行口为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波特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00bit/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接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来扫描串口输入，根据输入数据来调用函数执行不同的功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了程序设计的方便，这里规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格式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001××A8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其中，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起始位，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指令的操作码，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8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码。这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可以表示为如下所示的几种形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5  Microwar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总线仿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提供了很好的信号仿真功能，下面就利用其进行程序的仿真分析。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828800" y="2840040"/>
            <a:ext cx="60674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4 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解了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，并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操作指令及其操作时序。本章最后通过一个具体的实例，介绍了如何使用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在软件上仿真模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。其中给出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读写的子函数以及一个完整的实例。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减少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的使用，在实际电路设计中具有广泛的应用，读者应该熟练掌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总线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步串行总线接口是一种串行同步双工通讯接口，由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最早提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信号线进行通讯，分别介绍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时钟信号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数据输入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数据输出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62320" y="4267080"/>
            <a:ext cx="4572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2  Microwar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总线接口的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EEPROM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优势，目前多家公司推出了各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产品。其中，使用最多的便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34.2.1  Microware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串行总线接口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一种可用电气方法在线擦除和写入的存储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既有普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可读可写的特性，又具有非易失性存储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掉电后仍然能保持所存储数据的优点。许多大的半导体公司都生产可支持三线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例如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M93C06/46/56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品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3C06/46/56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3LC46/56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3AA06/46/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/56/57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产品。这些三线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如下特点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般采用单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+5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源供电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较低的功耗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三态输出，并可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平兼容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擦除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写入时间不超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擦除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写入周期寿命一般都可达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万次以上，有的产品已可达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万次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片内写入的数据保存寿命可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以上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2.2  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/56/57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包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指令，这些指令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兼容。其中，对于不同的型号，其具体的指令所代表的含义略有区别。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比特的存储空间，可以按照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28×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×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使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支持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指令及其说明，如表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6964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2.3  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时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46/56/57/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支持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指令。下面分别介绍各个指令执行的时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A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WE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RA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R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WD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4.3  5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系列单片机读写三线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实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基本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没有集成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。当其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连接时，只能够采用软件模拟的方式来实现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的操作。这里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例，介绍如何在软件上实现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的数据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系统电路图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09680" y="2819520"/>
            <a:ext cx="47008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496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10:04Z</dcterms:created>
  <dc:creator>cheng</dc:creator>
  <dc:description/>
  <dc:language>en-US</dc:language>
  <cp:lastModifiedBy>cheng</cp:lastModifiedBy>
  <dcterms:modified xsi:type="dcterms:W3CDTF">2008-10-13T09:12:36Z</dcterms:modified>
  <cp:revision>2</cp:revision>
  <dc:subject/>
  <dc:title>第34章  Microware串行总线EEPROM的应用</dc:title>
</cp:coreProperties>
</file>