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F1471-341A-4923-9575-DE80D698D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279080" y="4022280"/>
            <a:ext cx="710892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A25A1-35DB-4BCF-9ACA-C3D52A58D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279080" y="402228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21920" y="402228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348A0-8D73-4872-A7B8-9379EB5D1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82800" y="159984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86520" y="159984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279080" y="402228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82800" y="402228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86520" y="402228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6A924-4E2A-4C5E-945E-B8AF26628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231DD-9642-4B98-93F5-A5847FCBE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A90E3-E25F-49BA-9C73-A4E82C9BE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67722-10E0-4F44-AA0A-C494C44D3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1376E-EC67-4C0C-ADC6-AE3049018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279080" y="68544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A7242-E42A-4549-9C49-FDB7F1349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279080" y="402228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DB2B7-EB5D-408C-A847-322BC3123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21920" y="402228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E40EE-5DF3-4069-AA20-F373602AB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279080" y="4022280"/>
            <a:ext cx="710892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BC937-6E95-4D2B-9E65-A9E67357E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03640" y="2924280"/>
            <a:ext cx="3600720" cy="338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宋体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68620-817A-4228-9DE8-87343B619A9F}" type="slidenum">
              <a:rPr b="0" lang="zh-CN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第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5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章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C51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的存储结构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是面向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系列单片机的硬件控制系统开发语言，其和单片机的硬件资源有着密切的联系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程序经过编译后，是要在单片机上运行的。因此，程序代码以及数据都是需要按照一定的存储类型保存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80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单片机的特定存储区中的。存储结构的组织形式是单片机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语言很重要的组成部分。本章将介绍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存储结构、存储类型和动态内存分配函数等相关内容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5.2.5  xdata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存储类型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将变量设置为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xdata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存储类型的一般形式如下：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标识符 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xdata 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变量名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其中，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xdata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为关键字，标识符为变量的类型。对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xdata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区寻址，须装入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16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位地址，因此尽量将外部数据存放在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xdata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区。例如：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#include &lt;stdio.h&gt;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//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头文件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#include &lt;reg51.h&gt;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//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头文件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unsigned char pdata RX1; 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//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声明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xdata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变量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unsigned char pdata RX2; 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//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声明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xdata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变量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void main()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//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主函数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while(1)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RX1=P1;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//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赋值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RX2=P3;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//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赋值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5.2.6  code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存储类型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将变量设置为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od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存储类型的一般形式如下：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标识符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ode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变量名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其中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od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为关键字，标识符为变量的类型。例如：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har code text[]=”Hello everyone!”;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//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od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区定义字符串数组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使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od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存储类型定义数据时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编译器会将其定义在程序代码储存器（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OM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或者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EPPROM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在使用上面几种存储类型时，因为访问内部数据存储器比访问外部数据存储器快，所以应将频繁使用的变量放在内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AM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中，将很少使用的变量放在外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AM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中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5.3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扩展数据类型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扩展数据类型是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805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硬件和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5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编译器所特有的，不属于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ANSIC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标准。这些类型的数据可以操作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805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的特殊功能寄存器，而不能用指针对其进行存取。扩展数据类型可由以下几种关键字说明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sfr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：用于字节寻址，定义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位特殊功能寄存器。例如：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sfr P0=0x80;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//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为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P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口地址为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80H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后的一个字节；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sfr P1=0x90;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//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为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P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口地址为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90H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后的一个字节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sfr16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：用于字寻址，定义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16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位特殊功能寄存器，且该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16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位必须低位在低字节，高位在紧跟德高字节才行。例如：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sfr16 T2=0xCC;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5.3.1  sfr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sfr16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sfr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sfr16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可以用于定义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805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的特殊功能寄存器，其一般形式如下：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sfr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特殊功能寄存器名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=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特殊功能寄存器地址常数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sfr16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特殊功能寄存器名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=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特殊功能寄存器地址常数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其中，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sfr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sfr16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为关键字。特殊功能寄存器的定义示例如下：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sfr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P2=0xA0;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//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定义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P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的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I/O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端口，其地址为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A0H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sfr16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T2=0xCC;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//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定义定时器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，其地址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T2L=CCH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T2H=CDH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5.3.2  sbit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sbit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用于定义可位寻址对象，例如特殊功能寄存器某位。在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C5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语言中，有如下几种定义方法：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sbit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位变量名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=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位地址。该语句用于将位地址赋值给位变量名，例如：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sbit P1_1=0x91;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//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将位的绝对地址赋给位变量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这里需要注意的是，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sbit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的位地址必须位于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80H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FFH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之内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sbit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位变量名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=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特殊功能寄存器名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^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位位置。该语句使用符号“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^”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来获得位数据，并赋值给位变量。例如：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sfr P1=0x90;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//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定义一个特殊功能寄存器名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sbit P1_1=P1^1;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//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指定位变量名所在的位置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sbit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位变量名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=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字节地址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^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位位置。该语句和第二种方法是一样的，只是将特殊功能寄存器名用位地址常数直接表示。例如：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sbit P1_1=0x90^1;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5.3.3  bit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型变量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bit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型变量可用于变量类型、函数声明、函数返回值等场合，其定义的一般形式为：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bit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变量名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采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bit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定义的位变量存放于内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AM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20H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2FH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。位变量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语言里是外部变量，但编译系统不对其初始化，必须在程序中初始化位变量。例如：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extern bit bch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5.4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存储模式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存储模式是编译环境中指定的变量的存储区形式。一般来说，如果在定义变量时默认存储类型，编译系统将按照存储模式所规定的默认存储区来指定变量、函数参数等的存储区域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Keil μVision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编译系统支持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80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系列单片机存储模式共三种：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5.4.1  Small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模式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Small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模式用于将所有未指明存储区的变量均装保存在内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AM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即采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at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存储类型方式。采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Small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模式的优点是访问速度快，缺点是空间有限，需要节约使用存储空间，只适用于规模较小的程序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5.4.2  Compact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模式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ompact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模式用于将所有未指明存储区的变量均装保存在外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AM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区的一页（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256Bytes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内，即采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pdat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存储类型方式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采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ompact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模式的优点是存储空间较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Small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模式宽裕，缺点是访问速度要慢些，但较下面介绍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Larg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模式要快，是一种中间状态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ompact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模式适用于变量不超过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256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字节，可以通过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P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口指定地址的高字节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5.4.3  Large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模式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Larg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模式用于将所有未指明存储区的变量放在多达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64KB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外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AM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区中，即采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xdat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存储类型方式。采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Larg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模式的优点是空间大，可存变量多，缺点是速度较慢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Larg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模式使用数据指针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PTR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来对变量进行寻址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5.1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存储器结构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存储器结构是存储器的组织形式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系列单片机采用哈佛结构，将程序代码存储器（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OM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和数据存储器（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AM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分开，各自遵循各自的寻址机构和寻址方式。这里概括一下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系列单片机存储器的硬件构成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5.4.4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存储模式的选择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存储模式一般是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编译器选项中进行选择，也可以在程序中指定。在程序中指定存储模式的形式如下：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void fun1(void) small{ }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该语句声明函数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fun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small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说明函数内部变量全部保存在内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AM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。对于一些经常使用的和特别耗时的地方可以这样声明，有利于提高运行速度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5.5  C51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的存储器指针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语言中支持一般指针和存储器指针。对变量进行声明时可以指定变量的存储类型。同样，在对于指针变量声明的时候，也可以指定存储类型。下面分别进行介绍。 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5.5.1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一般指针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一般指针的声明在前面已经介绍过，不过同时还可以说明指针的存储类型。例如：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long * state;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//stat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为指向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long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型整数的指针，则依存储模式存放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har *xdata ptr;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//ptr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为一个指向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har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数据的指针，放于外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AM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区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一般指针可存放于任何存储器中，其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个字节存放，分别为存储器类型、高位偏移、低位偏移量。使用一般指针时，可以访问数据而不用考虑其在存储器的位置，因此十分方便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5.5.2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存储器指针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存储器指针在声明时指定了存储类型，其总是指向特定的存储区。例如：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har data *str;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//str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指向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at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区中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har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型数据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nt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xdata *pow;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//pow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指向外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AM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nt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型整数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由于存储器的类型已经指定了，因此这种指针存放时，只需存放偏移量即可。对于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dat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at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bdat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pdat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存储类型只需一个字节，对于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od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xdat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存储类型需要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个字节就够了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15.5.3 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指针存储类型与指针所指向的数据的存储类型的关系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指针存储类型与指针所指向的数据的存储类型是不同的概念，在使用时一定要注意。例如：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uchar xdata tmp[10];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//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在外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RAM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区占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个字节的内存空间（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0x000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0x0009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uchar data * data pstr;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pstr=tmp;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其中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tmp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保存在外部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RAM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，访问外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RAM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需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字节来寻址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64k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空间，而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pstr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使用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data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关键字，所以编译器将其编译成指向内部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RAM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的指针变量了。最后的赋值语句便是错误的。上面的语句可以改为：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uchar xdata tmp[10];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uchar xdata * data pstr;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pstr = tmp;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5.6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动态内存分配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动态内存分配用于对一些动态结构进行存储空间的分配。其中这些动态结构可以是树和链表等。对于大多数情况，应尽可能在编译的时候确定所需要的内存空间，并进行分配，例如数组的大小需要明确指定。而对于一些程序，采用动态内存分配可以实现数据的灵活处理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5.6.1  C51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的动态分配函数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在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5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语言中提供了多个动态内存分配函数。这些函数要求用户声明一个字节数组作为堆，根据所需要的动态内存大小来决定数组的长度，被声明的数组存放在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xdata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区中，库函数可以使用特定指针来进行寻址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5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提供的动态分配函数示例如下所述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init_mem()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：此函数的功能是初始化动态内存区的程序源代码。可以指定动态内存的位置及大小，只有使用了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init_mem( )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才可以调回其他函数，如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malloc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alloc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realloc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等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alloc()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：此函数是给数组分配内存，可以指定单位数据类型及该单元数目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malloc()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：此函数的功能是分配一段固定大小的内存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realloc()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：此函数的功能是调整当前分配动态内存的大小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free()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：此函数的功能是重新分配空间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5.6.2  malloc()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calloc()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函数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malloc()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alloc()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函数都是用来动态分配内存空间的。但两者在使用时稍有区别，主要体现在函数形式以及内存空间的分配上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malloc()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函数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alloc()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函数具有不同的使用形式，下面分别进行讲解：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malloc()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函数的形式示例如下： 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void *malloc(size_t size);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其中包含一个参数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unsigned int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即要分配的内存空间的大小，该函数返回一个指针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alloc()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函数的形式示例如下： 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void *calloc(size_t numElements,size_t sizeOfElement);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5.7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小结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本章详细讲述了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语言的存储器结构、存储类型、存储模式以及存储器指针等，后面还介绍了动态内存分配。数据的存储模式是单片机系统特有的概念，这里的内容涉及单片机的硬件资源比较多，用户应该对照着单片机的介绍来进行学习，这样可以加深理解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5.1.1  51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系列单片机的存储区域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系列及其兼容单片机在物理上划分为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个存储区：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片内数据存储区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片外数据存储区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片内程序存储区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片外程序存储区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早期的单片机片内存储器比较小，最近新推出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内核单片机在存储器方面有了很大的扩展。每个存储区的大小和用法，可以参阅不同型号单片机的说明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5.1.2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片内数据存储器（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RAM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）的结构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程序中的变量一般保存在片内数据存储器，这样取址速度快。当然变量也可以保存在片外数据存储区，这将在后面进行介绍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系列单片机内部数据存储器（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AM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可划分为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大区域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00H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7FH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：片内低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28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字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AM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区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80H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0FFH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：特殊功能寄存器区（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SFR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对于地址为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00H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07FH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低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28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字节片内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AM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区，又可划分为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个区域：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．通用寄存器区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．可位寻址区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．用户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AM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区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5.2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存储类型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存储类型是指程序中变量和常量等在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805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硬件系统中的存放方式。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Keil μVision3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编译器完全支持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805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系列单片机的硬件结构，可完全访问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805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单片机硬件系统的所有部分，并将数据定位在不同的硬件存储区中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单片机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C5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语言中支持的存储类型有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data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bdata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idata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pdata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xdata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code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几种。在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805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系列单片机的硬件系统中，存储类型与存储区关系，如表所示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1219320" y="3886200"/>
            <a:ext cx="7372080" cy="22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5.2.1  data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存储类型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将变量设置为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at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存储类型的一般形式如下：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标识符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ata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变量名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其中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at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为关键字，标识符为变量的类型。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单片机系统中，对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at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区寻址是最快的。所以一般来说，应将频繁使用的变量设置为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at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型。例如：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nt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ata ch[5];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har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ata string[6];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float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ata flo;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MyType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ata newtype;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//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自定义的数据类型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5.2.2  bdata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存储类型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将变量设置为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bdata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存储类型的一般形式如下：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标识符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bdata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变量名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其中，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bdata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为关键字，标识符为变量的类型。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bdata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区是可位寻址数据存储器，可以将要求可位寻址的数据定义为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bdata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。例如：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unsigned char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bdata ie;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//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在位寻址区定义字符变量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ie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int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bdata mn[10];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//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在位寻址区定义整型数组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mn[10]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sbit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ie5=ie^5;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//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用关键字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sbit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定义位变量来可寻址对象其中一位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sbit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mn8=mn[1]^8;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5.2.3  idata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存储类型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将变量设置为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dat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存储类型的一般形式如下：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标识符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data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变量名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其中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dat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为关键字，标识符为变量的类型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dat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类型为间接寻址片内数据存储区，可访问片内全部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256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字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AM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地址空间。例如：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extern float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data tt;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//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在位寻址区定义浮点型变量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tt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注意：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dat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区可以定义浮点型变量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5.2.4  pdata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存储类型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将变量设置为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pdat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存储类型的一般形式如下：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标识符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pdata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变量名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其中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pdat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为关键字，标识符为变量的类型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pdat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类型存储在分页寻址外部数据存储区，例如：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unsigned char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pdata pun;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//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在位寻址区定义字符变量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pun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3T02:28:24Z</dcterms:created>
  <dc:creator>cheng</dc:creator>
  <dc:description/>
  <dc:language>en-US</dc:language>
  <cp:lastModifiedBy>cheng</cp:lastModifiedBy>
  <dcterms:modified xsi:type="dcterms:W3CDTF">2008-10-13T06:44:38Z</dcterms:modified>
  <cp:revision>3</cp:revision>
  <dc:subject/>
  <dc:title>第15章  C51的存储结构</dc:title>
</cp:coreProperties>
</file>