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0EE4-55B0-499B-8499-7D954470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107-393F-46ED-9627-B9597A82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CEF4-75CC-41FA-B921-3CC50C07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C4A-65CF-4575-B75F-19F150AC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A4DB-291E-4A35-9C45-9C90034A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75B-E908-4599-AFC8-70DFA2C4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B94-C97B-4F6E-83DD-F733315A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CB8-FEFB-4E23-BFBF-9BA6A9FF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EDDB-459D-4D9F-88A8-A0A9E1A2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970-3DEB-4989-906E-A210595F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3B8-F026-4BE6-9D24-AB7F766E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E347-0831-4241-AEC4-98EF76E5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4C39-B99D-4D1D-A5BD-101B411EDF4B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数码管显示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人机交互式单片机系统来说，不仅需要响应用户输入，同时也需要将一些测控信息输出显示。这些显示信息可以提供实时的数据或图形结果，以便于掌握系统的状态并进行分析处理。目前，在单片机中最常用的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。其成本低廉、使用简便，可以显示数字或几个特定的字符。本章将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种类与结构，以及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如何实现显示，包括静态显示和动态显示。本章还通过实例介绍了单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使用方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动态驱动显示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动态显示是指每隔一段时间循环点亮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，每次只有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被点亮。根据人眼的视觉暂留效应，当循环点亮的速度很快的时候，可以认为各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稳定显示的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动态显示的硬件连接比较简单。这里使用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，将所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段引脚并联在一起，连接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据总线上。而各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共阳极引脚或共阴极引脚分别由另一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线控制， 从图中可以看出，使用两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便可以动态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。其中一个并口作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控制引脚，另一个并口作为公共的数据总线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中采用扫描显示的方式，即在同一时刻，只使用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数据。通过为共阴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共阳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公共引脚赋低电平（或高电平），从而选择某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。如此循环，使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应显示的数据，并进行适当的延时，形成视觉暂留效果。这样便可以达到动态显示的目的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.3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前面介绍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动态驱动显示在程序设计上比较复杂，实际上可以将相应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扫描动态显示电路交由特定功能的芯片来完成。目前，市场上有多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显示驱动芯片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生产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X721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驱动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23880" y="3048120"/>
            <a:ext cx="2232000" cy="3028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038480" y="4260960"/>
            <a:ext cx="457200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个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各种驱动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方法，其中以外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驱动器最为方便，占用单片机资源少，而且程序控制简单。这里便以实例讲解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X721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驱动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4.1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器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完整的电路图，如图所示。这里的单片机选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的新型单片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89S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也可以采用其他兼容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，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89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438280" y="2743200"/>
            <a:ext cx="441972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例的程序功能是演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X721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各个寄存器操作，以及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数字及字符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362320" y="2743200"/>
            <a:ext cx="45622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器件，包括共阳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和共阴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，然后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静态显示技术及其应用实例。本章还重点讲解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动态显示技术，包括静态驱动、动态驱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驱动器驱动。最后通过一个具体的实例讲解了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驱动器控制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显示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是单片机系统中常用的显示接口，读者应该熟练掌握其使用方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1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数码管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即发光二极管，英文全称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ight Emitting Diod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单独的发光二极管便是一个最简单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通过控制其的亮灭来作为信号指示，一般用于电源指示灯、工作状态指示等。单个的发光二极管使用比较简单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是由若干个发光二极管组成的显示字段的显示器件，一般简称为数码管。当数码管中的某个发光二极管导通的时候，相应的一个字段便发光，不导通的则不发光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可以根据控制不同组合的二极管导通，来显示各种数据和字符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应用系统中使用最多的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其可以显示十进制数字以及一些英文字符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模块可以分为共阴极和共阳极两种，下面分别进行介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1.1  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段共阳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及显示段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段共阳极</a:t>
            </a:r>
            <a:r>
              <a:rPr b="0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是由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条形发光二极管和一个小数点位构成，其引脚配置，如图所示，其内部结构，如图所示。从图中可以看出，其中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发光二极管构成字形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可以用来显示数字，另一个发光二极管构成小数点。因此，这种数码管有时也被称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显示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3276720"/>
            <a:ext cx="52578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1.2  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段共阴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及显示段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共阴极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和共阳极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结构类似，其引脚配置，如图所示。从图中可以看出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同样由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个发光二极管组成，其中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个发光二极管构成字形“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8”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另一个发光二极管构成小数点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共阴极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的内部结构，如图所示。其中所有发光二极管的阴极为公共端，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N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。如果发光二极管的阳极极为高电平的时候，发光二极管导通，该字段发光；反之，如果发光二极管的阳极为低电平的时候，发光二极管截止，该字段不发光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605808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个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结构及其显示方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主要用于显示数字和一些特定的字符。这里通过一个具体的实例介绍一下，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进行数字和字母的显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例主要用来使用共阳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显示数字或字符，读者可以从中掌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基本操作方法。这里给出完整的电路原理图，如图所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14600" y="2590920"/>
            <a:ext cx="42958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静态显示的方式，根据按键的不同，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有不同的显示输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创建项目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程序代码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00200" y="3429000"/>
            <a:ext cx="3657600" cy="267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477120" y="2971800"/>
            <a:ext cx="1438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个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方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实际的单片机应用系统中，使用单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情况比较少，经常需要同时使用多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来显示大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数据或字符串。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并列使用的情况为例。这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数码管可以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-999~999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之间的任何数字，也可以同时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符构成的字符串。可见使用多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可以大大扩展显示的信息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使用单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场合，直接用单片机的一个并行口便可以控制显示。如果仍然采用这种方法来控制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显然是不太可能的，因为典型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只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并口，而且有些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还需要用作其他用途。而对于一些多引脚的型号，通常也不够为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配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并口用于显示。此时便需要根据系统资源占用情况，来选用合理的显示控制方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驱动显示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静态显示方式是指，当数码管显示某个字符的时候，相应字段的发光二极管恒定地导通或者截止，即亮灭是完全不变的。在这种情况下，多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同时显示的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这里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共阴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为例，如图所示。其公共端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GN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每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的字段引脚分别接单片机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端口，这样便可以为每个数码管单独赋值操作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8765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48:40Z</dcterms:created>
  <dc:creator>cheng</dc:creator>
  <dc:description/>
  <dc:language>en-US</dc:language>
  <cp:lastModifiedBy>cheng</cp:lastModifiedBy>
  <dcterms:modified xsi:type="dcterms:W3CDTF">2008-10-13T08:08:47Z</dcterms:modified>
  <cp:revision>2</cp:revision>
  <dc:subject/>
  <dc:title>第24章  LED数码管显示</dc:title>
</cp:coreProperties>
</file>