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4B6F-6356-4EBA-BB04-2D9060FDC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F38E-73B8-4074-9A64-3FEA56AF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6785-3C89-4C54-BBEB-8C3A6236B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0853-7AB6-42C8-B6C8-D4E0C7ED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5296-F825-40D7-8C72-24D6369D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1DAA-B9F2-4216-B63C-A01438EE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A0F3-1B32-4163-82AB-7E2FEC13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8135-0369-4918-ACF5-20BAED52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E95B-25E3-4518-BFD0-83EC62D7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0BA4-DD45-457D-9706-F31C2516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160D-48E7-4883-AAFC-AB63B9A0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2680-B4DC-4F9C-B479-406121A9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A23A-E1EC-4E78-ADDB-598E8C3BE101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存储结构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面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硬件控制系统开发语言，其和单片机的硬件资源有着密切的联系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程序经过编译后，是要在单片机上运行的。因此，程序代码以及数据都是需要按照一定的存储类型保存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的特定存储区中的。存储结构的组织形式是单片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很重要的组成部分。本章将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存储结构、存储类型和动态内存分配函数等相关内容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2.5  xdat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将变量设置为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存储类型的一般形式如下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标识符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xdata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变量名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为关键字，标识符为变量的类型。对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区寻址，须装入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位地址，因此尽量将外部数据存放在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区。例如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#include &lt;stdio.h&gt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头文件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#include &lt;reg51.h&gt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头文件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unsigned char pdata RX1;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声明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变量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unsigned char pdata RX2;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声明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变量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void main()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主函数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while(1)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RX1=P1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赋值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RX2=P3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赋值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2.6  code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将变量设置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d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的一般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识符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d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变量名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d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关键字，标识符为变量的类型。例如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 code text[]=”Hello everyone!”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d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定义字符串数组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d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定义数据时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编译器会将其定义在程序代码储存器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P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使用上面几种存储类型时，因为访问内部数据存储器比访问外部数据存储器快，所以应将频繁使用的变量放在内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，将很少使用的变量放在外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扩展数据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扩展数据类型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硬件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编译器所特有的，不属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NS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标准。这些类型的数据可以操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特殊功能寄存器，而不能用指针对其进行存取。扩展数据类型可由以下几种关键字说明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用于字节寻址，定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特殊功能寄存器。例如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 P0=0x80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口地址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0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后的一个字节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 P1=0x90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口地址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90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后的一个字节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用于字寻址，定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特殊功能寄存器，且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必须低位在低字节，高位在紧跟德高字节才行。例如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16 T2=0xCC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3.1  sfr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sfr16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可以用于定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特殊功能寄存器，其一般形式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特殊功能寄存器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特殊功能寄存器地址常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16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特殊功能寄存器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特殊功能寄存器地址常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为关键字。特殊功能寄存器的定义示例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2=0xA0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定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端口，其地址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0H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16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2=0xCC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定义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其地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2L=CC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2H=CDH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3.2  sbi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b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用于定义可位寻址对象，例如特殊功能寄存器某位。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语言中，有如下几种定义方法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bit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变量名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地址。该语句用于将位地址赋值给位变量名，例如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bit P1_1=0x91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将位的绝对地址赋给位变量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这里需要注意的是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b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位地址必须位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H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FFH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之内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bit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变量名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特殊功能寄存器名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^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位置。该语句使用符号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^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来获得位数据，并赋值给位变量。例如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fr P1=0x90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定义一个特殊功能寄存器名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bit P1_1=P1^1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指定位变量名所在的位置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bit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变量名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字节地址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^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位置。该语句和第二种方法是一样的，只是将特殊功能寄存器名用位地址常数直接表示。例如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bit P1_1=0x90^1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3.3  bit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型变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i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变量可用于变量类型、函数声明、函数返回值等场合，其定义的一般形式为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it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变量名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i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义的位变量存放于内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0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F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。位变量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里是外部变量，但编译系统不对其初始化，必须在程序中初始化位变量。例如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xtern bit bc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模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模式是编译环境中指定的变量的存储区形式。一般来说，如果在定义变量时默认存储类型，编译系统将按照存储模式所规定的默认存储区来指定变量、函数参数等的存储区域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i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编译系统支持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存储模式共三种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4.1  Small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模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ma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用于将所有未指明存储区的变量均装保存在内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即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方式。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ma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的优点是访问速度快，缺点是空间有限，需要节约使用存储空间，只适用于规模较小的程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4.2  Compact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模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mpac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用于将所有未指明存储区的变量均装保存在外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的一页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56Byte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内，即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方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mpac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的优点是存储空间较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ma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宽裕，缺点是访问速度要慢些，但较下面介绍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rg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要快，是一种中间状态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mpac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适用于变量不超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5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节，可以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口指定地址的高字节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4.3  Large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模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rg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用于将所有未指明存储区的变量放在多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4K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外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中，即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方式。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rg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的优点是空间大，可存变量多，缺点是速度较慢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rg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使用数据指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PT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来对变量进行寻址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器结构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结构是存储器的组织形式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采用哈佛结构，将程序代码存储器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和数据存储器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分开，各自遵循各自的寻址机构和寻址方式。这里概括一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存储器的硬件构成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4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模式的选择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模式一般是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编译器选项中进行选择，也可以在程序中指定。在程序中指定存储模式的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oid fun1(void) small{ }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该语句声明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un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ma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说明函数内部变量全部保存在内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对于一些经常使用的和特别耗时的地方可以这样声明，有利于提高运行速度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5  C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存储器指针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支持一般指针和存储器指针。对变量进行声明时可以指定变量的存储类型。同样，在对于指针变量声明的时候，也可以指定存储类型。下面分别进行介绍。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5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一般指针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一般指针的声明在前面已经介绍过，不过同时还可以说明指针的存储类型。例如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ong * state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/stat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指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ong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整数的指针，则依存储模式存放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 *xdata ptr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/pt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一个指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据的指针，放于外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一般指针可存放于任何存储器中，其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字节存放，分别为存储器类型、高位偏移、低位偏移量。使用一般指针时，可以访问数据而不用考虑其在存储器的位置，因此十分方便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5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器指针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指针在声明时指定了存储类型，其总是指向特定的存储区。例如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 data *str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/st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数据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data *pow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/pow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向外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整数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由于存储器的类型已经指定了，因此这种指针存放时，只需存放偏移量即可。对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只需一个字节，对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d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需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字节就够了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5.5.3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指针存储类型与指针所指向的数据的存储类型的关系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指针存储类型与指针所指向的数据的存储类型是不同的概念，在使用时一定要注意。例如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char xdata tmp[10]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区占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字节的内存空间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x00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x000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char data * data pstr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str=tmp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其中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mp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保存在外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访问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需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字节来寻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4k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空间，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st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使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关键字，所以编译器将其编译成指向内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指针变量了。最后的赋值语句便是错误的。上面的语句可以改为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char xdata tmp[10]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char xdata * data pstr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str = tmp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6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动态内存分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动态内存分配用于对一些动态结构进行存储空间的分配。其中这些动态结构可以是树和链表等。对于大多数情况，应尽可能在编译的时候确定所需要的内存空间，并进行分配，例如数组的大小需要明确指定。而对于一些程序，采用动态内存分配可以实现数据的灵活处理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6.1  C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动态分配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言中提供了多个动态内存分配函数。这些函数要求用户声明一个字节数组作为堆，根据所需要的动态内存大小来决定数组的长度，被声明的数组存放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区中，库函数可以使用特定指针来进行寻址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提供的动态分配函数示例如下所述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it_mem(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此函数的功能是初始化动态内存区的程序源代码。可以指定动态内存的位置及大小，只有使用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it_mem( 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才可以调回其他函数，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allo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allo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eallo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alloc(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此函数是给数组分配内存，可以指定单位数据类型及该单元数目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alloc(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此函数的功能是分配一段固定大小的内存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ealloc(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此函数的功能是调整当前分配动态内存的大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ree(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此函数的功能是重新分配空间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6.2  malloc()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calloc()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lloc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alloc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都是用来动态分配内存空间的。但两者在使用时稍有区别，主要体现在函数形式以及内存空间的分配上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lloc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alloc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具有不同的使用形式，下面分别进行讲解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lloc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的形式示例如下：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oid *malloc(size_t size)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包含一个参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nsigned in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即要分配的内存空间的大小，该函数返回一个指针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alloc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的形式示例如下：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oid *calloc(size_t numElements,size_t sizeOfElement)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7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讲述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的存储器结构、存储类型、存储模式以及存储器指针等，后面还介绍了动态内存分配。数据的存储模式是单片机系统特有的概念，这里的内容涉及单片机的硬件资源比较多，用户应该对照着单片机的介绍来进行学习，这样可以加深理解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1.1  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的存储区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及其兼容单片机在物理上划分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存储区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片内数据存储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片外数据存储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片内程序存储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片外程序存储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早期的单片机片内存储器比较小，最近新推出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核单片机在存储器方面有了很大的扩展。每个存储区的大小和用法，可以参阅不同型号单片机的说明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1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片内数据存储器（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）的结构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中的变量一般保存在片内数据存储器，这样取址速度快。当然变量也可以保存在片外数据存储区，这将在后面进行介绍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内部数据存储器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可划分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大区域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0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7F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：片内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2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FF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：特殊功能寄存器区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F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地址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0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7F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2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节片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，又可划分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区域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通用寄存器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可位寻址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用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存储类型是指程序中变量和常量等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硬件系统中的存放方式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Keil μVision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编译器完全支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列单片机的硬件结构，可完全访问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单片机硬件系统的所有部分，并将数据定位在不同的硬件存储区中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单片机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语言中支持的存储类型有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bdat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dat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dat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od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几种。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列单片机的硬件系统中，存储类型与存储区关系，如表所示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19320" y="3886200"/>
            <a:ext cx="737208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2.1  dat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将变量设置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的一般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识符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变量名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关键字，标识符为变量的类型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系统中，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寻址是最快的。所以一般来说，应将频繁使用的变量设置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。例如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 ch[5]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 string[6]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loat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 flo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yTyp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 newtype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自定义的数据类型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2.2  bdat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将变量设置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dat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类型的一般形式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标识符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data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变量名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dat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为关键字，标识符为变量的类型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dat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区是可位寻址数据存储器，可以将要求可位寻址的数据定义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dat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例如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nsigned cha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data ie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位寻址区定义字符变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e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t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data mn[10]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位寻址区定义整型数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n[10]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bit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e5=ie^5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用关键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bi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定义位变量来可寻址对象其中一位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bit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n8=mn[1]^8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2.3  idat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将变量设置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的一般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识符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ata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变量名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关键字，标识符为变量的类型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类型为间接寻址片内数据存储区，可访问片内全部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5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地址空间。例如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xtern floa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ata t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位寻址区定义浮点型变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注意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可以定义浮点型变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2.4  pdat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将变量设置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的一般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识符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data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变量名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关键字，标识符为变量的类型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类型存储在分页寻址外部数据存储区，例如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nsigned cha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data pun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位寻址区定义字符变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un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28:24Z</dcterms:created>
  <dc:creator>cheng</dc:creator>
  <dc:description/>
  <dc:language>en-US</dc:language>
  <cp:lastModifiedBy>cheng</cp:lastModifiedBy>
  <dcterms:modified xsi:type="dcterms:W3CDTF">2008-10-13T06:44:38Z</dcterms:modified>
  <cp:revision>3</cp:revision>
  <dc:subject/>
  <dc:title>第15章  C51的存储结构</dc:title>
</cp:coreProperties>
</file>