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DAE-7CA0-46DF-BF9B-F252FEE0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CE7-6995-4B0B-9071-A5C91346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A25-765E-400F-A5D1-11F872C8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B2D-0A5F-4EAF-B3FB-EC8C9AF3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675-0B45-4477-A2C2-58BC037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DC0-96F9-4B6D-9026-52E0C544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494-A142-421F-8914-FE5E85F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482-BE48-4019-9584-041C9B9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EFD-91F8-4FC0-A61C-A8438D1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30A-6632-43DE-9166-7A7474C6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CB2-4250-4771-BF9F-60BD54D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3E7-65F5-45FA-87DD-EEA0521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7B25-1250-4AEE-A15E-D03C3AAD56B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下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实时多任务操作系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适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一种微处理器实时多任务操作系统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在一般性的小型单片机程序中，采用单一进程并配以中断处理则可以完成大部分的设计需求。但是，对于一些复杂的设计项目，需要同时执行多个任务或者进程。此时，传统的设计方式使得程序比较复杂，而且性能难以满足要求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个强大的任务管理工具，其可以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管理多个任务或者进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得复杂的多任务程序设计变得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将主要介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，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种类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任务管理及配置、系统函数等。本章最后通过一个简单的实例来讲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5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其他特性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时多任务操作系统，完全不同于一般的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有自己独特的概念和特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中断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可以使用中断，其中断函数以并行方式工作。中断函数可以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核通信，并可以将信号或者消息发送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指定任务中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，中断一般配置为一个任务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信息传递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任务之间的信息交换，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recv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实现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信息是一个可以被存储器看作是数字或者指针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数值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可以支持使用存储器库系统的变量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集成了一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模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轻松地实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的通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为一个任务来使用，可以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来实现信息的传递，其他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端可以配置为一般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，也可以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实时操作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集成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控制器和从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任务主要用于支持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l 804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间的信息传递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事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系统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简化版本，其可以完成绝大多数的实时多任务操作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。这些函数主要用于任务管理、任务通信以及其他服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可以直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中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可以被任务专用，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则表示可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函数专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时，需要在程序中加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51TNY.h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头文件。在该头文件中，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函数的说明以及所有常数声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isr_send_signal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2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清除指定任务的信号标志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clear_signal 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所需要清除信号标志的任务号。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标志清除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指定任务的信号标志，主要用于选择所定义的输出状态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clearsignal 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 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信号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crea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启动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crea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启动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启动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无法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删除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dele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删除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删除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没有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5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获得当前运行任务的任务号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running_task_id (vo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返回值表示当前任务的任务号。使用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task_ osrunningtaskid (void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 rid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d= os_running_task_id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intf(“rid=%d\n”,r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send_signal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所指定的任务发送信号时，如果该任务正在等待信号，则信号到达后，任务再次执行。如果任务正在执行其他操作，则信号将被存储在所访问的任务信号标志中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sendsignal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(unsigned char event_sel, unsigned char ticks, unsigned int dummy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超时，即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暂停当前任务，等待信号的到来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wait1(unsigned char event_sel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等待发生的事件，其不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，只能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G_EV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被成功接受；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OT_O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该函数中所设置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数无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多任务操作系统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复杂的微处理应用项目中，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执行多个任务或者进程。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以灵活地为各个任务分配系统资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内存以及时间等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可以运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编写程序，可以运行于所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身提供了灵活的时间分配，以及任务的响应和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2(unsigned char event_sel, unsigned char ticks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管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子集，其任务管理继承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性，又有自身的特点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状态，然后介绍所支持的事件以及任务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1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状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任务状态，任何一个任务必须处于其中一个确定的状态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状态分别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等待运行。其前面的任务完成后，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规则开始运行处于等待状态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UN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规定，每一个时刻只能有一个任务处于正在运行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AIT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处于等待状态。当指定的事件发生时，任务进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LET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删除，不开始执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一个循环超时所中断，该状态与状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相似。所不同的是，这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系统的内部循环任务切换操作而产生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事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支持的事件包括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时间间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这些事件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中使用，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多任务之间通信的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使用系统函数置位或者清除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一个任务在运行前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等待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，如果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未置位，则该任务将不执行，直到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后才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，并可以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再次执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延时，由定时器脉冲来确定持续时间。如果某个任务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函数时带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数，则其将被挂起直到延时结束，接着将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并可以被再次运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间隔，由定时器脉冲来确定间隔延时时间。这里需要指出的是，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定时器是不复位的，因此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与一直处于运行状态的定时器一起工作，这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同。如果某个任务是在同步间隔内执行的，则其可以使用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循环任务切换允许“准平行”地执行多个循环或者任务。所谓“准平行”，即各个任务并不是一直并行运行的，而是各自在一段预定的时间内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执行时间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多个时间段，并为每个任务分配一个时间段。一个任务只能在其分配的时间段内执行，然后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切换到另一个任务执行。各个时间段的持续时间可以在系统的配置文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设置，对应的变量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SHAR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也可以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来通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允许另外一个任务来执行，这样便不用等待一个任务的时间段结束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主要是将当前执行的任务挂起，以等待一个特定的事件发生，在等待过程中，便可以运行任何其他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5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配置文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一般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按照默认的参数设置来运行。但是，其系统定时器间隔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等都可以重新配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参数配置文件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该配置文件中，用户可以进行自由配置的参数有如下几个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使用的系统时钟中断的寄存器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定时器间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循环切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内部数据存储器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启动后自由堆栈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及限定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用户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上运行实时多任务操作系统提供了便利，然而其对编译环境及硬件有特定的要求。另外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、指针和寄存器的选择同普通的单片机程序也有所区别，这些在使用时都要及时注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在编译环境和硬件系统方面的要求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编译环境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任务操作系统时，在计算机软件方面，需要以下支持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L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定位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宏汇编器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硬件系统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的运行，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进行合理的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种存储器模式，存储器模式的选择仅影响应用程序目标文件的定位，可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环境中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应用程序可以在外部存储器中存取，当然也可以在没有外部扩展数据存储器的单片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中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注意事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上述要求外，在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时，还需要注意以下一些事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任务定义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寄存器组选择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处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再入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库函数的使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数据指针和算术处理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.7  RTX-51 FUL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系统函数及技术参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对实时多任务操作系统更多的功能支持，下面主要介绍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系统函数以及相关的技术参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两个版本：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别介绍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行时，允许多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优先权任务的切换和循环，并能够并行地利用单片机的中断功能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还支持程序中的信号传递，以及与系统邮箱（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Mailbox System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信号量之间的消息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中断、超时、中断或任务的信号、中断或任务的消息以及信号量的事件等待。同时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还可以进行存储器分配及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个精简子集，主要运行在没有外部存储器扩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系统中。但是，使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可以访问外部的存储器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样允许任务的切换、中断功能的并行应用以及信号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超时、时间间隔以及来自中断或任务的信号等待事件。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不能进行占先式任务处理、消息处理以及存储器的分配和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1  RTX-51 FU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一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系统函数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同样有，同时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拥有一些特有的函数。常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函数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248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2  RTX-51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，其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特点进行了特定的优化和限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技术参数要求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705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不同于普通的单片机程序，这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调度、系统函数、任务管理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配置进行了详细的阐述。熟练掌握和运用本章内容，可以简化负责的多任务单片机系统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单任务程序的比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不同的设计任务，可以采用不同的方式来完成。前面几章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，均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程序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开始执行，是一个单一的进程，除非有中断打断。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操作系统的程序，则允许多个进程并行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简单的单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任务循环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程序结构和以前介绍的标准单进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有很大的区别。本节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任务调度方式：循环任务调度、事件任务调度、信号任务调度和抢先任务切换。另外，还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些其他的特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是按照预先划分的时间片来循环轮流执行多个任务的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使用一个定时子程序，其中断驱动由单片机的硬件定时器来完成。这个定时子程序产生周期性的中断，用来驱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实现时间片的划分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中，程序不要求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自动从任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开始执行。上一节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便是采用的这种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某些多任务程序，如果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，则需要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tart_syst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函数来人工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事件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任务调度是使用事件来实现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事件可以用来更加灵活地为各个任务分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内核发送事件，暂停当前的任务，从而可以实现在等待指定的事件时可以执行其他的任务。最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是时钟信号的超时周期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发送中断事件的程序示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3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信号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任务调度是使用信号来完成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信号同样用来调度系统中的多任务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另一个任务发送信号，接收信号的任务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信号。当任务接收到信号后，便结束等待状态，开始向下执行。如果，任务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接收信号之前，信号已经发送过来，那么该任务将立即继续执行，不会再等待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优先级及抢先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优先级设置及抢先的任务切换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则不具备这个功能。在默认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有的任务优先级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这是系统中最低的优先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优先级可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当高优先级的任务生效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中断低优先级的任务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8:47Z</dcterms:created>
  <dc:creator>cheng</dc:creator>
  <dc:description/>
  <dc:language>en-US</dc:language>
  <cp:lastModifiedBy>cheng</cp:lastModifiedBy>
  <dcterms:modified xsi:type="dcterms:W3CDTF">2008-10-13T07:39:56Z</dcterms:modified>
  <cp:revision>2</cp:revision>
  <dc:subject/>
  <dc:title>第20章  C51下的RTX-51实时多任务操作系统</dc:title>
</cp:coreProperties>
</file>