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9B56-BC3D-4686-B72F-FCD73C7F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5AA2-1191-4C4A-8685-92646BAF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EDF-AD79-4D39-83D0-B20DD998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BEB-BD29-4C62-95A8-5B07F6E5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7CD4-6B52-4207-997D-F5DD3EDD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8853-D4FE-4AD0-8CD5-D3A05F12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7F8-BA22-49E4-8D15-9C1F05AE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35D5-8C3F-4436-946C-3F233AD5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E07-E394-4E4F-A1BE-73D963AB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EFD-ACDF-4B91-A217-75BE70E0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780-B4B1-4ADF-8DFB-EE4F89B3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0DC7-443C-4918-B21D-085FDCED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7BA0-3FF6-468A-A9A4-6F9B576A9567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时和计数是控制系统中的两个重要功能，是时序电路的基础。对于时序控制系统，经常需要定时输出某些控制信号，或者对某些待测量进行定时扫描和监测，这便需要实现定时和计数的功能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硬件上集成了可编程的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。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子系列单片机，其有两个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，即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简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种工作方式可供选择。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-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子系列单片机（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，其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通用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，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简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是集定时、计数和捕获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种功能于一体，功能更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内部通过专用寄存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设置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工作的参数，例如方式选择、定时计数选择、运行控制、溢出标志、触发方式等控制字。本章详细讲述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的结构、控制寄存器和工作模式。对于每一种工作方式都给出了典型的实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及其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计数器分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相互独立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计数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定时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计数器的工作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只适用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对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设置为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时，相当于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R1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使其停止计数，没有什么实际意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工作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应用及程序设计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133720" y="3200400"/>
            <a:ext cx="492444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的具有自动重装载和捕获能力的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，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提供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子系列单片机是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子系列的扩展，在其特殊功能寄存器组中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有关的寄存器分别为：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捕获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CAP2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CAP2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定时寄存器高低字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H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L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17.3.1  T2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的控制寄存器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T2MOD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及其程序访问</a:t>
            </a:r>
            <a:endParaRPr b="0" lang="en-US" sz="23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 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特殊功能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同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似。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设定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工作方式、各种功能选择及有关状态信息。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MOD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还是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。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工作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内部定时或对外部事件计数的计数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工作模式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有所不同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：捕获、自动再装入和波特率发生器方式。通过软件设置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相关位，可以设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工作模式。位的设置和工作模式的对应关系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19320" y="4495680"/>
            <a:ext cx="73911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结构、控制寄存器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方式，并分别给出了详细的程序设计方法。本章还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子系列的单片机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也进行了详细的介绍。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是单片机的一个非常有用的功能，熟练掌握本章内容，对以后的单片机设计有很大帮助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两个通用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，简称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都具有定时和计数的功能，可以通过特殊功能寄存器来选择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共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，同样可以通过特殊功能寄存器来选择。下面分别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结构及控制寄存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的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结构的核心是一个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的加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，定时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结构如图所示。其中，这个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的计数器是由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计数器组成的，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构成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H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L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构成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是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控制寄存器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寄存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主要用于指定各定时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功能和工作模式。寄存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用于控制定时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启动和停止计数，同时也设置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状态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属于特殊功能寄存器，其内容在单片机软件中设置，这样便于单片机程序操作。当单片机进行系统复位时，寄存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所有控制位都清零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66880" y="3809880"/>
            <a:ext cx="403884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的功能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，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都具有定时和计数两种功能，可以在定时器模式控制寄存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控制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进行设置。下面分别介绍这两种功能的工作原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计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就是对计数脉冲进行计数。其中，计数脉冲来自相应的外部输入引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3.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3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。当该引脚的输入信号发生由高电平至低电平的负跳变时，计数器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值增加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定时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时是对时间进行统计。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的定时功能其实也是通过计数实现的，与计数功能不同的是，此时计数脉冲来自于单片机的内部时钟脉冲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1.3  T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控制寄存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到的控制和状态寄存器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主要用于定义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功能和工作模式。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每执行一条涉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指令时，例如工作方式选择、定时计数模式选择、溢出标志、触发方式等，该操作将在下一条指令的第一个机器周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始执行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方式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中断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CON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初始化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工作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具有丰富的功能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除了可以选择计数或者定时工作方式外，每个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还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（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通过对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进行编码，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中的任一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时，用法是一样的，仅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有所区别。下面分别介绍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及其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计数器，其由一个高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计数器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和一个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分频的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计数器中的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组合成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工作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工作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组成结构与功能完全相同。这里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例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组成结构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所示。当置寄存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O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=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=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时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就工作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状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工作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下，无论工作于计数方式还是定时方式，其运行原理都是一样的。当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计数溢出时，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进位，当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计数器溢出时，计数器清零，并向溢出控制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F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F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进位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同时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发出中断请求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应用及程序设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里举例讲解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具体程序设计中的应用。假定单片机外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M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晶振，这里采用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采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定时器产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定时，并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1.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输出周期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方波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及其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区别在于计数的位数不同，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高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组合成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计数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工作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当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=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=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时，定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工作于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状态，此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组成结构。在同一模式中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组成结构与功能完全相同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应用及程序设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模式的工作原理相同，只不过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的计数器，可以具有较长的定时周期。这里举例讲解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具体程序设计中的应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假定单片机外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M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晶振，选用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每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1.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反向，即在端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1.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周期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方波。由于定时时间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可以求得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初值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F0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初值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D8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及其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L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配制成自动重新装入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计数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工作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应用及程序设计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63626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35:47Z</dcterms:created>
  <dc:creator>cheng</dc:creator>
  <dc:description/>
  <dc:language>en-US</dc:language>
  <cp:lastModifiedBy>cheng</cp:lastModifiedBy>
  <dcterms:modified xsi:type="dcterms:W3CDTF">2008-10-13T07:02:58Z</dcterms:modified>
  <cp:revision>2</cp:revision>
  <dc:subject/>
  <dc:title>第17章  51系列单片机的定时器/计数器</dc:title>
</cp:coreProperties>
</file>