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FAD-B9CB-4D61-AC78-512EFCC3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8D7-DC4B-4301-8EF1-0E9DB77B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DF3-430D-4BDC-819D-DC96E997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F5F-9149-45A6-A0C6-CB1B39A9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73B-BF17-4DD2-A989-B0A1AE31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1E3-8211-4D65-8B19-51348F85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76E-4D6E-4C11-878B-68EF6518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FFC-55E4-4154-99AD-B648F0AC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7F0-C121-4AAC-A1DF-D8F717CD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EC2-9969-4E73-8843-47EB5607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777-7848-4E39-B342-4951DD89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530-A65A-4D6B-A3D4-B1213E82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D0DF-9E9C-4EF4-9FDE-AB82D3508358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读写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推出的一种双向二线制总线，全称为芯片间总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er Integrate Circuit BU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其在芯片间使用两根连线实现全双工同步数据传送，一条数据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一条串行时钟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可以很方便地构成外围器件扩展系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是很简单方便的芯片间串行扩展总线。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可以直接和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接口的单片机通信，也可以和各种类型的外围器件进行通信，如存储器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/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键盘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C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目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其他集成电路制造商推出了很多基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单片机和外围器件，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串行实时时钟芯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2.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主要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工作原理、结构以及寻址方式，并重点介绍了数据传输协议以及程序实现。这些程序均以子程序的形式提供，便于读者调用。最后通过具体的实例，介绍如何使用单片机读写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接口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非应答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应答信号用于数据传输出现异常而无法完成时。在传送完一个字节数据后，在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时钟位上从器件输出高电平为非应答信号。非应答信号的产生有两种情况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从器件正在进行其他处理而无法接收总线上的数据时，从器件不产生应答，此时从器件释放总线，将数据线置为高电平。这样，主器件可产生一个停止信号来终止总线数据传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主器件接收来自从器件的数据时，接收到最后一个数据字节后，必须给从器件发送一个非应答信号，使从器件释放数据总线。这样，主器件才可以发送停止信号，从而终止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应答位检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应答位检查用于检测接收的是否为正常的应答信号，以便于判断数据接收是否正常，方便后期处理。如果采用汇编语言进行程序设计，则检查应答位子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ACK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预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=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表示正常应答信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读端口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输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1/ SD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引脚状态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JN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CC.1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检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状态，正常状态转向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无正常应答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表示非应答信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结束子程序，使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=0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ET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数据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启动后或应答信号后的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~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时钟脉冲，对应于要传送字节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数据，数据位由低到高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上的数据是伴随着时钟脉冲，一位一位地传送的，每位数据占一个时钟脉冲。在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高电平期间，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状态就表示要传送的数据，高电平为数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低电平为数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在数据传送时，数据线上数据的改变在时钟线为低电平时完成，而时钟线为高电平时，数据线必须保持稳定，否则数据线上的任何变化都会被当作起始或终止信号，而致使数据传输停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写数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协议规定了完整的数据传送格式。按照协议规定，数据传输的开始以主器件发出起始信号为准，然后发送寻址字节。寻址字节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，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是被寻址的从器件地址，最低一位是方向位，方向位表示主器件与从器件之间的数据传送方向，方向位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表示主器件向从器件发送数据（写）。在寻址字节后是将要传送的数据字节与应答位，数据可以多字节连续发送。在数据传送完毕后，主器件必须发送终止信号已释放总线控制权。如果主器件希望继续占用总线，则可以不产生终止信号，马上再次发送起始信号，并对另一从器件进行寻址，便可进行新的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数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进行读数据时，数据传输的开始以主器件发出起始信号为准，然后发送寻址字节。寻址字节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，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是被寻址的从器件地址，最低一位是方向位，方向位表示主器件与从器件之间的数据传送方向，方向位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表示主器件从从器件中接收数据（读）。在寻址字节后是将要传送的数据字节与应答位，数据可以多字节连续发送。在数据传送完毕后，主器件必须发送终止信号已释放总线控制权。如果主器件希望继续占用总线，则可以不产生终止信号，马上再次发送起始信号，并对另一从器件进行寻址，便可进行新的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读写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EEPROM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器件以体积小、接口简单、读写操作方便等优点，使其在单片机系统中有着广泛的应用。目前常用于存储系统必要的参数，如密码、启动代码、设备标识等。例如，计算机主板中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就使用的是一个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中保存了系统得重要信息和系统参数的设置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及其设备越来越被广泛使用，大有取代其他老式接口的趋势。然而，如何区分计算机上连接的众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外围设备呢？其实绝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芯片都通过上电读一个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来载入该设备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endor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roduct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vice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，根据这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区分各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，并加载相应的驱动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是一种采用串行总线的存储器，这类存储器具有体积小、功耗低、允许工作电压范围宽等特点。目前，单片机系统中使用较多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串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其具有型号多、容量大、支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总线协议、占用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端口少，芯片扩展方便、读写简单等优点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目前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Nationa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公司均提供各种型号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总线接口的串行</a:t>
            </a:r>
            <a:r>
              <a:rPr b="0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。下面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产品为例进行介绍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1/02/04/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典型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这里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例介绍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24×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存储容量，工作于从器件模式，可重复擦写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万次，数据可以掉电保存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年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引脚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I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封装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封装结构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48120" y="4114800"/>
            <a:ext cx="27432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给出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路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54864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编写程序。具体操作步骤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4714920" cy="3416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553080" y="1981080"/>
            <a:ext cx="1755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仿真分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提供了很好的信号仿真功能，下面就利用其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时序仿真分析。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28800" y="2971800"/>
            <a:ext cx="5877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对数据通信进行了严格的定义，要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接口设计，就需要首先了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工作原理图、寻址方式和数据传输协议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工作原理、结构以及寻址方式等，并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数据传输进行了详细的介绍。本章还给出了采用普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模拟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汇编语言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的代码。最后通过一个具体的实例，讲解了单片机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外围器件的电路设计以及程序设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具有接口简单，体积小等优点，在实际电路设计中经常使用。熟练掌握本章，可以控制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外围器件，大大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使用范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1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工作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系统结构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8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其采用两线制，由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。总线上挂接的单片机（主器件）或外围器件（从器件），其接口电路都应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通信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0" y="3352680"/>
            <a:ext cx="54388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2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的电气结构和负载能力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输出为漏极开路，因此使用时上必须连接上拉电阻。不同型号的器件对上拉电阻的要求不同，可参考具体器件的数据手册。上拉电阻的大小与电源电压、传输速率等有关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传输速率可以支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两种，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速率一般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K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上拉电阻，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速率一般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K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上拉电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的外围扩展器件都是属于电压型负载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MO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器件，因此总线上的器件数量不是由电流负载能力决定，而是由电容负载能力确定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每一个节点器件的接口都有一定的等效电容，这会造成信号传输的延迟。通常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负载能力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p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通过驱动扩展可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0p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据此可计算出总线长度及连接器件的数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3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器件的寻址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的所有器件连接在一个公共的总线上，因此，主器件在进行数据传输前选择需要通信的从器件，即进行总线寻址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所有外围器件都需要有惟一的地址，由器件地址和引脚地址两部分组成，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。器件地址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器件固有的地址编码，器件出厂时就已经给定，不可更改。引脚地址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外围器件的地址引脚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决定，根据其在电路中接电源正极、接地或悬空的不同，形成不同的地址代码。引脚地址数也决定了同一种器件可接入总线的最大数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地址位与一个方向位共同构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器件寻址字节。寻址字节的格式如表所示。方向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规定了总线上的主器件与外围器件（从器件）的数据传输送方向。当方向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=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表示主器件读取从器件中的数据；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表示主器件向从器件发送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8.2  I2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总线数据传输协议及其程序详解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规定了严格的数据通信格式，所有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的器件都必须遵守。另外，对于应用最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，却没有提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。实际上，利用这些单片机的普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口，采用软件模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的数据传送时序，完全可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器件的读、写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下面就分别介绍数据传输过程中的格式以及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实现。这里假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外接晶振频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单片机的机器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起始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起始信号用于开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。在时钟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高电平期间，数据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出现由高电平向低电平变化的下降沿时，被认为是起始信号。起始信号出现以后，才可以进行寻址或数据传输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其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TART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终止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终止信号用于终止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。在时钟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高电平期间，数据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出现由低电平到高电平变化的上升沿时，被认为是终止信号。终止信号一出现，所有总线操作都结束，主从器件释放总线控制权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其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TOP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应答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应答信号用于表明数据传输的结束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数据传送时，每传送一个字节数据后都必须有应答信号。应答信号从主器件产生。主器件在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时钟位上释放数据总线，使其处于高电平状态，此时从器件输出低电平拉低数据总线为应答信号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发送应答位子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CK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1:09Z</dcterms:created>
  <dc:creator>cheng</dc:creator>
  <dc:description/>
  <dc:language>en-US</dc:language>
  <cp:lastModifiedBy>cheng</cp:lastModifiedBy>
  <dcterms:modified xsi:type="dcterms:W3CDTF">2008-10-13T08:45:16Z</dcterms:modified>
  <cp:revision>2</cp:revision>
  <dc:subject/>
  <dc:title>第28章  51系列单片机读写I2C总线</dc:title>
</cp:coreProperties>
</file>