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B43-6C1E-4FC8-821A-7939F0DC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6D6-3FCD-4B82-99DA-2AEE6283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ECC-4EFE-4201-9AB7-45EB9A52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044-29C9-4E0B-B5E5-9470C636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221-B8D2-46EF-8111-445C3EF2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B43-861B-408E-88FE-F5E92B4F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7CE-2494-4E24-AD2D-A6BA5DE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C79-7FD4-4D71-AD0A-99043E67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A44-5CE2-49A7-AAFA-7D5CE54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5A8-7D70-4C77-B13E-07261FEB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63F-D648-497E-ABA2-563CC0C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66E-F99A-418A-92A2-6E8EFE4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51A0-753B-487A-A73A-496C586092B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常简单实用的总线协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通过一条公共数据线实现主机与一个或多个从机之间的半双工、双向通信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引脚的使用减少到了最少，因此特别适合于单片机系统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温度传感器即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由于其所需的引脚最少、接口简单、无需外部元件和精度高等优点，广泛应用于单片机系统中进行测温以及温度监控。本章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操作需要严格遵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协议。这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命令、存储器操作命令等封装为子函数，方便调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延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复位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代码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R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校验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第一个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暂存器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查找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温度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机，定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总线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中，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进入仿真分析模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eripherals”→“Serial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打开“串口仿真”接口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Go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开始执行仿真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此时，在串行仿真接口中便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菜单。这里输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即选择读取温度值。程序便输出对应的摄氏温度值以及华氏温度值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44193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的工作原理，并结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详细讲解了其供电方式以及数据操作命令。最后通过一个完整的实例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数据传输，从而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是一种结构简单的接口协议，其最大化地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数目，在实际电路中有着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，顾名思义是只需要一根数据线的数据传输方式。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3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包括一个开漏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，并通过上拉电阻上拉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源。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可以包含一个或多个，除了公共的地线外，所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共用一根数据总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中主机为数据传输的控制器，主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通信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则只能被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通信。因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是一种半双工的双向数据传输结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，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字温度传感器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高精度的摄氏温度测量，同时具有非易失性、用户可编程上下触发门限的报警功能。由于其独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，使得其可以占用极少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资源，使用起来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采用带隙温度检测结构，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升级产品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部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主要部件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激光刻制的唯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、温度传感器以及非易失性温度报警触发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结构，仅需一个引脚即可实现数据的发送或接收。另外，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供电电源可以从数据线本身获得，无须外部电源。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出厂时都有唯一的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，可以将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时连在一根单总线上，从而实现多点分布温度测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8006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2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供电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采用两种供电方式，即外部供电方式和寄生电源供电方式。如果采用外部供电方式，如图所示。此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外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电源，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需接地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如果采用寄生电源供电方式，如图所示。此时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D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须接地。另外为了得到足够的工作电流，应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提供一个强上拉，一般可以使用一个场效应管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直接拉到电源上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总线上汲取能量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高电平期间把能量存储在内部电容里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低电平期间消耗电容上的电量工作，直到高电平到来，再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部的寄生电源充电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6622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操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将通信时使用的引脚减少到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，在数据传输时需要满足特定的格式才能进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的第一步是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然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发送各种命令来进行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存储器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温度转换操作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3.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片机读写温度传感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因此常采用软件模拟的方法来实现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45147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打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ject”→“New” →“μVison Project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工程，并保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弹出的选择器件对话框中选择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单击“确定”按钮，此时弹出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话框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单击“是”按钮，完成工程的建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ile”→“New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程序文件，并保存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*.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文件，可以在其中输入程序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9:08Z</dcterms:created>
  <dc:creator>cheng</dc:creator>
  <dc:description/>
  <dc:language>en-US</dc:language>
  <cp:lastModifiedBy>cheng</cp:lastModifiedBy>
  <dcterms:modified xsi:type="dcterms:W3CDTF">2008-10-13T09:08:59Z</dcterms:modified>
  <cp:revision>3</cp:revision>
  <dc:subject/>
  <dc:title>第33章  单总线温度传感器DS18S20</dc:title>
</cp:coreProperties>
</file>