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542-00F6-4147-A178-FD67C6D9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3F4-2E30-47B9-8447-7951FC06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A66-62BD-4B1E-BDED-BAF3A65A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288-2740-407D-BBB0-7F495C6D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A69-9B93-4E50-935E-B1F278E3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4BE-31D1-4A95-80A6-EA12EE9F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709-4906-40D1-9D36-C3E3245F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089-DE6F-4C92-AF00-908DB06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18A-6DB4-4372-AFCA-091ADC3F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A02-D575-443E-9E0F-B26AA24B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A00-85C2-4C5C-9D7D-BA82CAF7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B86-00E2-4634-99D7-2878BCD0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C614-016F-49D9-866F-A8EB63CFA1A9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以其价格低廉、功能强大、体积小、性能稳定等优点，深受广大电子设计爱好者喜爱。目前，各类产品中都能看到单片机的身影，如门铃、报警器、玩具，以及各类数据采集系统和控制终端等。单片机是现代电子设计中使用最广泛的电子元件。而其中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是最早兴起的一类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功能完备、指令系统丰富，发展的最为成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单片机的产生及几十年的发展演化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简介和应用领域。另外还包括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以及单片机的开发概述。本章内容包括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4  Silic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，集成了世界一流的模拟功能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基于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JTAG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调试功能。另外还具有可配置的高性能模拟、高达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00 MIPS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系统内现场可编程性。这些特性为用户提供了充分的设计灵活性以及卓越的系统性能。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主要有如下几类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接口，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精密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小型化微处理器。这类微处理器将高速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闪存及高性能模拟电路集成到一个超小微型导线框封装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(MLP)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中，可以让系统设计者在提高系统性能的同时，减少元件数量和整体尺寸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5  Maxi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产品线很丰富，其推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兼容微控制器在保持指令集、目标代码与早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计兼容的同时，使性能指标提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主要有如下几类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微处理器。这类微处理器具有闪存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P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，每机器周期使用一个时钟，速度是标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H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安全微控制器。这是具有防篡改能力的微控制器，其能够对程序和数据存储器进行加密，以防未经授权的系统介入。系统的电池备份架构一旦检测到篡改事件将立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并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S/3DE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加密技术可以防止外部总线窃听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2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2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907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1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1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微型互联网接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NI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能够为嵌入式系统增添网络功能，适用于以太网或各种低级网络系统。片内集成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Pv4/IPv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P/I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栈，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/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以太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符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EEE® 802.3 MI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准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6  NXP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X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半导体公司的前身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推出了多种单片机微控制器。主要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9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这是一种增强型多用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2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3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L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66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xC59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B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1R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7  Winbon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inbon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是中国台湾的华邦电子推出的，其产品线丰富。主要有如下几类：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标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，包含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以及在系统编程等特性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2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4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8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8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1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2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438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宽电压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.8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非常适合于电池供电的手持式设备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8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增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、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个中断源、内置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以及双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主要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工业温度级单片机。这类单片机具有符合工业应用的温度范围以及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电压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8  Analog Device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 In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公司生产各种高性能的模拟器件，其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集成了多种精密模拟资源，包括多通道的高分辨率模数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数模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基准电压源和温度传感器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具有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 MC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9  T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美国德州仪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供两类具有嵌入式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/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的产品系列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(MSC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嵌入式数据获取解决方案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嵌入式连接解决方案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。这类单片机是完全集成混合信号器件。该系列的产品包括整合了以下组件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lt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型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道复用器、烧坏检测、 可选缓冲输入、失调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数模转换器）、可编程增益放大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PGA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温度传感器、精密电压参考、 闪速程序存储器、闪速数据存储器和数据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产品系列的器件都是引脚兼容的，大大简化了器件迁移过程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接口系列单片机。这类微控制器系列使用标准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并将各种外围接口集成到一起，以满足各种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外设需求。所有这些产品都遵从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规范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3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器件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全速适配外围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2136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5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和全速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线器集成到一起的组合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6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适配设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其他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除了上述的几家半导体公司的单片机外，还有很多其他的半导体厂商也提供了多种型号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。例如美国的飞思卡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sca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摩托罗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，日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日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瑞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ne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这些厂商的单片机同样具有不错的性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近些年国内的半导体厂商异军突起，也提供了很多有特色的单片机。例如上海普芯达电子有限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海普芯达电子有限公司总部位于上海张江高科技园区。该公司提供多种半导体器件，包括单片机、电源管理器件、系统监管器件、通信接口器件、信号调理器件、功率驱动器件、数字逻辑器件、存储器、专用标准器件和系统级封装芯片等。其推出的单片机型号有如下两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.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.CW89F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应用系统的开发是以单片机为核心，配合一定的外部电路及程序，从而实现特定测量及控制功能的应用系统。其中单片机的选型、资源分配以及程序设计是整个系统设计的关键。一般来说，一个完整的单片机应用系统设计包括分析测控系统、单片机选型、硬件资源分配、单片机程序设计、仿真测试并最终下载到实际硬件电路中执行。单片机开发的整个流程，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157560"/>
            <a:ext cx="1179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分析测控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户在进行单片机应用系统开发时，首先要对该测控系统进行可行性分析以及系统总统方案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行性分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行性分析主要是分析整个设计任务的可能性。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系统总体方案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完成可行性分析后，便进入系统整体方案设计阶段。这里，主要结合国内外相关产品的技术参数和功能特性、本系统的应用要求以及现有条件，来决定本设计所要实现的功能和技术指标。接着，制定合理的计划，编写设计任务书，从而完成该单片机应用系统的总体方案设计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选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开发过程中，单片机是整个设计的核心，因此选择合适的单片机型号很重要。目前，市场上的单片机种类很多，不同厂商均推出很多不同侧重功能的单片机类型。在进行正式的单片机应用系统开发之前，需要了解各个不同单片机的特性，从中作出合理的选择。在单片机选型时，主要需要注意以下几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应用系统的硬件资源要求，在性能指标满足的情况下，尽量选择硬件资源集成在单片机内的型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这样便于整个系统的软件管理，可以减少外部硬件的投入，缩小电路板的面积，从而减少投资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由美国宾夕法尼亚大学研制成功世界上第一台电子数字计算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NI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计算机运算速度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内部使用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电子管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继电器，占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m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吨。它的诞生引发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世纪电子工业的革命，如今电子计算机以令人难以想象的速度发展，产品线不断更新换代，成为发展最快的行业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近年来，为了满足小型设备或者便携式设备的需求，在计算机的大家族中，单片微型计算机异军突起，发展十分迅速，其基本渗透到了电子设计的方方面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微型计算机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ngle-Chip Microcompu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是在一块芯片上集成了中央处理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entral Processing Un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只读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 Only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随机存取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ndom Access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put/Outp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接口等部件，这些部件构成了一个完整的微型计算机。单片微型计算机也简称为单片机。单片机从产生到现在的短短三十几年历史中，产品不断更新，其大致经历了四个阶段。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低中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高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增强型单片机时代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硬件资源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总体方案以及单片机型号确定下来后，需要仔细规划整个硬件电路的资源分配。一般来说，一个单片机应用系统由紧密联系的硬件及软件构成。因此，在进行设计前，需要规划哪部分的功能用硬件来实现以及用什么硬件来实现，哪部分的功能用软件来实现等。这里需要注意以下几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单片机的硬件资源丰富，尽量选择使用单片机内部集成的硬件资源来实现，这样可以减少硬件投资，提高集成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些常用的功能部件，尽量选择标准化、模块化的典型电路，这样可以提高设计的灵活性，确保成功率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合理规划单片机的硬件及软件资源，充分发挥单片机的最大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上最好留有扩展的接口，以方便后期的维护及升级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要仔细考虑各部分硬件的功率消耗以及驱动能力，驱动能力不够将导致系统无法正确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在整个单片机应用系统的总体方案及硬件分配定型后，便可以着手进入具体的设计阶段。这里，单片机的程序设计是关键，可以根据实际的需要来选择单片机设计语言及开发环境。在单片机程序设计时，主要需要从以下几点来考虑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采用结构化的程序设计，将各个功能部件模块化，用子程序来实现，这样便于调试以及后续的移植修改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使用单片机的资源，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中断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采用执行速度快的指令，以充分发挥单片机的性能优势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充分考虑软件运行时的状态，避免未处理的运行状态，否则程序运行时易出错，不受控制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安排各个功能部件的时序，确保程序能正确执行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选择使用单片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语言来进行设计，避免使用汇编语言，除非有特殊要求。这样可以使程序易懂，便于交流和后期维护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程序中要尽量添加注释，提高程序的可读性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仿真测试和程序设计是紧密相关的。在实际设计过程中，需要经常对各个功能部件进行仿真测试，这样可以及时发现问题，确保模块的正确性。对于整个系统的设计，仿真测试则可以模拟实际的程序运行，观察整个时序以及运行状态是否合理。当发现问题时，需要返回程序设计阶段修改设计，进而重新仿真测试，直到程序运行通过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户在进行程序设计时，需要选择一个好的编译仿真环境，例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英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abcenter electronic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TE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如果条件允许，可以选择一款和单片机型号匹配的硬件仿真器。硬件仿真器一般支持在线仿真调试，可以实时观察程序中的各个变量，最大程度上对程序进行测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际硬件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程序设计通过后，便可以将其下载到单片机中结合整个硬件电路来测试。在实际硬件电路测试阶段，主要看单片机程序和外部硬件接口是否正常，单片机的驱动能力是否够用，以及整个硬件电路的逻辑时序配合是否正确等。如果发现问题，则要返回设计阶段，逐个解决问题。硬件测试通过后，便可以投入使用或者生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单片机的发展历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简介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应用领域。接着介绍了一下实际常用的一些主流半导体厂商的单片机型号，以供参考。最后，详细介绍了开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的整个流程及其主要注意事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仍然是电子设计领域最为广泛使用的产品，这里详细介绍使用最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以及和其具有兼容内核的单片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最早、最基本的单片机，功能也最简单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在集成电路的飞速发展，各大芯片厂商提供了很多与其兼容的单片机。比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XC5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等。这些单片机采用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和指令系统，只是对其功能和内部资源等方面进行了不同程度的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应用领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以其高性能、高速度、体积小、价格低廉、可重复编程和方便功能扩展等优点，在市场上得到广泛的应用。其主要应用于如下几个领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家电产品及玩具。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价格低、体积小、控制能力强、功能扩展方便等优点，使其广泛应用于电视、冰箱、洗衣机、玩具、家用防盗报警器等方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机电一体化设备。机电一体化设备是指将机械技术、微电子技术和计算机技术结合在一起，从而产生具有智能化特性的产品，它是现代机械及电子工业的主要发展方向。单片机可以作为机电一体化产品的控制器，从而简化原机械产品的结构，扩展其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测量设备。以前的测量仪表体积大、功能单一，限制了测量仪表的发展。采用单片机改造各种测量控制仪表，可以使其体积减少、功能扩展，从而产生新一代的智能化仪表，如各种数字万用表、示波器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自动测控系统。采用单片机可以设计各种数据采集系统、自适应控制系统等。例如温度的自动控制、电压电流的数据采集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算机控制及通信技术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都集成有串行通信接口，可以通过该接口和计算机的串行接口进行通信，实现计算机的程序控制和通信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最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自世界上第一片单片机诞生以来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不断推陈出新，目前已有几十个系列、上百种型号。这些新产品都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，各个型号基本都兼容。以下是一些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9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HC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ilo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uper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airchil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8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S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80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PD78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  ATME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非常丰富，除了基本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外，还包括针对不同设计领域的专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有如下几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这类单片机具有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调试，片内集成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模拟比较器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W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内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振荡器等资源。主要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4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单片机。这类单片机主要特点是内部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可以实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，使用方便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1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E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B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E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2 AT89S2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4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单片机。这类单片机片内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，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另外还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C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0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智能卡接口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带有串行接口和智能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C/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、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7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E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E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专用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多媒体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M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J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编解码电路等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SND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0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2  CYPRES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pres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主要集中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上，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嵌入式主机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2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3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L811HS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全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2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0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2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1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4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7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高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4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5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6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低速设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0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2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3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4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5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6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7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8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3  Infine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fine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产品包括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以及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主要有如下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新型高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家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控制器采用高性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、片上集成闪存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以及功能强大的外设组，如增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PCOM6(CC6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具有多种产品型号可供选择。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C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0/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这类单片机是基于工业标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架构的微处理器，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5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5C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6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08:04Z</dcterms:created>
  <dc:creator>cheng</dc:creator>
  <dc:description/>
  <dc:language>en-US</dc:language>
  <cp:lastModifiedBy>cheng</cp:lastModifiedBy>
  <dcterms:modified xsi:type="dcterms:W3CDTF">2008-10-13T05:16:37Z</dcterms:modified>
  <cp:revision>3</cp:revision>
  <dc:subject/>
  <dc:title>第1章  51系列单片机概述</dc:title>
</cp:coreProperties>
</file>