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789-E824-43D7-96AA-5B90D444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EB2-2E9B-4EFA-ADB3-831E4A44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C14-44BC-449A-869E-3B9927EC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6DD-AB8C-4953-9A58-E95DEC72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364-EB70-4DF8-A63E-FCA79D18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DFD-50BB-41D8-BCC0-7FA964F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56B-49C4-46B9-8054-4B07C672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4A5-EAE2-43FC-9BB4-269E86AA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287-56A4-41C0-BBB5-A00645A1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CF3-9D45-4E18-8AF9-534B3AF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779-247A-49B5-9E85-D8ADCF8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D47-4B25-44DD-A318-1608472C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8E63-6A62-4F5B-A92B-8A9D273B2D96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串行总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提出的串行同步双工通讯接口。由于其采用三根信号线，所以常称为三线制同步串行总线接口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最早应用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微控制器上，后来被广泛应用到其他微控制器、存储器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占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少，使用简单方便，可以提高系统的可靠性。本章主要介绍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，以及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使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3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需要严格遵守总线协议。这里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用到的操作指令封装为子函数，方便调用。这些子函数不仅适用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样适用于其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的器件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调用前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操作。其中，在程序中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了程序设计的方便，这里规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格式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001××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其中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起始位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令的操作码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码。这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可以表示为如下所示的几种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5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2840040"/>
            <a:ext cx="60674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4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解了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指令及其操作时序。本章最后通过一个具体的实例，介绍了如何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在软件上仿真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其中给出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的子函数以及一个完整的实例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的使用，在实际电路设计中具有广泛的应用，读者应该熟练掌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一种串行同步双工通讯接口，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最早提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信号线进行通讯，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时钟信号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入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出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4572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2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优势，目前多家公司推出了各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产品。其中，使用最多的便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4.2.1  Microware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种可用电气方法在线擦除和写入的存储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既有普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可读可写的特性，又具有非易失性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掉电后仍然能保持所存储数据的优点。许多大的半导体公司都生产可支持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M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品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LC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AA06/46/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产品。这些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如下特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般采用单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+5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源供电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较低的功耗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三态输出，并可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平兼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时间不超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周期寿命一般都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以上，有的产品已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片内写入的数据保存寿命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2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包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指令，这些指令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兼容。其中，对于不同的型号，其具体的指令所代表的含义略有区别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比特的存储空间，可以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8×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×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使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指令及其说明，如表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6964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3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指令。下面分别介绍各个指令执行的时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E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D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.3  5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系列单片机读写三线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基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没有集成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当其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时，只能够采用软件模拟的方式来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的操作。这里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，介绍如何在软件上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的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4700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96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0:04Z</dcterms:created>
  <dc:creator>cheng</dc:creator>
  <dc:description/>
  <dc:language>en-US</dc:language>
  <cp:lastModifiedBy>cheng</cp:lastModifiedBy>
  <dcterms:modified xsi:type="dcterms:W3CDTF">2008-10-13T09:12:36Z</dcterms:modified>
  <cp:revision>2</cp:revision>
  <dc:subject/>
  <dc:title>第34章  Microware串行总线EEPROM的应用</dc:title>
</cp:coreProperties>
</file>