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0E47-CD8E-4455-9C40-4D733B325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4759-0CE4-4B4C-AE34-A159C56A1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1112-B57F-450F-A0D8-049999C0A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DA0A-E86E-4504-81C3-A82B0B8AE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016A-9851-4CE5-8B19-37453F8D5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F256-6555-4B36-AD5B-8F3F269A9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662E-5E9B-4C2E-B29E-3C68DEDF1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E0BA-E012-4E48-AEF5-35F85FB43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B45A-517D-4910-9D23-24458AB6D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7D24-25A0-4570-B896-BE152AE3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C769-AE5D-4687-887B-7603117E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53F1-8C67-424D-9222-9B6E9F4E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10A68-A435-4AAD-98EC-BBF094BBDC0E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章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转换实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实际的控制系统中，经常需要控制一些模拟信号，例如精确可调的电压电流输出、显示器亮度的调节以及激光二极管偏置电压等等。而一般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单片机外部总线接口为数字信号，无法直接产生需要的模拟信号。因此，需要将单片机的控制信号转换为期望的电压或电流等模拟信号。这便用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转换器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转换器提供了良好的数字接口，可以和单片机的并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接口直接相连，由单片机来控制，使其输出要求的模拟量电压或模拟量电流等。本章主要介绍了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转换的原理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转换器的类型以及技术参数。本章还介绍了一款性能优秀的电压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转换器。最后通过一个实际应用的例子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转换器的控制原理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6.3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光通信电压调制电路实例——电路部分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实际的测控系统中，很多设备或器件需要输入模拟的电压或电流来进行控制。在光通信领域中，经常需要对信号的强度以及相位进行精确的控制。其中便用到光纤型相位调制器，可以通过改变输入的电压，从而使通过的光信号的相位得到改变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下面将介绍如何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芯片来设计光纤型相位调制器的驱动电路，实现精确的调制电压输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3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相位调制的原理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相位调制在光通信领域中主要用于改变输出光的相位。目前比较多的是利用线性电光效应实现光的相位调制，其利用模拟电压在调制器中产生的电场来改变器件的折射率，从而达到改变光的相位的目的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线性电光效应简介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光纤型相位调制器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209680" y="4267080"/>
            <a:ext cx="477216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3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电压调制系统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这里介绍一种常用的电压调制系统，系统的原理图，如图所示。系统采用重复频率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MHz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脉冲激光器，即每隔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µ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产生一个光脉冲。光脉冲在经过光纤相位调制器时被调制，并将调制后的光脉冲信号输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057400" y="3809880"/>
            <a:ext cx="516240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3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电路图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电压调制系统的电路图，如图所示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447920" y="2133720"/>
            <a:ext cx="684360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26.4  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光通信电压调制电路实例——程序部分</a:t>
            </a: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例程序所实现的功能是，系统在上电的时候首先设置调制电压，即各个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芯片的输出电压，然后将扫描按键输入，根据按键输入来执行不同的调制输出模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4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系统状态编码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79080" y="1523520"/>
            <a:ext cx="7108920" cy="47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根据前面电路图中的接线方式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口控制了整个系统的运行模式。程序中采用状态转移的方式进行控制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口的控制状态的编码具有如下几种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设置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转换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二进制编码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011 1110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相应的十六进制编码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BEH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设置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转换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二进制编码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011 1101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相应的十六进制编码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BDH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设置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转换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二进制编码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011 1011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相应的十六进制编码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BBH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调制电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输出，二进制编码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111 0111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相应的十六进制编码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F7H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调制电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输出，二进制编码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110 1111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相应的十六进制编码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EFH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调制电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输出，二进制编码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101 1111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相应的十六进制编码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FH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无调制输出，二进制编码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011 1111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相应的十六进制编码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BFH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4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建立项目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这里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编写程序。首先建立项目，操作步骤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209680" y="2590920"/>
            <a:ext cx="512460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4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主程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主程序的流程图，如图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666880" y="2286000"/>
            <a:ext cx="3864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4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无调制模式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无调制模式函数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ModeFun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中控制模拟开关输出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电压，并通过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_nop_()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来实现特定的延时用于保持输出。该函数的示例代码如下：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void ModeFun0(void)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int i;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P1=0xBF;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调制电压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输出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_nop_();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延时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P1=0xBF;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for (i=0;i&lt;4;i++)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延时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_nop_();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4.5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调制模式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调制模式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函数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ModeFun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中控制模拟开关输出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2.1V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电压，并通过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_nop_()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来实现特定的延时用于保持输出。该函数的示例代码如下：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void ModeFun1(void)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int i;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P1=0xF7;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选通调制电压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输出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_nop_();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保持输出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P1=0xBF;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无参数设置，无调制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for (i=0;i&lt;4;i++)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保持输出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_nop_();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1  D/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转换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igital/Analogu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转换也称为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模转换，其进行的是数字量和模拟量之间的转换。一般来说，能够提供数字量转换为模拟量的器件，称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器或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模转换器。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技术可以利用成熟方便的数字处理技术，来产生和精确控制各种模拟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随着半导体工艺的发展，各种类型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器层出不穷。这些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芯片在精度、转换速度、可靠性和方便性等方面都日趋成熟，并且其特有的数字接口可以很方便地和单片机相连，便于控制，从而很好地满足了各种测控系统的需求。这里首先介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以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器的相关知识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4.6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调制模式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调制模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函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odeFun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控制模拟开关输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.2V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电压，并通过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_nop_()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来实现特定的延时用于保持输出。该函数的示例代码如下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void ModeFun2(void)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nt i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1=0xEF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选通调制电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输出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_nop_()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1=0xBF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for (i=0;i&lt;4;i++)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_nop_()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4.7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调制模式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调制模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函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odeFun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控制模拟开关输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6.3V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电压，并通过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_nop_()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来实现特定的延时用于保持输出。该函数的示例代码如下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void ModeFun3(void)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nt i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1=0xDF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选通调制电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输出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_nop_()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1=0xBF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for (i=0;i&lt;4;i++)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_nop_()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4.8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调制模式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79080" y="1523520"/>
            <a:ext cx="7108920" cy="47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调制模式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函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odeFun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为阶梯波调制模式，这里分别调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odeFun0(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odeFun1(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odeFun2(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odeFun3(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函数，来依次输出调制电压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调制电压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调制电压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和调制电压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。该函数的示例代码如下：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void ModeFun4(void)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odeFun0()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调制电压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输出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odeFun1()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调制电压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输出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odeFun2()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调制电压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输出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odeFun3()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调制电压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输出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6.5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光通信电压调制电路实例——仿真部分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对于上面的程序，在实际进行硬件电路设计前可以进行程序的仿真，以保证程序运行的正确性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5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程序仿真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程序编译通过后，便可以进行程序仿真。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Keil μVision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，通过模拟按键输入来仿真不同调制模式的执行，通过观察各个引脚电平的变化，便可以判断程序执行的正确性。仿真的操作步骤如下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首先，选择“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ebug”→“Start/Stop Debug Session”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命令，进入仿真调试模式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选择“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eripherals”→“I/O-Ports”→“Port 0”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命令，打开并行端口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仿真窗口。以同样的操作可以打开并行端口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并行端口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在程序代码窗口，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F1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键逐条执行程序，观察并行端口的电平是否按规定的时序进行变化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端口的仿真窗口中，将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2.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引脚置为低电平，仿真按键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按下，即选择调制模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用半波电压进行调制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F1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键执行程序，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f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语句中，可以看到程序执行进入第二个分支，执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odeFun2()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函数。从中可以看出在调制模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下，端口输出是否正确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5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运行效果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在这个电路中，采用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转换芯片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D55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实现了对要求的模拟调制电压信号的输出。通过实际测试对光脉冲进行调制，取得了很好的效果。电路实际的调制电压输出，可以在示波器上看到，如图所示。其中显示了在调制模式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下，电路输出的阶梯电压调制的情形。从图中可以看出该电路系统的输出完全符合要求，具有很高的波形质量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895480" y="2895480"/>
            <a:ext cx="381024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6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首先详细介绍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器的基本知识，包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器的原理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器的类型及技术参数，然后介绍了一个高速易使用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55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最后通过一个具体的实例，介绍了如何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55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光通信领域中完成对光信号的相位的精确调制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器在测控领域有着广泛的应用，扩展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处理模拟信号的能力，是现代电子设计中不可缺少的一部分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1.1  D/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转换原理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转换的基本功能是，将一个数字量按照比例转换成模拟量（电压或者电流）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转换所采用的基本方法是，将数字量转化成二进制数据，其每一位产生一个相应的电压或者电流，而这个电压或者电流的大小正比于相应的二进制位的权，最后将这些电压或者电流相加并输出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由于一个数字量是由数字代码按位组合而成的，每一位数字代表一定的“权”，一个数字与对应的权相结合，就代表了一个具体的数值，把所有的数值相加，便得到该数的数字量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转换器正是使用了这一点，其要求该数字量对应一个模拟量，则只需将各位数字量分别转换成相应的模拟量，然后将所有的模拟量相加，所得到的总和即是该数字量相对应的模拟量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1.2  D/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转换器的类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按照不同的用途及特性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器有不同的类型。下面分别介绍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按照输出模拟量的类型区分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按照数字量的位数区分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按照接口类型区分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按照内部是否集成锁存器区分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1.3  D/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转换器的技术参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器的技术参数很多，如分辨率、量程、转换建立时间等。下面分别介绍这些技术参数的具体含义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分辨率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精度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标称满量程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NF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实际满量程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F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转换建立时间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尖峰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高速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转换芯片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AD558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市场上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器有很多种型号，在选择时需要考虑其的精度、量程范围以及转换建立时间等参数，同时还要注意使用的方便性。这里介绍一款由美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NALOG DEVICE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推出的，具有高的转换速度以及简单方便的控制接口的电压输出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55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2.1  AD558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简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AD558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的引脚分配图，如图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26.3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所示。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AD558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的内部功能框图，如图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26.4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所示。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AD558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的主要性能指标如下：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位并行数字量输入宽度；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两种电压的输出范围，分别为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0~+10V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0~+2.56V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相对精度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±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1/2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LSB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高速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1µs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出转换建立时间；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单一电源供电，电源电压的范围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+4.5V~+16.5V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内部具有基准电压源，不用外接基准源；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内部集成有数据输入锁存器。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低功耗，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75mW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057400" y="4038480"/>
            <a:ext cx="5715000" cy="22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2.2  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AD558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电压输出模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D55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提供了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~+10V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~+2.56V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两种模拟电压输出范围，供不同的场合使用。其输出范围的选择依赖于简单的外部接线方式，使用起来很方便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D55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无须外部调整便可以获得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±1/2LS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精度的输出电压。下面分别介绍如何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D55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两种电压输出模式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V~+2.56V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模拟电压输出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V~+10V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模拟电压输出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514600" y="4114800"/>
            <a:ext cx="469116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2.3  AD558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数据锁存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D55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是一款内部集成数据输入锁存器的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转换器，在数字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模拟量转换时可以将输入数据锁存，减少干扰，而且可以方便地将多个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D55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连接到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位数据总线上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D55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的数据锁存由片选信号和芯片使能信号来控制。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D55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的控制逻辑功能图，如图所示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371600" y="3429000"/>
            <a:ext cx="65530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2:57:45Z</dcterms:created>
  <dc:creator>cheng</dc:creator>
  <dc:description/>
  <dc:language>en-US</dc:language>
  <cp:lastModifiedBy>cheng</cp:lastModifiedBy>
  <dcterms:modified xsi:type="dcterms:W3CDTF">2008-10-13T08:27:17Z</dcterms:modified>
  <cp:revision>2</cp:revision>
  <dc:subject/>
  <dc:title>第26章  D/A转换实例</dc:title>
</cp:coreProperties>
</file>