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FBB6-FB29-4485-9846-A23E3F8F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1658-D36C-4E89-BB49-853B1695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1E1-478E-404B-B13E-9C8F5543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7E0-1E57-4003-98FA-28236FA8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FC3D-C252-4D3B-8905-D5EDA2F2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C303-C489-43AA-8948-F005142A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9091-F4BD-45D6-B616-C8DB90DA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45A8-43C8-4DAE-8181-78D08942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7A36-4D66-41D6-8B7D-B9FC928C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B506-02F9-441E-99A3-4BF3C761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82BF-142D-4277-B954-8DB419ED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810-4AB9-4C7A-880B-28416889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562A-C0DD-44AC-8D9F-970EDD8A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7A6F-ED03-4A74-ADCA-2E6466FF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2B22-1930-4721-8C8E-50E8AC4C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4B6A-E8F9-4239-BFD9-8F907B65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E2BB-0A47-4689-BA5B-33B3761F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A7BE-687F-42E2-807C-19B96B45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8A6-CD72-4414-89A1-0D869F04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0BE-CED1-442C-8F46-972CD78B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40C-BA00-423E-9E14-08B79B48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185-CB19-445C-87C1-FEF13B7B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D749-E1CA-41C3-94DA-EB1B5B2D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5B48-E46E-4B0A-BB86-1F875156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BB4F-8FB8-4C46-9D93-E6C3A3D8AF75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DD1F-70FA-4AEA-9BFC-A9CBDE715AC2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1773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</a:rPr>
              <a:t>课题五    三端稳压电源电路设计安装与调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5733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分课题一     三端稳压电源电路设计安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11280" y="7650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元器件插装工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1628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由小到大，由里到外。布局合理，美观，减小相互交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2924280"/>
            <a:ext cx="72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导线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去绝缘层，多股铜芯线拧紧（单股铜芯线去氧化层），搪锡，焊接。金属裸露部分小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2mm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981000"/>
            <a:ext cx="7272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焊接工艺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具有良好的导电特性，具有一定机械强度，焊点光亮、清洁，圆滑，伞状，不应有毛刺、虚焊、假焊、漏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32130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安全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393372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正确使用仪表和设备安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使用电烙铁过程中注意放置，不要触及人身体和其它物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注意用电安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71640" y="76500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三、产品调试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1916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测量各点电压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39337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测量发光二极支路电流（调整电位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2565360"/>
          <a:ext cx="6192720" cy="1150920"/>
        </p:xfrm>
        <a:graphic>
          <a:graphicData uri="http://schemas.openxmlformats.org/drawingml/2006/table">
            <a:tbl>
              <a:tblPr/>
              <a:tblGrid>
                <a:gridCol w="1473120"/>
                <a:gridCol w="868320"/>
                <a:gridCol w="955800"/>
                <a:gridCol w="979560"/>
                <a:gridCol w="1031760"/>
                <a:gridCol w="8841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测试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zh-CN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压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332000" y="4508640"/>
          <a:ext cx="6553080" cy="1512720"/>
        </p:xfrm>
        <a:graphic>
          <a:graphicData uri="http://schemas.openxmlformats.org/drawingml/2006/table">
            <a:tbl>
              <a:tblPr/>
              <a:tblGrid>
                <a:gridCol w="4752720"/>
                <a:gridCol w="1800360"/>
              </a:tblGrid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二极管发光最弱时电路电流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二极管发光最强时电路电流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4360" y="76500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四、评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2060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电路能否正常工作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黑体"/>
              </a:rPr>
              <a:t>（发光二极管发光强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292428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电压值是否正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4508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焊接工艺是否规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371628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电路设计安装是否合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55640" y="836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五、教师点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191628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六、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731052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229600" cy="3248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11280" y="1125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电路原理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4836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26028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课题五    集成稳压电源电路装配与调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5373720"/>
            <a:ext cx="3456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滤波电路，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滤去脉动直流电中的交流纹波成分，变为平滑的直流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989000"/>
            <a:ext cx="1873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整流电路，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将交流电转换为单向脉动直流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206064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保险管</a:t>
            </a: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F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短路保护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3284640"/>
            <a:ext cx="1872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限流电阻</a:t>
            </a: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R1</a:t>
            </a: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、</a:t>
            </a: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分压限流保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1280" y="5229360"/>
            <a:ext cx="20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显示电路正常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51640" y="1844640"/>
            <a:ext cx="1297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可变电阻</a:t>
            </a:r>
            <a:r>
              <a:rPr b="0" lang="zh-CN" sz="2000" spc="-1" strike="noStrike">
                <a:solidFill>
                  <a:srgbClr val="cc0000"/>
                </a:solidFill>
                <a:latin typeface="Verdana"/>
                <a:ea typeface="黑体"/>
              </a:rPr>
              <a:t>RP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，调节电路中电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92720" y="170028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7812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自动稳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16000" y="1916280"/>
            <a:ext cx="583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电路安装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器件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器件引脚、导线整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插件、位置调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焊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调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83664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端稳压电源电路装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11280" y="692280"/>
            <a:ext cx="6048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54936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Verdana"/>
                <a:ea typeface="黑体"/>
              </a:rPr>
              <a:t>1</a:t>
            </a:r>
            <a:r>
              <a:rPr b="0" lang="zh-CN" sz="3600" spc="-1" strike="noStrike">
                <a:solidFill>
                  <a:srgbClr val="cc0000"/>
                </a:solidFill>
                <a:latin typeface="Verdana"/>
                <a:ea typeface="黑体"/>
              </a:rPr>
              <a:t>、线路设计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628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1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）根据三端稳压电源电路原理图绘制印刷安装电路草图，要求单面布局，考虑元器件安装位置，电路中不允许有非电气交叉连接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515772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2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）整体布局：根据原理图按功能法布局，元件排列合理美观，疏密有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6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836640"/>
            <a:ext cx="69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Verdana"/>
                <a:ea typeface="黑体"/>
              </a:rPr>
              <a:t>2</a:t>
            </a:r>
            <a:r>
              <a:rPr b="0" lang="zh-CN" sz="3200" spc="-1" strike="noStrike">
                <a:solidFill>
                  <a:srgbClr val="cc0000"/>
                </a:solidFill>
                <a:latin typeface="Verdana"/>
                <a:ea typeface="黑体"/>
              </a:rPr>
              <a:t>、</a:t>
            </a:r>
            <a:r>
              <a:rPr b="0" lang="zh-CN" sz="2800" spc="-1" strike="noStrike">
                <a:solidFill>
                  <a:srgbClr val="cc0000"/>
                </a:solidFill>
                <a:latin typeface="Verdana"/>
                <a:ea typeface="黑体"/>
              </a:rPr>
              <a:t>三端稳压电源电路安装连接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1916640"/>
            <a:ext cx="29509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导线连接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三端稳压电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电路结构简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采用功能布线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19280" y="3789360"/>
            <a:ext cx="3816360" cy="2233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211640" y="2349360"/>
            <a:ext cx="3743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2911680"/>
            <a:ext cx="26654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锡接走线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黑体"/>
              </a:rPr>
              <a:t>采用功能布置法，合理设计元件的安装位置，焊接线路清晰美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DZB6" descr=""/>
          <p:cNvPicPr/>
          <p:nvPr/>
        </p:nvPicPr>
        <p:blipFill>
          <a:blip r:embed="rId2"/>
          <a:stretch/>
        </p:blipFill>
        <p:spPr>
          <a:xfrm>
            <a:off x="3419640" y="1773360"/>
            <a:ext cx="54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62064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Verdana"/>
                <a:ea typeface="黑体"/>
              </a:rPr>
              <a:t>3</a:t>
            </a:r>
            <a:r>
              <a:rPr b="0" lang="zh-CN" sz="3200" spc="-1" strike="noStrike">
                <a:solidFill>
                  <a:srgbClr val="cc0000"/>
                </a:solidFill>
                <a:latin typeface="Verdana"/>
                <a:ea typeface="黑体"/>
              </a:rPr>
              <a:t>、电路中器件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360" y="1557360"/>
          <a:ext cx="7488000" cy="4292640"/>
        </p:xfrm>
        <a:graphic>
          <a:graphicData uri="http://schemas.openxmlformats.org/drawingml/2006/table">
            <a:tbl>
              <a:tblPr/>
              <a:tblGrid>
                <a:gridCol w="1947600"/>
                <a:gridCol w="1535400"/>
                <a:gridCol w="1699920"/>
                <a:gridCol w="1584360"/>
                <a:gridCol w="720720"/>
              </a:tblGrid>
              <a:tr h="54432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路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元件代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器件型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器件参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备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流电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D1---V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N4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 rowSpan="2"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滤波电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0uF/25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uF/16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保险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,R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若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光二极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集成稳压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M78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可调电位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R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7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116000" y="2997360"/>
          <a:ext cx="6048360" cy="197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997360"/>
                    <a:ext cx="6048360" cy="19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55640" y="765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电路装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306864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元器件成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53737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A≥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mm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；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≥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；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0~2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mm h≥2 mm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1700280"/>
            <a:ext cx="741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元器件引脚处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去氧化层，搪锡，根据安装位置成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07:36:59Z</dcterms:created>
  <dc:creator>微软中国</dc:creator>
  <dc:description/>
  <dc:language>en-US</dc:language>
  <cp:lastModifiedBy>微软中国</cp:lastModifiedBy>
  <dcterms:modified xsi:type="dcterms:W3CDTF">2011-04-01T22:55:35Z</dcterms:modified>
  <cp:revision>132</cp:revision>
  <dc:subject/>
  <dc:title>幻灯片 1</dc:title>
</cp:coreProperties>
</file>