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B07-C568-40D9-B51A-9865BE4C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0FD-4B76-4341-92BA-D04EA2D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086-EA3C-4F4C-8CDF-4BA2730F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C57-AC75-46D3-987D-B6AEE8E0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BAD1-2996-494F-9359-F166A35F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D156-9A14-4522-AC76-A080F2D6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7CF6-FF6B-4827-B063-EE62EF9C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C29F-ED4C-49D7-959C-DCF03A20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0ADC-4300-4811-A7A4-78E21C0F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24AE-F26B-4BDF-A667-626DA0D9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4D15-5D82-43A0-AB52-73CF7D58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1B3-4BA8-45A8-8C36-56AAECE8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F67B-BFD9-4476-8997-D208D0A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7230-2290-4620-9F78-A7EC833E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B54F-2196-4207-AFA2-E573E94C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68C0-61E2-4ED7-AF6A-D58A9398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6E4C-D122-4D1B-A7AC-30712B4A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EBA-A466-4B15-B92E-3D6E3834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0DD-DA08-406C-B0FB-0D2764A4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034-3AC5-43E8-B37C-E6F5C8B6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270-0C9A-465A-B869-ADEBC00E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BDE-DEF1-4D5D-A19F-BB35407F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182-5D01-47CE-9267-23D8E662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64B-B28B-486E-A023-26B78ED2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59EC-2A4F-44FA-A3D6-6EBA9CB092CF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32BA-1D6D-4A71-9D14-F49D07FAD3F5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16000" y="765000"/>
            <a:ext cx="741672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内容简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本书是根据教育部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修订的对中等职业学校电子专业学生的能力结构要求，针对电子专业的发展电视机课程的现状，结合中等职业学校电子专业学生的特点进行编写的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主要内容由四大模块组成：⑴电视的基础知识；⑵黑白电视机电路分析；⑶彩色电视机电路分析；⑷平板电视。其具体内容包括：电视基础知识，电视机的基本结构，黑白电视机电源电路分析，黑白电视机扫描电路分析，黑白电视机信号处理电路分析，彩色电视机电源电路分析，彩色电视机扫描电路分析，彩色电视机信号处理电路分析，遥控系统电路分析，液晶电视机，等离子电视机，数字电视技术等。每个知识单元包括学习要求、内容主体、单元小结、练习与习题等几个部分。本书对知识的阐述由浅入深，形成较完整的知识结构，在编写风格上，注重知识的实用性、浅显易懂、配以丰富的图表，使知识讲述更直观生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本书可作为中等职业学校电类专业的专业理论教学用书，也适宜作为专业维修人员的岗位培训教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0T01:46:42Z</dcterms:created>
  <dc:creator>USER</dc:creator>
  <dc:description/>
  <dc:language>en-US</dc:language>
  <cp:lastModifiedBy>USER</cp:lastModifiedBy>
  <dcterms:modified xsi:type="dcterms:W3CDTF">2010-07-10T01:50:48Z</dcterms:modified>
  <cp:revision>1</cp:revision>
  <dc:subject/>
  <dc:title>幻灯片 1</dc:title>
</cp:coreProperties>
</file>