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.jpeg" ContentType="image/jpeg"/>
  <Override PartName="/ppt/media/image10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72BB-1380-4737-B12F-742AEE1A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4097-F98F-4134-B465-E8F3CA8C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CEBC-6A54-44AE-9AA7-52EB1954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70EF-573B-4CC1-8FB4-BBB05572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1F39-FD4D-4CEE-944E-45E2F08A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78FF-9AD3-426F-8B78-49749546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1186-6FB1-4647-8B28-6FAC850F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BF3E-EF5C-45D8-83E2-BF1882F9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5155-7432-4B36-BF74-48557AA6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A874-A2F0-4622-8661-A3B1DD97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7F97-6197-4046-931F-024FB2A2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8314-97D3-4CF4-8F62-43ACFA93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AFFD-6013-4AA0-8F60-F5AC6E34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93AD-5816-4BBA-B7C1-0759E05C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18B4-FFB0-4B2E-AD56-D3755D73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5C67-7871-40CA-A18D-88C62795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60C3-E796-4C49-A67F-93625C74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A1A2-ECD6-4DFF-B540-6AF1B6EF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ACEE-4526-43B7-9E0F-C56A2718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69FE-2AD0-47C3-B579-C488EE85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27D3-26D9-48CE-9A1E-3F8FF5B4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7C52-DBE2-4109-8040-469A2E84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153D-9C10-4CC8-AE80-A3D9C914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535F-4DC8-4AE9-BDFC-494D25A4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136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81360"/>
            <a:ext cx="31366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6407-6071-43C4-BCDA-D3E6765DD55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2880" y="980640"/>
            <a:ext cx="928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466040" y="5229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7473960" y="6265440"/>
            <a:ext cx="230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451280" y="5740560"/>
            <a:ext cx="23115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D61D-9396-430D-A30D-44A097DC79C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981000"/>
            <a:ext cx="9361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章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单片机系统的扩展与接口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2520" y="1700280"/>
            <a:ext cx="9217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1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概  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2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存储器扩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3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并行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I/O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口扩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4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显示与键盘接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5 A/D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与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D/A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转换接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I/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的组成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992160" y="1197000"/>
            <a:ext cx="7272360" cy="3030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673600" y="260280"/>
            <a:ext cx="2303640" cy="865080"/>
          </a:xfrm>
          <a:prstGeom prst="wedgeRectCallout">
            <a:avLst>
              <a:gd name="adj1" fmla="val -50138"/>
              <a:gd name="adj2" fmla="val 90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种最基本的信息，可以分为数字量和模拟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48520" y="1773360"/>
            <a:ext cx="1857600" cy="863640"/>
          </a:xfrm>
          <a:prstGeom prst="wedgeRectCallout">
            <a:avLst>
              <a:gd name="adj1" fmla="val -125810"/>
              <a:gd name="adj2" fmla="val 378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单片机与外设之间交换信息的联络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84880" y="4149720"/>
            <a:ext cx="2089440" cy="863640"/>
          </a:xfrm>
          <a:prstGeom prst="wedgeRectCallout">
            <a:avLst>
              <a:gd name="adj1" fmla="val -79787"/>
              <a:gd name="adj2" fmla="val -1073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发给外设的命令，用于控制外设的工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1800" y="549000"/>
            <a:ext cx="8424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简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电路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31800" y="981000"/>
            <a:ext cx="532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锁存器扩展输出接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37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是一个具有使能控制端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锁存器。其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锁存器的工作原理：使能端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加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37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脉冲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上升沿将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上出现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据写入锁存器锁存。使能端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时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K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锁存器输出锁存的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容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10480" y="1052640"/>
            <a:ext cx="3095640" cy="4681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3319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024520" y="2852640"/>
                <a:ext cx="2667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76880" y="4076640"/>
                <a:ext cx="266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扩展单输出接口的连接电路如图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31440" y="5373720"/>
            <a:ext cx="8642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当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，在写信号     的上升沿，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机将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通过数据总线锁存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37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并向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输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5800" y="1413000"/>
            <a:ext cx="8929800" cy="3635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608880" y="5373720"/>
                <a:ext cx="5047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三态缓冲器扩展输入接口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设输入的数据和状态信号，可以通过数据输入三态缓冲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传送给单片机。通常使用的典型芯片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24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该芯片为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三态数据缓冲器，其引脚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081240" y="2349360"/>
            <a:ext cx="3672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24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单输入接口的电路如图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20880" y="1125360"/>
            <a:ext cx="806436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49240" y="-340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1800" y="404640"/>
            <a:ext cx="8569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锁存缓冲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37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输入接口，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10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9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接口电路如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04880" y="1844640"/>
            <a:ext cx="878508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片选信号之一。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选通外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626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0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选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。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数据存入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10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9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的程序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服务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03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入口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6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P1.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指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DP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P1.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指向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存入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DP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调整数据指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标志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49240" y="-2556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IT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为电平触发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100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数据区首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开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X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设置计数器初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清除自定义标志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NB  F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等待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R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 R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A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节未输入完继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数据输入完，关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EX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1800" y="907920"/>
            <a:ext cx="85694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可编程并行接口芯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扩展电路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0520" y="83664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构和引脚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的双列直插式集成电路芯片，其引脚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图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所示。其内部结构由四部分组成，如下图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319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568520" y="2276640"/>
            <a:ext cx="6985080" cy="4389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840880" y="2708280"/>
            <a:ext cx="792000" cy="576360"/>
          </a:xfrm>
          <a:prstGeom prst="wedgeRectCallout">
            <a:avLst>
              <a:gd name="adj1" fmla="val -103907"/>
              <a:gd name="adj2" fmla="val 190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电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0520" y="6165720"/>
            <a:ext cx="1295280" cy="576360"/>
          </a:xfrm>
          <a:prstGeom prst="wedgeRectCallout">
            <a:avLst>
              <a:gd name="adj1" fmla="val 70833"/>
              <a:gd name="adj2" fmla="val -236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组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组控制逻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49240" y="-3182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1800" y="475920"/>
            <a:ext cx="417672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82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控制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两种控制字，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控制字用来设置各端口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方式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来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任意一位进行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和复位操作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两种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制字都写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控制寄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器，用控制字的最高位标识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哪一种控制字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工作方式控制字的格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右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168880" y="404640"/>
            <a:ext cx="4537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04880" y="692280"/>
            <a:ext cx="85694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1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概  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642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扩展系统总线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系统扩展有并行扩展和串行扩展两种方法。并行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展通过单片机的三总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总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数据总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控制总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来实现，串行扩展是利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三总线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²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双总线的串行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任意一位都可以通过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来置位或复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项功能主要用于控制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格式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496880" y="2060640"/>
            <a:ext cx="698508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0520" y="475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82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单片机的连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连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424160" y="1700280"/>
            <a:ext cx="70578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31440" y="620280"/>
            <a:ext cx="8642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种工作方式的工作原理和应用举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713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这种工作方式下，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两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口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由程序选定作为输入或输出。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用于无条件传送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接口电路，这时不需要状态端口，三个端口都可以作为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根线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发光二极管，用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控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发光二极管依次亮灭。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控制字寄存器端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E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编写控制程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1800" y="54936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84520" y="1916280"/>
            <a:ext cx="61927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31800" y="549000"/>
            <a:ext cx="91454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控制字寄存器端口地址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8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方式控制字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E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FE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控制第一个发光二极管发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累加器送入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控制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光二极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ALL  DEL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延时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控制下一个发光二极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L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延时子程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569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种选通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作为数据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通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某些位作为联络信号，用于联络和中断，其功能是固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，不能由程序改变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余下未使用的位仍可以作为输入或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出使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的状态控制信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输入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208160" y="3068640"/>
            <a:ext cx="7488000" cy="2631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92520" y="2781360"/>
            <a:ext cx="1368720" cy="360360"/>
          </a:xfrm>
          <a:prstGeom prst="wedgeRectCallout">
            <a:avLst>
              <a:gd name="adj1" fmla="val -44199"/>
              <a:gd name="adj2" fmla="val 2129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通输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624880" y="3645000"/>
            <a:ext cx="1152360" cy="504720"/>
          </a:xfrm>
          <a:prstGeom prst="wedgeRectCallout">
            <a:avLst>
              <a:gd name="adj1" fmla="val -63773"/>
              <a:gd name="adj2" fmla="val 90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缓冲器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37600" y="5229360"/>
            <a:ext cx="1008000" cy="647640"/>
          </a:xfrm>
          <a:prstGeom prst="wedgeRectCallout">
            <a:avLst>
              <a:gd name="adj1" fmla="val -65907"/>
              <a:gd name="adj2" fmla="val -87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4520" y="3429000"/>
            <a:ext cx="1368360" cy="504720"/>
          </a:xfrm>
          <a:prstGeom prst="wedgeRectCallout">
            <a:avLst>
              <a:gd name="adj1" fmla="val 66703"/>
              <a:gd name="adj2" fmla="val 77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允许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2160" y="-674640"/>
            <a:ext cx="53992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的控制信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输出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输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849240" y="1341360"/>
            <a:ext cx="7850160" cy="29545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592520" y="907920"/>
            <a:ext cx="1224000" cy="576360"/>
          </a:xfrm>
          <a:prstGeom prst="wedgeRectCallout">
            <a:avLst>
              <a:gd name="adj1" fmla="val -55837"/>
              <a:gd name="adj2" fmla="val 2296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缓冲器满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769240" y="1628640"/>
            <a:ext cx="1136880" cy="576360"/>
          </a:xfrm>
          <a:prstGeom prst="wedgeRectCallout">
            <a:avLst>
              <a:gd name="adj1" fmla="val -79328"/>
              <a:gd name="adj2" fmla="val 681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设应答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31800" y="475920"/>
            <a:ext cx="8858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开关，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发光二极管，用单稳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路产生响应，接口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设计控制程序，使得改变端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开关输入状态，用选通信号通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状态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，驱动相应的发光二极管，使发光二极管显示开关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路图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784520" y="2421000"/>
            <a:ext cx="712944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31800" y="115560"/>
            <a:ext cx="8858160" cy="72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程序如下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主程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 800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I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94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为方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为方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05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C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允许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开中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IT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边沿触发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X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$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等待中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服务程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03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入口地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6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7FF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@D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读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状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DPTR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L 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状态送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控制发光二极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双向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方式，只用于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它用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控制总线，此时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用于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用于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序查询方式，也可用于中断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字和状态控制信号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136520" y="2852640"/>
            <a:ext cx="756144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60160" y="-237960"/>
            <a:ext cx="26636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外部并行扩展的总线结构如下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8880" y="1125360"/>
            <a:ext cx="8785440" cy="4564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3645000"/>
            <a:ext cx="2216160" cy="2808360"/>
          </a:xfrm>
          <a:prstGeom prst="wedgeRectCallout">
            <a:avLst>
              <a:gd name="adj1" fmla="val 34240"/>
              <a:gd name="adj2" fmla="val -1200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传送单片机送出的地址信号，以便进行存储单元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的选择。地址总线的位数决定着可访问的存储器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容量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地址总线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提供，宽度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故可寻址范围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4 K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45240" y="0"/>
            <a:ext cx="1871640" cy="1341360"/>
          </a:xfrm>
          <a:prstGeom prst="wedgeRectCallout">
            <a:avLst>
              <a:gd name="adj1" fmla="val 33800"/>
              <a:gd name="adj2" fmla="val 1000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在单片机与存储器之间或单片机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之间传送数据。数据总线是双向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45400" y="3789360"/>
            <a:ext cx="2160720" cy="1441440"/>
          </a:xfrm>
          <a:prstGeom prst="wedgeRectCallout">
            <a:avLst>
              <a:gd name="adj1" fmla="val -43976"/>
              <a:gd name="adj2" fmla="val -117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实质上是一组控制信号线，包括片外系统扩展用控制线和片外信号对单片机的控制线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60160" y="980640"/>
            <a:ext cx="8713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利用可编程接口芯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31800" y="105264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构与接口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是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双列直插式集成电路芯片，其引脚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列和内部组成如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568520" y="2421000"/>
            <a:ext cx="705636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31800" y="69192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81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命令状态字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命令状态寄存器实际上是两个寄存器，分别存放命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状态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281240" y="2492280"/>
            <a:ext cx="70563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49240" y="-232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1800" y="475920"/>
            <a:ext cx="842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状态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81240" y="1413000"/>
            <a:ext cx="75596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0488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81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的连接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0160" y="764640"/>
            <a:ext cx="360036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麻烦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O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号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O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有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上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相应的信号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O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形成有多种方法，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形成方法对应着不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址方式。下面介绍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的两种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图：或非门产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O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图：高位地址直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376880" y="189000"/>
            <a:ext cx="5184720" cy="2981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448160" y="3429000"/>
            <a:ext cx="51847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81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定时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是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的减法计数器，由两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器组成，其中高两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定义计数器输出的信号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，其结构如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568520" y="2708280"/>
          <a:ext cx="5472000" cy="502920"/>
        </p:xfrm>
        <a:graphic>
          <a:graphicData uri="http://schemas.openxmlformats.org/drawingml/2006/table">
            <a:tbl>
              <a:tblPr/>
              <a:tblGrid>
                <a:gridCol w="677880"/>
                <a:gridCol w="674640"/>
                <a:gridCol w="676080"/>
                <a:gridCol w="676440"/>
                <a:gridCol w="676080"/>
                <a:gridCol w="677880"/>
                <a:gridCol w="673200"/>
                <a:gridCol w="73980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 rot="16200000">
            <a:off x="2072520" y="2851920"/>
            <a:ext cx="358560" cy="1224000"/>
          </a:xfrm>
          <a:custGeom>
            <a:avLst/>
            <a:gdLst>
              <a:gd name="textAreaLeft" fmla="*/ 228960 w 358560"/>
              <a:gd name="textAreaRight" fmla="*/ 358560 w 3585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39800" y="3716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4735440" y="1630080"/>
            <a:ext cx="288720" cy="3743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97560 h 3743640"/>
              <a:gd name="textAreaBottom" fmla="*/ 3646080 h 374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44880" y="3716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84520" y="4437000"/>
          <a:ext cx="5040000" cy="455760"/>
        </p:xfrm>
        <a:graphic>
          <a:graphicData uri="http://schemas.openxmlformats.org/drawingml/2006/table">
            <a:tbl>
              <a:tblPr/>
              <a:tblGrid>
                <a:gridCol w="628560"/>
                <a:gridCol w="631800"/>
                <a:gridCol w="628560"/>
                <a:gridCol w="631800"/>
                <a:gridCol w="630360"/>
                <a:gridCol w="628560"/>
                <a:gridCol w="631800"/>
                <a:gridCol w="628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 rot="16200000">
            <a:off x="4125600" y="2672640"/>
            <a:ext cx="358920" cy="4896000"/>
          </a:xfrm>
          <a:custGeom>
            <a:avLst/>
            <a:gdLst>
              <a:gd name="textAreaLeft" fmla="*/ 229320 w 358920"/>
              <a:gd name="textAreaRight" fmla="*/ 359280 w 358920"/>
              <a:gd name="textAreaTop" fmla="*/ 127440 h 4896000"/>
              <a:gd name="textAreaBottom" fmla="*/ 4768560 h 489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13240" y="5373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565360"/>
            <a:ext cx="1496880" cy="2303640"/>
          </a:xfrm>
          <a:prstGeom prst="wedgeRectCallout">
            <a:avLst>
              <a:gd name="adj1" fmla="val 82662"/>
              <a:gd name="adj2" fmla="val -13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2 M1=00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个方波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2 M1=01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连续方波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2 M1=10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个脉冲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2 M1=11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连续脉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5589720"/>
            <a:ext cx="40323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8064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工作方式由命令字中的高两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控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=00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操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=01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停止计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=10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减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停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=11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开始计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任务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8—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据采集和分析系统之并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扩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见动画十六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并行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I/O</a:t>
            </a: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扩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88520" y="765000"/>
            <a:ext cx="87138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4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与键盘接口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31440" y="836280"/>
            <a:ext cx="86425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接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是常用的输出设备之一，目前使用较多的显示器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码显示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液晶显示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LE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如何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光二极管的工作原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低电平时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高电平，二极管发光；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平，二极管不发光。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高电平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任何电平，二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管均不发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44880" y="4365720"/>
            <a:ext cx="345600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3144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笔段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结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常所说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发光二极管组成，其引脚及笔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排列如图所示。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段用于显示数字、字符的笔划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数点，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连接，作为公共端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的发光二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管有共阳极和共阴极两种连接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920880" y="2708280"/>
            <a:ext cx="82087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的结构可以看出，不同笔段的组合就可以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同的字符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共阴级编码见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60520" y="1413000"/>
            <a:ext cx="8856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9240" y="-232560"/>
            <a:ext cx="8352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04880" y="475920"/>
            <a:ext cx="8424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8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单片机的三总线引脚结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992160" y="1197000"/>
            <a:ext cx="7345440" cy="5153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040520" y="2924280"/>
            <a:ext cx="1800360" cy="863640"/>
          </a:xfrm>
          <a:prstGeom prst="wedgeRectCallout">
            <a:avLst>
              <a:gd name="adj1" fmla="val -85097"/>
              <a:gd name="adj2" fmla="val 656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锁存允许信号，输出。用于低字节地址锁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84880" y="3860640"/>
            <a:ext cx="2089440" cy="576360"/>
          </a:xfrm>
          <a:prstGeom prst="wedgeRectCallout">
            <a:avLst>
              <a:gd name="adj1" fmla="val -74847"/>
              <a:gd name="adj2" fmla="val 10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程序存储器读选通信号，输出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13600" y="4581360"/>
            <a:ext cx="2376360" cy="1008360"/>
          </a:xfrm>
          <a:prstGeom prst="wedgeRectCallout">
            <a:avLst>
              <a:gd name="adj1" fmla="val -73648"/>
              <a:gd name="adj2" fmla="val -47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存储器访问允许信号，输入。当为低电平时，只访问外部程序存储器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32160" y="4076640"/>
            <a:ext cx="1729080" cy="576360"/>
          </a:xfrm>
          <a:prstGeom prst="wedgeRectCallout">
            <a:avLst>
              <a:gd name="adj1" fmla="val 65333"/>
              <a:gd name="adj2" fmla="val 132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中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中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输入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60880" y="5229360"/>
            <a:ext cx="1800360" cy="576000"/>
          </a:xfrm>
          <a:prstGeom prst="wedgeRectCallout">
            <a:avLst>
              <a:gd name="adj1" fmla="val 61638"/>
              <a:gd name="adj2" fmla="val 48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数据存储器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写选通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驱动电路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连接时一般可以采用分立元件（如：三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管）或驱动芯片来增强驱动能力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208160" y="1989000"/>
            <a:ext cx="698508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60520" y="692280"/>
            <a:ext cx="8424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接口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显示接口电路由笔段代码锁存器、笔段译码器（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译码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显示接口电路不需要译码器）等部分组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译码方式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动程序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1000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取笔段代码表首地址，送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C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@A+D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相应笔段代码送到累加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P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取出的笔段代码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100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B  C0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F9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A4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B0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9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笔段代码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496880" y="4292640"/>
            <a:ext cx="58327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硬件译码方式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接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该电路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D45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锁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译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驱动电路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72880" y="1484280"/>
            <a:ext cx="7490160" cy="4194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8193240" y="1916280"/>
            <a:ext cx="1485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49240" y="-52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30H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取显示缓冲区首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8000H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个位端口地址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S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显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   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   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 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34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动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接口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显示接口虽然显示程序简单，但由于占用过多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，不适合多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接口。实际应用中，多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器通常是采用动态扫描的方法进行显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动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电路一般由三个部分组成，即显示器、字形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驱动器和字位锁存驱动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920880" y="3068640"/>
            <a:ext cx="734364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49240" y="414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31440" y="476280"/>
            <a:ext cx="86425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显示接口电路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065240" y="1268280"/>
            <a:ext cx="777564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31440" y="259920"/>
            <a:ext cx="871380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程序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缓冲区首址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1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位控码初值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R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取出显示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1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调整偏移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A+P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查表取字形代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输出字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P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通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输出字位，并锁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ALL  D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延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R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转向下一缓冲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B  ACC.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判断是否到最高位，到则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向显示器高位移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位控码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LD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继续扫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S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B  3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B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字形代码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延时程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1440" y="-191520"/>
            <a:ext cx="8642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31440" y="404640"/>
            <a:ext cx="86425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键盘接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键盘接口需要解决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键盘电路形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键盘按键编码和按键功能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键盘监控方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按键去抖动问题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简单键盘接口电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简单键盘接口电路采用直接编码输入方式，每一个按键独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接入一根输入线，如图所示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281240" y="1989000"/>
            <a:ext cx="5543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4978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式键盘接口电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1440" y="764640"/>
            <a:ext cx="8642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矩阵式键盘输入电路一般由输出锁存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输入缓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列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键盘开关矩阵三个部分组成，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792520" y="1773360"/>
            <a:ext cx="3762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1800" y="981000"/>
            <a:ext cx="85694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外部扩展能力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片外存储器的扩展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可扩展的数据存储器和程序存储器的最大容量都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4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目前在一些需要扩展大容量存储器的场合（如汉字库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统），采用页面访问技术可以实现超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4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扩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I/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扩展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扩展数量不多且功能简单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时，常常采用锁存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缓冲器；采用可编程接口芯片来扩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，可以完成复杂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功能，如：扩展并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扩展串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扩展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497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9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采集和分析系统之显示与键盘接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七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显示与键盘接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的工作原理及接口技术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L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的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(Liquid  Crystal  Devic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，即液晶显示器，属于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利用光反射的被动显示器件，适合在明亮场合下使用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具有体积小、重量轻、工作电压低、功能耗小等特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广泛用作各类电子设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钟表、计算器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、手机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示器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分为动态散射型和场效应型两大类，而场效应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分为反射式场效应型和透射式场效应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L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驱动电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31440" y="764640"/>
            <a:ext cx="86425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电路中，最常用的方法是将交流驱动信号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控制信号异或后接上电极，而交流驱动信号接下电极，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所示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88880" y="2781360"/>
            <a:ext cx="84963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49240" y="-3542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电路也分为静态显示驱动和动态显示驱动两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方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极连接方式有关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静态显示驱动方式，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只能使用动态显示驱动方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712880" y="1916280"/>
            <a:ext cx="7128000" cy="42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5  A/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接口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接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A/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是将模拟量转换成数字量的器件，简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种类繁多，就其位数来分，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等。位数越多，其分辨率越高，价格也越贵。按照其转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可分为四种，即：逐次逼近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、双积分式转换器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和并行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31800" y="54936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ADC080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结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M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艺制成的带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道模拟输入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逐次逼近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封装，片内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路模拟开关及地址锁存与译码电路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和三态输出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冲器。其内部结构和引脚分配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136520" y="2565360"/>
            <a:ext cx="7129440" cy="4041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712880" y="2637000"/>
            <a:ext cx="1079640" cy="504720"/>
          </a:xfrm>
          <a:prstGeom prst="wedgeRectCallout">
            <a:avLst>
              <a:gd name="adj1" fmla="val 60736"/>
              <a:gd name="adj2" fmla="val 1261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路模拟输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352520" y="5661000"/>
            <a:ext cx="1368360" cy="576360"/>
          </a:xfrm>
          <a:prstGeom prst="wedgeRectCallout">
            <a:avLst>
              <a:gd name="adj1" fmla="val 64152"/>
              <a:gd name="adj2" fmla="val -130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模拟通道选择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65600" y="6021360"/>
            <a:ext cx="1295280" cy="647640"/>
          </a:xfrm>
          <a:prstGeom prst="wedgeRectCallout">
            <a:avLst>
              <a:gd name="adj1" fmla="val -36398"/>
              <a:gd name="adj2" fmla="val -1294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锁存允许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29240" y="1916280"/>
            <a:ext cx="1584360" cy="288720"/>
          </a:xfrm>
          <a:prstGeom prst="wedgeRectCallout">
            <a:avLst>
              <a:gd name="adj1" fmla="val -29861"/>
              <a:gd name="adj2" fmla="val 184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启动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697960" y="4076640"/>
            <a:ext cx="934920" cy="504720"/>
          </a:xfrm>
          <a:prstGeom prst="wedgeRectCallout">
            <a:avLst>
              <a:gd name="adj1" fmla="val -105689"/>
              <a:gd name="adj2" fmla="val -10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输出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048520" y="5950080"/>
            <a:ext cx="1152720" cy="504720"/>
          </a:xfrm>
          <a:prstGeom prst="wedgeRectCallout">
            <a:avLst>
              <a:gd name="adj1" fmla="val -103444"/>
              <a:gd name="adj2" fmla="val 36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允许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121600" y="2276640"/>
            <a:ext cx="1152720" cy="576000"/>
          </a:xfrm>
          <a:prstGeom prst="wedgeRectCallout">
            <a:avLst>
              <a:gd name="adj1" fmla="val -57990"/>
              <a:gd name="adj2" fmla="val 103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结束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05600" y="6524640"/>
            <a:ext cx="1439640" cy="333360"/>
          </a:xfrm>
          <a:prstGeom prst="wedgeRectCallout">
            <a:avLst>
              <a:gd name="adj1" fmla="val -61796"/>
              <a:gd name="adj2" fmla="val -828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基准电压输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4978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ADC080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连接和编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接口电路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712880" y="1268280"/>
            <a:ext cx="597708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0160" y="47628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单片机的连接电路中需要考虑转换数据的传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。启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后，单片机可以用查询方式（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到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上）或者中断方式（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到或上）了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否结束；也可以使用定时传送方式实现转换数据的传送。上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采用中断方式进行数据传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采用中断控制方式采集数据的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0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跳转主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13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入口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JMP  IN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跳转中断服务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3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数据区首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8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通道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I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选择为边沿触发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中断允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X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允许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8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通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49240" y="-1238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EX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中断标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启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B  F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等待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JNZ 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服务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DP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数据采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@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转换结果存入内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DP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指向下一模拟通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R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指向数据区下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清中断标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中断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述程序如果采用查询方式，应如何修改程序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接口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31440" y="764640"/>
            <a:ext cx="864252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D/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概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（简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一种将数字信号转换成模拟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器件，其原理结构框图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输出模拟电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与输入数字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参考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关系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2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二进制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=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2ⁿ¯¹+ 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-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2ⁿ¯² +……+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2¹ +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2º 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,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992160" y="2205000"/>
            <a:ext cx="77058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2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存储器扩展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69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程序存储器扩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存储器种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掩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M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户只能读出程序，而不能更改其中的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容。适合应用于大批量的生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可编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在出厂时没有任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息，用户可以用专门的编程器将程序写到芯片中去。该芯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只能写入一次，不能进行修改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可擦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允许用户用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线反复擦除写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电擦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可以用电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擦除或写入程序，适合在应用系统中进行在线改写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lash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快闪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最大特点是必须按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Bl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擦除 ，目前被广泛用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的主板上，用来保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I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便于进行程序的升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DAC083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结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31440" y="764640"/>
            <a:ext cx="8642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双列直插式封装。其内部结构和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脚排列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352520" y="1773360"/>
            <a:ext cx="7561440" cy="35128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28520" y="1557360"/>
            <a:ext cx="1368360" cy="504720"/>
          </a:xfrm>
          <a:prstGeom prst="wedgeRectCallout">
            <a:avLst>
              <a:gd name="adj1" fmla="val 63574"/>
              <a:gd name="adj2" fmla="val 114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141720"/>
            <a:ext cx="1208160" cy="574560"/>
          </a:xfrm>
          <a:prstGeom prst="wedgeRectCallout">
            <a:avLst>
              <a:gd name="adj1" fmla="val 93231"/>
              <a:gd name="adj2" fmla="val 82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片选信号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349360"/>
            <a:ext cx="1352520" cy="574920"/>
          </a:xfrm>
          <a:prstGeom prst="wedgeRectCallout">
            <a:avLst>
              <a:gd name="adj1" fmla="val 73356"/>
              <a:gd name="adj2" fmla="val 126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输入锁存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789360"/>
            <a:ext cx="1136520" cy="863640"/>
          </a:xfrm>
          <a:prstGeom prst="wedgeRectCallout">
            <a:avLst>
              <a:gd name="adj1" fmla="val 103212"/>
              <a:gd name="adj2" fmla="val -13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锁存器写选通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5013360"/>
            <a:ext cx="1568520" cy="503280"/>
          </a:xfrm>
          <a:prstGeom prst="wedgeRectCallout">
            <a:avLst>
              <a:gd name="adj1" fmla="val 58097"/>
              <a:gd name="adj2" fmla="val -124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传送控制信号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928880" y="5373720"/>
            <a:ext cx="1655640" cy="792000"/>
          </a:xfrm>
          <a:prstGeom prst="wedgeRectCallout">
            <a:avLst>
              <a:gd name="adj1" fmla="val -47601"/>
              <a:gd name="adj2" fmla="val -188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寄存器写选通信号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65600" y="1125360"/>
            <a:ext cx="1513080" cy="648000"/>
          </a:xfrm>
          <a:prstGeom prst="wedgeRectCallout">
            <a:avLst>
              <a:gd name="adj1" fmla="val 47375"/>
              <a:gd name="adj2" fmla="val 1794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模拟电流输出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16880" y="1268280"/>
            <a:ext cx="1224000" cy="574920"/>
          </a:xfrm>
          <a:prstGeom prst="wedgeRectCallout">
            <a:avLst>
              <a:gd name="adj1" fmla="val -143254"/>
              <a:gd name="adj2" fmla="val 24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反馈信号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248520" y="1268280"/>
            <a:ext cx="1152360" cy="574920"/>
          </a:xfrm>
          <a:prstGeom prst="wedgeRectCallout">
            <a:avLst>
              <a:gd name="adj1" fmla="val -38842"/>
              <a:gd name="adj2" fmla="val 128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参考电压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5300640"/>
            <a:ext cx="936720" cy="360360"/>
          </a:xfrm>
          <a:prstGeom prst="wedgeRectCallout">
            <a:avLst>
              <a:gd name="adj1" fmla="val 82375"/>
              <a:gd name="adj2" fmla="val -522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模拟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32520" y="5300640"/>
            <a:ext cx="936720" cy="360360"/>
          </a:xfrm>
          <a:prstGeom prst="wedgeRectCallout">
            <a:avLst>
              <a:gd name="adj1" fmla="val -20337"/>
              <a:gd name="adj2" fmla="val -272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字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60160" y="907560"/>
            <a:ext cx="84978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DAC083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单片机的接口和编程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单片机的接口由八条数据输入线、两个写选通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     和    、片选信号    、允许输入锁存信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传送控制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      组成。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工作方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直通方式  将   、  、  和   接地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接高电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缓冲方式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个寄存器中的一个工作在直通状态，另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于受控的锁存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双缓冲方式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两个寄存器都处于受控的锁存状态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920880" y="1341360"/>
                <a:ext cx="5032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712880" y="1341360"/>
                <a:ext cx="5047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2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081240" y="2205000"/>
                <a:ext cx="360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920880" y="1773360"/>
                <a:ext cx="7189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XFER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584520" y="2276640"/>
                <a:ext cx="50328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232160" y="2276640"/>
                <a:ext cx="50508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2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881600" y="2205000"/>
                <a:ext cx="7192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XFER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49240" y="-2556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31440" y="476280"/>
            <a:ext cx="86425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单缓冲方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接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1136520" y="1197000"/>
            <a:ext cx="62643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输入寄存器的端口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则以下指令可将存放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数字量转换为模拟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面的程序可以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连续锯齿波电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输入寄存器端口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0H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转换初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   A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转换值增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P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 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240160" y="4437000"/>
            <a:ext cx="40341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31800" y="549360"/>
            <a:ext cx="33847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双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冲方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接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输入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器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寄存器地址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B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于是完成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模转换的程序段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DPT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BFF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160880" y="404640"/>
            <a:ext cx="5473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0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采集和分析系统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04520" y="259920"/>
            <a:ext cx="8280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测试与练习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31800" y="119664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设计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用线选法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两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716 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通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和译码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13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计一个含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键的键盘和显示接口电路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86425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程序存储器扩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见动画八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程序存储器扩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800" y="7646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、数据存储器扩展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642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Arial"/>
                <a:ea typeface="宋体"/>
              </a:rPr>
              <a:t>见动画九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cc6600"/>
                </a:solidFill>
                <a:latin typeface="Arial"/>
                <a:ea typeface="宋体"/>
              </a:rPr>
              <a:t>数据存储器扩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.3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并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I/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口扩展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I/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地址译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信息转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数据缓冲与锁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通信联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2:26:23Z</dcterms:created>
  <dc:creator>艳之语</dc:creator>
  <dc:description/>
  <cp:keywords/>
  <dc:language>en-US</dc:language>
  <cp:lastModifiedBy>hep</cp:lastModifiedBy>
  <dcterms:modified xsi:type="dcterms:W3CDTF">2008-07-14T08:11:07Z</dcterms:modified>
  <cp:revision>72</cp:revision>
  <dc:subject/>
  <dc:title>第3章  指令系统与汇编语言程序设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82052</vt:lpwstr>
  </property>
</Properties>
</file>