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wmf" ContentType="image/x-wmf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3FCC-0AB8-4D4A-B6FA-37FA9DE94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D61D-ED68-4B4E-907F-87A55409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43C7-0012-439F-9344-A843E58B1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72F9-18DF-4E46-A90A-D0419A806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0BE7-A38F-483E-87AC-8BBB6F25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8665-FD6A-44E9-B394-68615D3C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F3A1-49ED-4861-9D22-23887557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CEBF-3B82-4711-93B5-B222C0FB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C007-9E16-472C-A644-E855DF5F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4C80-A875-476E-890E-CF639F84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8DF1-2D85-4100-A728-C36E71C3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6059-50D9-424F-9538-EA8EE2FC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7258-7F67-4BF7-9274-3A110778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47D5-30D9-4985-888E-458E8673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F757-EEA0-44E2-8C10-BBD894FC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843A-6159-4EFC-AC34-6CA7CE3CA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CBC6-E1B4-4FD8-BEFC-B2A019D1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AA08-841F-442D-A5B7-7A2715C3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86EC-4D9C-464E-B197-C2E47AB3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9453-C5C1-4EB6-ACB7-350B13C8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4930-AE46-4869-848E-D50EDF3F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77E2-5B38-46AD-815B-74026D9C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4B12-A3BC-4834-9B24-5FDAE2C5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9B10-82E3-4FF4-8BBB-E52B9E78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81360"/>
            <a:ext cx="23112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81360"/>
            <a:ext cx="31366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81360"/>
            <a:ext cx="23115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1CE5-11DC-4C13-BDEA-6830F72342D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2880" y="980640"/>
            <a:ext cx="9288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466040" y="522900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7473960" y="6265440"/>
            <a:ext cx="230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451280" y="5740560"/>
            <a:ext cx="23115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C8B6-35EC-4A8E-8907-5F7560DC452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981000"/>
            <a:ext cx="9361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章  中断系统、定时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和串行口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2520" y="1700280"/>
            <a:ext cx="9217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.1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中断系统</a:t>
            </a:r>
            <a:r>
              <a:rPr b="0" lang="zh-CN" sz="3200" spc="-1" strike="noStrike">
                <a:solidFill>
                  <a:srgbClr val="33cc33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4.2  </a:t>
            </a:r>
            <a:r>
              <a:rPr b="0" lang="zh-CN" sz="3200" spc="-1" strike="noStrike">
                <a:solidFill>
                  <a:srgbClr val="cc6600"/>
                </a:solidFill>
                <a:latin typeface="宋体"/>
                <a:ea typeface="宋体"/>
              </a:rPr>
              <a:t>定时器</a:t>
            </a:r>
            <a:r>
              <a:rPr b="0" lang="en-US" sz="3200" spc="-1" strike="noStrike">
                <a:solidFill>
                  <a:srgbClr val="cc6600"/>
                </a:solidFill>
                <a:latin typeface="宋体"/>
                <a:ea typeface="宋体"/>
              </a:rPr>
              <a:t>/</a:t>
            </a:r>
            <a:r>
              <a:rPr b="0" lang="zh-CN" sz="3200" spc="-1" strike="noStrike">
                <a:solidFill>
                  <a:srgbClr val="cc6600"/>
                </a:solidFill>
                <a:latin typeface="宋体"/>
                <a:ea typeface="宋体"/>
              </a:rPr>
              <a:t>计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宋体"/>
                <a:ea typeface="宋体"/>
              </a:rPr>
              <a:t>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4.3  </a:t>
            </a:r>
            <a:r>
              <a:rPr b="0" lang="zh-CN" sz="3200" spc="-1" strike="noStrike">
                <a:solidFill>
                  <a:srgbClr val="cc6600"/>
                </a:solidFill>
                <a:latin typeface="宋体"/>
                <a:ea typeface="宋体"/>
              </a:rPr>
              <a:t>串行口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查询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在每个机器周期结束时查询中断源是否有中断申请，若没有，则继续当前任务；若有，则自动设置相应中断请求标志位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448160" y="3068640"/>
                <a:ext cx="57636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INT0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376880" y="2781360"/>
                <a:ext cx="57600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INT0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376880" y="4292640"/>
                <a:ext cx="57600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INT1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graphicFrame>
        <p:nvGraphicFramePr>
          <p:cNvPr id="116" name=""/>
          <p:cNvGraphicFramePr/>
          <p:nvPr/>
        </p:nvGraphicFramePr>
        <p:xfrm>
          <a:off x="1496880" y="1832040"/>
          <a:ext cx="7488360" cy="5025960"/>
        </p:xfrm>
        <a:graphic>
          <a:graphicData uri="http://schemas.openxmlformats.org/drawingml/2006/table">
            <a:tbl>
              <a:tblPr/>
              <a:tblGrid>
                <a:gridCol w="1638360"/>
                <a:gridCol w="4483080"/>
                <a:gridCol w="1366920"/>
              </a:tblGrid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有效的申请信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设置的标志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外部中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T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=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，       引脚为低电平申请中断；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T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=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，        引脚有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负跳变信号申请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E0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时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当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计满溢出时申请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F0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外部中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=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，        引脚为低电平申请中断；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=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，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引脚有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负跳变信号申请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E1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时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当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计满溢出时申请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F1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串行口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当发送完一帧数据时申请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I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当接收完一帧数据时申请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0" y="33195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448160" y="4724280"/>
                <a:ext cx="5047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INT1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49240" y="-31824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的响应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请求标志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开放，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A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且相应中断允许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无同级或更高优先级中断正在被服务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保证指令执行得正确，必须现行指令执行完，若现行指令为中断返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T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访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寄存器指令，必须执行完该指令和紧接着的下一条指令后才能响应中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注：上述只要有一个条件不满足，就不会立即响应中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49240" y="-29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48880" y="764640"/>
            <a:ext cx="41036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响应中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首先设置相应的优先级状态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发器，以便屏蔽后面的同级或低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请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保护现行程序断点地址，即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当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内容送入堆栈（硬件执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CAL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指定的中断服务程序入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规定各中断源有相应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服务程序入口地址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313240" y="1052640"/>
          <a:ext cx="4103280" cy="4751640"/>
        </p:xfrm>
        <a:graphic>
          <a:graphicData uri="http://schemas.openxmlformats.org/drawingml/2006/table">
            <a:tbl>
              <a:tblPr/>
              <a:tblGrid>
                <a:gridCol w="1996560"/>
                <a:gridCol w="2106720"/>
              </a:tblGrid>
              <a:tr h="79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服务程序入口地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外部中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003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时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00B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外部中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013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时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01B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串行口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023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49240" y="-196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中断服务程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断服务程序的设计不仅要考虑完成相应的服务任务，而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还要考虑现场保护与现场恢复，以便保护主程序中不应破坏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数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返回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T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如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清除响应时设置的优先级状态触发器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恢复主程序断点地址，即把堆栈的内容送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请求的撤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响应某中断后，在返回之前必须撤除上一次中断请求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会错误地引起另一次中断的发生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1440" y="549360"/>
            <a:ext cx="86425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四、外部中断源的扩展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1800" y="836640"/>
            <a:ext cx="8569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只有两个外部中断源，在实际应用中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会遇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多个外设进行服务的情况，此时系统需要扩展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部中断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部中断源的扩展有两种方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利用查询方式扩展外部中断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利用定时器扩展外部中断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31440" y="1125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4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与打印机的数据传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二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单片机与打印机数据传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31800" y="620280"/>
            <a:ext cx="85694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60160" y="56304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.2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31440" y="981000"/>
            <a:ext cx="8642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内部集成有两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定时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的总体结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结构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76160" y="2997360"/>
            <a:ext cx="8280360" cy="3535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897600" y="2276640"/>
            <a:ext cx="1943280" cy="647640"/>
          </a:xfrm>
          <a:prstGeom prst="wedgeRectCallout">
            <a:avLst>
              <a:gd name="adj1" fmla="val -32759"/>
              <a:gd name="adj2" fmla="val 1073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特殊功能寄存器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TH0,TLO.TH1,TL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方式寄存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31800" y="1125360"/>
            <a:ext cx="8569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特殊功能寄存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MO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控制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的启动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式、计数脉冲源的选择、工作方式的选择。其各位含义如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92160" y="2421000"/>
            <a:ext cx="806436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控制寄存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C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31440" y="1125360"/>
            <a:ext cx="8642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各位含义如图所示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568520" y="1628640"/>
            <a:ext cx="676728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定时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工作方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时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计数器的基本工作过程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000160" y="1628640"/>
            <a:ext cx="511344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48880" y="563040"/>
            <a:ext cx="84250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1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系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31440" y="1600200"/>
            <a:ext cx="864252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输入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输出方式及中断的概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方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外设的信息交换称为输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输出。输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输出方式有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种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无条件传送方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681960" y="3500280"/>
            <a:ext cx="1839600" cy="2376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857240" y="4365720"/>
            <a:ext cx="3382920" cy="1871640"/>
          </a:xfrm>
          <a:prstGeom prst="wedgeRectCallout">
            <a:avLst>
              <a:gd name="adj1" fmla="val 94111"/>
              <a:gd name="adj2" fmla="val -25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的传送取决于程序执行输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指令，而与外设的状态无关。它适合于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同步的快速设备或状态已知外设，软、硬件系统简单。如：驱动继电器、驱动数码显示器等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31440" y="907920"/>
            <a:ext cx="86425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的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计数器结构，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原理图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065240" y="1916280"/>
            <a:ext cx="7200720" cy="2825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60520" y="4797360"/>
            <a:ext cx="2520720" cy="1368360"/>
          </a:xfrm>
          <a:prstGeom prst="wedgeRectCallout">
            <a:avLst>
              <a:gd name="adj1" fmla="val 15615"/>
              <a:gd name="adj2" fmla="val -1593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最高位进位（即溢出）时，设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F0=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申请中断。响应中断后，系统自动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F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复位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37600" y="1700280"/>
            <a:ext cx="1295280" cy="1657440"/>
          </a:xfrm>
          <a:prstGeom prst="wedgeRectCallout">
            <a:avLst>
              <a:gd name="adj1" fmla="val -109680"/>
              <a:gd name="adj2" fmla="val 20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/   =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为定时功能；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/ =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为计数功能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8840880" y="1700280"/>
                <a:ext cx="2048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T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9345600" y="2276640"/>
                <a:ext cx="2048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T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8265960" y="4005360"/>
            <a:ext cx="1150920" cy="647640"/>
          </a:xfrm>
          <a:prstGeom prst="wedgeRectCallout">
            <a:avLst>
              <a:gd name="adj1" fmla="val -121722"/>
              <a:gd name="adj2" fmla="val -335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这三者为启动控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49240" y="-1609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时时间</a:t>
            </a:r>
            <a:r>
              <a:rPr b="0" i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计数器的位数、设置的计数初值（又称时间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数）、时钟频率有关。计算公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计数最大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机器周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¹³―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12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时间常数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时钟频率。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2MHz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最大定时时间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¹³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―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×12/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osc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=8.19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49240" y="-5724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若设置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在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定时功能，定时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5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启动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。写出初始化程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0=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 定时功能：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/    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启动：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ATE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时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5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由上述公式计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3192=110001111000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的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000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送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L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L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的其余高位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00011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送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即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1=63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L1=18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始化程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TMO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定时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TH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63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送时间常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TL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18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  TR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启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328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977240" y="1484280"/>
                <a:ext cx="2570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T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的方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位计数器结构。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原理图如下图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唯一区别在于计数位数不同，其它工作过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992160" y="1989000"/>
            <a:ext cx="770580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定时时间计算公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计数最大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机器周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12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2MHz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最大定时时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12/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sc=65.53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008160" y="1557360"/>
          <a:ext cx="432000" cy="38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08160" y="1557360"/>
                    <a:ext cx="43200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152880" y="2492280"/>
          <a:ext cx="431640" cy="385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52880" y="2492280"/>
                    <a:ext cx="4316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20520" y="-123840"/>
            <a:ext cx="539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0520" y="404640"/>
            <a:ext cx="86421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若设置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在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计数功能，计数数目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启动由     引脚控制。写出初始化程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0=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计数功能：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/   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启动：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ATE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：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216―10000=55536=0D8F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送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L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其余高位送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即设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0=0D8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L0=0F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始化程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TMO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DH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计数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TH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D8H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送计数初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TL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F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TR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R0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启动由引脚控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3195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8481960" y="1341360"/>
                <a:ext cx="6476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INT0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7689960" y="1341360"/>
                <a:ext cx="25560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T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865600" y="836640"/>
                <a:ext cx="6476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INT0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31440" y="836280"/>
            <a:ext cx="86425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的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为可重栽时间常数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计数器结构。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原理图如图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352520" y="2133720"/>
            <a:ext cx="7201080" cy="30607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208160" y="5445000"/>
            <a:ext cx="3457440" cy="1224000"/>
          </a:xfrm>
          <a:prstGeom prst="wedgeRectCallout">
            <a:avLst>
              <a:gd name="adj1" fmla="val 22587"/>
              <a:gd name="adj2" fmla="val -108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重载时间常数寄存器，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L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计满溢出后，设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F0=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申请中断，同时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的数据自动装载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L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重新工作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49240" y="-1609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31800" y="549360"/>
            <a:ext cx="8569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时间计算公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计数最大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机器周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12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2MHz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最大定时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12/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0.25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348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936880" y="1413000"/>
          <a:ext cx="4064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36880" y="1413000"/>
                    <a:ext cx="4064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3297240" y="2276640"/>
          <a:ext cx="406440" cy="43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97240" y="2276640"/>
                    <a:ext cx="4064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60160" y="563040"/>
            <a:ext cx="856908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置为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停止工作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置为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分成两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独立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原理图如图所示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208160" y="1989000"/>
            <a:ext cx="72723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31440" y="1196640"/>
            <a:ext cx="86425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5 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产线零件打包机控制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三</a:t>
            </a:r>
            <a:r>
              <a:rPr b="0" lang="en-US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生产线零件打包机控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60160" y="-237960"/>
            <a:ext cx="26636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31440" y="549000"/>
            <a:ext cx="86425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查询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断方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392880" y="333360"/>
            <a:ext cx="2590920" cy="2951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537240" y="3573360"/>
            <a:ext cx="2808360" cy="2743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865600" y="476280"/>
            <a:ext cx="2879640" cy="2808360"/>
          </a:xfrm>
          <a:prstGeom prst="wedgeRectCallout">
            <a:avLst>
              <a:gd name="adj1" fmla="val 70231"/>
              <a:gd name="adj2" fmla="val -31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查询方式是一种条件传送。在传送数据前，首先读取外设状态信息，并加以测试判断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其特点是：在硬件上不仅要考虑数据信息的传送，而且还要考虑状态信息的输入；在查询过程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利用率不高，适合于实时性能要求不高的情况下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65600" y="3933720"/>
            <a:ext cx="3240000" cy="2160720"/>
          </a:xfrm>
          <a:prstGeom prst="wedgeRectCallout">
            <a:avLst>
              <a:gd name="adj1" fmla="val 71509"/>
              <a:gd name="adj2" fmla="val -8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方式也是一种条件传送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与外设同时工作，并执行与外设无关的操作，一旦外设需要服务，就主动向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提出申请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暂停现在的操作去执行对外设的输入输出程序，执行完毕又返回继续执行现在的操作。 应用范围较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563040"/>
            <a:ext cx="8713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课堂实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31800" y="1196640"/>
            <a:ext cx="8569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功能，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.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上产生周期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方波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，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2MHz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四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——</a:t>
            </a:r>
            <a:r>
              <a:rPr b="0" lang="zh-CN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方波发生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.3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串行口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31440" y="907920"/>
            <a:ext cx="8642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串行通信的基本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024520" y="4005360"/>
          <a:ext cx="2592360" cy="99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24520" y="4005360"/>
                    <a:ext cx="259236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5168880" y="4869000"/>
          <a:ext cx="2521080" cy="1001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68880" y="4869000"/>
                    <a:ext cx="2521080" cy="100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5024520" y="5877000"/>
          <a:ext cx="2449440" cy="981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24520" y="5877000"/>
                    <a:ext cx="244944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2211480" y="1914480"/>
            <a:ext cx="219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11480" y="1914480"/>
            <a:ext cx="219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11480" y="1914480"/>
            <a:ext cx="219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920880" y="1557360"/>
          <a:ext cx="8569080" cy="5184720"/>
        </p:xfrm>
        <a:graphic>
          <a:graphicData uri="http://schemas.openxmlformats.org/drawingml/2006/table">
            <a:tbl>
              <a:tblPr/>
              <a:tblGrid>
                <a:gridCol w="936360"/>
                <a:gridCol w="792360"/>
                <a:gridCol w="1366920"/>
                <a:gridCol w="5473440"/>
              </a:tblGrid>
              <a:tr h="74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并行通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单位信息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通常为一个字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各位数据同时传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312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串行通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同步通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发送和接收同步进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从而实现数据的不间断传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异步通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发送与接收没有用同步时钟同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传送过程中数据之间有间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传送方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单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半双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全双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波特率的概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每秒传送数据的位数称为波特率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aud R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单位为波特，即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秒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/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波特率的倒数称为位传送时间，用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，单位为秒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：传送速率每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帧数据，每一帧数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则传送波特率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10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传送时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9.1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31800" y="404280"/>
            <a:ext cx="8424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、串行口的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串口的总体结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712880" y="1484280"/>
            <a:ext cx="6264360" cy="49626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113600" y="3500280"/>
            <a:ext cx="2519280" cy="1368720"/>
          </a:xfrm>
          <a:prstGeom prst="wedgeRectCallout">
            <a:avLst>
              <a:gd name="adj1" fmla="val -128763"/>
              <a:gd name="adj2" fmla="val -209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设置特殊功能寄存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CO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CO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来控制串行口的工作方式与波特率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60520" y="-171360"/>
            <a:ext cx="5688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串口控制寄存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C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31800" y="907920"/>
            <a:ext cx="8569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数据格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串行口工作方式选择位。可以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种工作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992160" y="1413000"/>
          <a:ext cx="7632360" cy="988920"/>
        </p:xfrm>
        <a:graphic>
          <a:graphicData uri="http://schemas.openxmlformats.org/drawingml/2006/table">
            <a:tbl>
              <a:tblPr/>
              <a:tblGrid>
                <a:gridCol w="900000"/>
                <a:gridCol w="833400"/>
                <a:gridCol w="838080"/>
                <a:gridCol w="836640"/>
                <a:gridCol w="836640"/>
                <a:gridCol w="846360"/>
                <a:gridCol w="834840"/>
                <a:gridCol w="836640"/>
                <a:gridCol w="869760"/>
              </a:tblGrid>
              <a:tr h="61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F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E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D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B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A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9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8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8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B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B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424160" y="3357720"/>
          <a:ext cx="7343640" cy="2238120"/>
        </p:xfrm>
        <a:graphic>
          <a:graphicData uri="http://schemas.openxmlformats.org/drawingml/2006/table">
            <a:tbl>
              <a:tblPr/>
              <a:tblGrid>
                <a:gridCol w="1271520"/>
                <a:gridCol w="1073160"/>
                <a:gridCol w="2185920"/>
                <a:gridCol w="2813040"/>
              </a:tblGrid>
              <a:tr h="621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0S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工作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功能说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波特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移位寄存器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s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异步通信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溢出率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或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异步通信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s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或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异步通信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溢出率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或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5097600" y="260280"/>
            <a:ext cx="2160360" cy="865080"/>
          </a:xfrm>
          <a:prstGeom prst="wedgeRectCallout">
            <a:avLst>
              <a:gd name="adj1" fmla="val -54703"/>
              <a:gd name="adj2" fmla="val 1090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串行接收允许位。由软件设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允许接收，设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禁止接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00880" y="333360"/>
            <a:ext cx="2305080" cy="1440000"/>
          </a:xfrm>
          <a:prstGeom prst="wedgeRectCallout">
            <a:avLst>
              <a:gd name="adj1" fmla="val -110124"/>
              <a:gd name="adj2" fmla="val 665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异步通信方式下，由于缓冲器只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故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B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发送的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B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接收的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769240" y="2637000"/>
            <a:ext cx="1136880" cy="1152360"/>
          </a:xfrm>
          <a:prstGeom prst="wedgeRectCallout">
            <a:avLst>
              <a:gd name="adj1" fmla="val -146925"/>
              <a:gd name="adj2" fmla="val -76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发送中断标志与接收中断标志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49240" y="57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713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允许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机通信控制位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065240" y="1628640"/>
          <a:ext cx="7705800" cy="3841560"/>
        </p:xfrm>
        <a:graphic>
          <a:graphicData uri="http://schemas.openxmlformats.org/drawingml/2006/table">
            <a:tbl>
              <a:tblPr/>
              <a:tblGrid>
                <a:gridCol w="1527120"/>
                <a:gridCol w="1113120"/>
                <a:gridCol w="5065560"/>
              </a:tblGrid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串口工作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功能说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此位无意义，设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3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只有接收到有效的停止位，才将数据送入接收缓冲器保存，并置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=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否则数据丢失，不置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无论是否接收到有效的停止位，都将数据保存，并置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只有接收到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才将数据送入接收缓冲器保存，并置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=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否则数据丢失，不置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无论是否接收到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都将数据保存，并置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31800" y="25992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电源控制寄存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C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31440" y="1125360"/>
            <a:ext cx="8642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来控制串行口的波特率倍增，以及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HMO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列单片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实现电源控制，其格式如下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776160" y="2060640"/>
          <a:ext cx="7992720" cy="431640"/>
        </p:xfrm>
        <a:graphic>
          <a:graphicData uri="http://schemas.openxmlformats.org/drawingml/2006/table">
            <a:tbl>
              <a:tblPr/>
              <a:tblGrid>
                <a:gridCol w="885600"/>
                <a:gridCol w="865080"/>
                <a:gridCol w="863640"/>
                <a:gridCol w="868320"/>
                <a:gridCol w="868680"/>
                <a:gridCol w="887400"/>
                <a:gridCol w="866520"/>
                <a:gridCol w="866880"/>
                <a:gridCol w="102060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7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D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1857240" y="3429000"/>
            <a:ext cx="3527640" cy="1152360"/>
          </a:xfrm>
          <a:prstGeom prst="wedgeRectCallout">
            <a:avLst>
              <a:gd name="adj1" fmla="val -42486"/>
              <a:gd name="adj2" fmla="val -1183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波特率倍增位。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O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使串行口波特率加倍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60520" y="189000"/>
            <a:ext cx="8496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串行口方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31440" y="62064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工作过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发送过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将数据送入发送缓冲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BU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，自动启动串口发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②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数据以固定的波特率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sc/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低位在前，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X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脚串行输出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X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发送移位时钟信号（频率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sc/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移位时钟对应一个输出的数据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数据发送完毕，置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I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申请中断，通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再发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一个数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接收过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N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启动接收过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②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串行口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sc/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固定的波特率，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X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串行输入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低位在前）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X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输出移位时钟信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③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数据接收完毕，将数据送入接收缓冲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BU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并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申请中断，通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取走数据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串行口方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31800" y="1052640"/>
            <a:ext cx="8569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工作过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发送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将数据送入发送缓冲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BU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后，启动串行口发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②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以指定的波特率，串行发送一位起始位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数据位（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在前）、一位停止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③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帧数据发送完毕，置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=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申请中断，通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发送下一个数据。在未发送下一帧数据时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X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引脚始终为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电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接收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①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软件设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N=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时，启动接收过程，串行口检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X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引脚，当检测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负跳变（起始位到来）时，开始接收数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②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串行口以指定的波特率，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X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引脚串行输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数据（低位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前）、一位停止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③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当数据接收完毕，当数据接收完毕，必须同时满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I=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M2=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或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收到有效的停止位，才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数据送入接收缓冲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BU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保存，并置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I=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申请中断，通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取走数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工作过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04520" y="1125360"/>
            <a:ext cx="8496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发送和接受过程与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49240" y="-232560"/>
            <a:ext cx="8352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1800" y="333000"/>
            <a:ext cx="842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的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1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 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正在执行程序的过程中，由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之外的某种原因，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暂停该程序的执行，转而去执行相应的处理程序，待处理程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束之后，再返回原程序断点处继续运行的过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2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系统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实现中断过程的软、硬件系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源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提出中断申请的来源。中断源一般有外设、定时时钟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故障源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4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主程序与中断服务程序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的当前程序称为主程序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去对突发事件的处理程序，称为中断服务程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5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优先级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当多个中断源同时申请中断时，为了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能够按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户的规定先处理最紧急的，然后再处理其他事件，中断系统设置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优先权排队电路，通过用户的设置，排在前面的中断源称为高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，排在后面的称为低级中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6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嵌套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响应某一中断源请求而进入中断处理时，若更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级别的中断源发出申请，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暂停现行的中断服务程序，去响应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先级更高的中断，待更高级别的中断处理完毕后，再返回低级中断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务程序，继续原先的处理，这个过程称为中断嵌套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60520" y="563040"/>
            <a:ext cx="8640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0160" y="1196640"/>
            <a:ext cx="8785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6 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双机通讯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五</a:t>
            </a:r>
            <a:r>
              <a:rPr b="0" lang="en-US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单片机双机通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测试与练习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始化编程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设置外部中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允许，高级中断，边沿触发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式。写出初始化程序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设置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定时工作，时间常数初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软件启动定时，溢出允许中断，低级中断。写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始化程序段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中断系统结构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系统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中断源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级中断优先级。结构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49240" y="2060640"/>
            <a:ext cx="792000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9240" y="-29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请求标志寄存器是由定时器控制寄存器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C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和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行口控制寄存器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C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的若干位构成，如图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15800" y="1557360"/>
            <a:ext cx="90741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49240" y="-12384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31440" y="404640"/>
            <a:ext cx="864252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允许控制寄存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控制着中断的允许与禁止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76160" y="1484280"/>
            <a:ext cx="84250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49240" y="-2556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优先级控制寄存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P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级中断优先级，每一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源都可以软件设置为高级中断或低级中断，由中断优先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寄存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。相应位置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此中断为高级中断，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设置为低级中断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31800" y="2421000"/>
            <a:ext cx="84247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4247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三、中断的处理过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31440" y="907560"/>
            <a:ext cx="86425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9S5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的处理过程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529240" y="404640"/>
            <a:ext cx="35416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2:26:23Z</dcterms:created>
  <dc:creator>艳之语</dc:creator>
  <dc:description/>
  <cp:keywords/>
  <dc:language>en-US</dc:language>
  <cp:lastModifiedBy>hep</cp:lastModifiedBy>
  <dcterms:modified xsi:type="dcterms:W3CDTF">2008-07-14T08:05:44Z</dcterms:modified>
  <cp:revision>76</cp:revision>
  <dc:subject/>
  <dc:title>第3章  指令系统与汇编语言程序设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962582052</vt:lpwstr>
  </property>
</Properties>
</file>