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FB5-A815-4242-83C5-3D3391E3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AB3-D64E-49A3-A3DE-5CE91345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FFC-5A5C-40C6-B2FB-00EFE2D9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78E-1576-47B5-8D94-F38F2802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70C0-1CF5-4201-8EF2-5A7C94E7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0DD6-6480-4D53-97BA-EF1ADA09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3E31-624C-4356-BC46-9E6E29F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FE70-4CBB-4B77-96E2-C6FE7C69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9F82-EABA-424A-98B1-8F85F476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2BC1-AFC5-4473-9565-2B11A0A2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3F0C-F15B-4E21-8650-ECFB020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3E0-8310-4FEE-BE75-C46099F4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37F2-A06D-4ACE-B24D-1CDF972D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083E-D739-4BD5-86B7-60871E97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D426-B540-423E-8352-C16E759C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6DF7-9F8F-4F78-A7E2-4A441699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AD99-B9B8-44EB-9E3F-4C7F2E77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A09-7CCC-404E-8819-0A08F92B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7BF-5D0E-4DFB-A77D-96BBE133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79C-1BB5-4840-AF3F-D4E2364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D1C-257B-4F55-A53E-3D7ABE76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2AB-C53F-4830-B9CE-E664121B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8E0-54BE-4A28-A17D-E2BA00A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565-098C-4B9B-AEB7-F12CF1E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7752-E8B5-4CE4-B7AA-27694E8362A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63DF-1848-47A1-8B9F-F8BE14EA99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片机系统的扩展与接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1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概  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2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3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并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口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4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5 A/D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转换接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的组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27236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73600" y="260280"/>
            <a:ext cx="2303640" cy="865080"/>
          </a:xfrm>
          <a:prstGeom prst="wedgeRectCallout">
            <a:avLst>
              <a:gd name="adj1" fmla="val -50138"/>
              <a:gd name="adj2" fmla="val 90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最基本的信息，可以分为数字量和模拟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8520" y="1773360"/>
            <a:ext cx="1857600" cy="863640"/>
          </a:xfrm>
          <a:prstGeom prst="wedgeRectCallout">
            <a:avLst>
              <a:gd name="adj1" fmla="val -125810"/>
              <a:gd name="adj2" fmla="val 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单片机与外设之间交换信息的联络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4880" y="4149720"/>
            <a:ext cx="2089440" cy="863640"/>
          </a:xfrm>
          <a:prstGeom prst="wedgeRectCallout">
            <a:avLst>
              <a:gd name="adj1" fmla="val -79787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发给外设的命令，用于控制外设的工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简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电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532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锁存器扩展输出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具有使能控制端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锁存器。其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锁存器的工作原理：使能端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脉冲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升沿将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出现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据写入锁存器锁存。使能端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锁存器输出锁存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10480" y="1052640"/>
            <a:ext cx="3095640" cy="46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4520" y="285264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76880" y="4076640"/>
                <a:ext cx="266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扩展单输出接口的连接电路如图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537372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，在写信号     的上升沿，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机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通过数据总线锁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并向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5800" y="1413000"/>
            <a:ext cx="8929800" cy="363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608880" y="5373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三态缓冲器扩展输入接口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输入的数据和状态信号，可以通过数据输入三态缓冲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送给单片机。通常使用的典型芯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该芯片为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三态数据缓冲器，其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81240" y="234936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单输入接口的电路如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0880" y="1125360"/>
            <a:ext cx="8064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9240" y="-340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1800" y="404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锁存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输入接口，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接口电路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4880" y="1844640"/>
            <a:ext cx="8785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片选信号之一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外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。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存入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的程序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存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数据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I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为电平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计数器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除自定义标志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未输入完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输入完，关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1800" y="907920"/>
            <a:ext cx="8569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可编程并行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电路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和引脚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的双列直插式集成电路芯片，其引脚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示。其内部结构由四部分组成，如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2276640"/>
            <a:ext cx="6985080" cy="438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40880" y="2708280"/>
            <a:ext cx="792000" cy="576360"/>
          </a:xfrm>
          <a:prstGeom prst="wedgeRectCallout">
            <a:avLst>
              <a:gd name="adj1" fmla="val -103907"/>
              <a:gd name="adj2" fmla="val 190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电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0520" y="6165720"/>
            <a:ext cx="1295280" cy="576360"/>
          </a:xfrm>
          <a:prstGeom prst="wedgeRectCallout">
            <a:avLst>
              <a:gd name="adj1" fmla="val 70833"/>
              <a:gd name="adj2" fmla="val -23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控制逻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417672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控制字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控制字用来设置各端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任意一位进行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和复位操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种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字都写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，用控制字的最高位标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一种控制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工作方式控制字的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68880" y="404640"/>
            <a:ext cx="453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692280"/>
            <a:ext cx="8569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概  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扩展系统总线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统扩展有并行扩展和串行扩展两种方法。并行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展通过单片机的三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据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控制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实现，串行扩展是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总线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²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总线的串行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任意一位都可以通过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来置位或复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功能主要用于控制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格式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96880" y="2060640"/>
            <a:ext cx="6985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520" y="475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70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1440" y="620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种工作方式的工作原理和应用举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种工作方式下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口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由程序选定作为输入或输出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无条件传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接口电路，这时不需要状态端口，三个端口都可以作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线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依次亮灭。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寄存器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编写控制程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84520" y="1916280"/>
            <a:ext cx="6192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800" y="549000"/>
            <a:ext cx="914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字寄存器端口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方式控制字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第一个发光二极管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累加器送入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下一个发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子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选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作为数据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通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某些位作为联络信号，用于联络和中断，其功能是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不能由程序改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余下未使用的位仍可以作为输入或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出使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的状态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08160" y="3068640"/>
            <a:ext cx="7488000" cy="263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2520" y="2781360"/>
            <a:ext cx="1368720" cy="360360"/>
          </a:xfrm>
          <a:prstGeom prst="wedgeRectCallout">
            <a:avLst>
              <a:gd name="adj1" fmla="val -44199"/>
              <a:gd name="adj2" fmla="val 21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通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24880" y="3645000"/>
            <a:ext cx="1152360" cy="504720"/>
          </a:xfrm>
          <a:prstGeom prst="wedgeRectCallout">
            <a:avLst>
              <a:gd name="adj1" fmla="val -63773"/>
              <a:gd name="adj2" fmla="val 9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缓冲器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37600" y="5229360"/>
            <a:ext cx="1008000" cy="647640"/>
          </a:xfrm>
          <a:prstGeom prst="wedgeRectCallout">
            <a:avLst>
              <a:gd name="adj1" fmla="val -65907"/>
              <a:gd name="adj2" fmla="val -8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520" y="3429000"/>
            <a:ext cx="1368360" cy="504720"/>
          </a:xfrm>
          <a:prstGeom prst="wedgeRectCallout">
            <a:avLst>
              <a:gd name="adj1" fmla="val 66703"/>
              <a:gd name="adj2" fmla="val 7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2160" y="-674640"/>
            <a:ext cx="539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的控制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9240" y="1341360"/>
            <a:ext cx="7850160" cy="295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92520" y="907920"/>
            <a:ext cx="1224000" cy="576360"/>
          </a:xfrm>
          <a:prstGeom prst="wedgeRectCallout">
            <a:avLst>
              <a:gd name="adj1" fmla="val -55837"/>
              <a:gd name="adj2" fmla="val 22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缓冲器满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9240" y="1628640"/>
            <a:ext cx="1136880" cy="576360"/>
          </a:xfrm>
          <a:prstGeom prst="wedgeRectCallout">
            <a:avLst>
              <a:gd name="adj1" fmla="val -79328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应答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8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开关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单稳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产生响应，接口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设计控制程序，使得改变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开关输入状态，用选通信号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状态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，驱动相应的发光二极管，使发光二极管显示开关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7129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15560"/>
            <a:ext cx="885816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程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8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94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5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允许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沿触发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送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光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向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，只用于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控制总线，此时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查询方式，也可用于中断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和状态控制信号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36520" y="2852640"/>
            <a:ext cx="75614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外部并行扩展的总线结构如下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8880" y="1125360"/>
            <a:ext cx="8785440" cy="456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45000"/>
            <a:ext cx="2216160" cy="2808360"/>
          </a:xfrm>
          <a:prstGeom prst="wedgeRectCallout">
            <a:avLst>
              <a:gd name="adj1" fmla="val 34240"/>
              <a:gd name="adj2" fmla="val -12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传送单片机送出的地址信号，以便进行存储单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的选择。地址总线的位数决定着可访问的存储器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容量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地址总线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提供，宽度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可寻址范围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240" y="0"/>
            <a:ext cx="1871640" cy="1341360"/>
          </a:xfrm>
          <a:prstGeom prst="wedgeRectCallout">
            <a:avLst>
              <a:gd name="adj1" fmla="val 33800"/>
              <a:gd name="adj2" fmla="val 10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在单片机与存储器之间或单片机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之间传送数据。数据总线是双向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5400" y="3789360"/>
            <a:ext cx="2160720" cy="1441440"/>
          </a:xfrm>
          <a:prstGeom prst="wedgeRectCallout">
            <a:avLst>
              <a:gd name="adj1" fmla="val -43976"/>
              <a:gd name="adj2" fmla="val -1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上是一组控制信号线，包括片外系统扩展用控制线和片外信号对单片机的控制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160" y="98064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利用可编程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与接口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集成电路芯片，其引脚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和内部组成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68520" y="2421000"/>
            <a:ext cx="705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寄存器实际上是两个寄存器，分别存放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状态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705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81240" y="1413000"/>
            <a:ext cx="7559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连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0160" y="764640"/>
            <a:ext cx="3600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麻烦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有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相应的信号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有多种方法，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方法对应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址方式。下面介绍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的两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：或非门产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：高位地址直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76880" y="189000"/>
            <a:ext cx="5184720" cy="298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48160" y="3429000"/>
            <a:ext cx="518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的减法计数器，由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组成，其中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计数器输出的信号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，其结构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68520" y="2708280"/>
          <a:ext cx="5472000" cy="502920"/>
        </p:xfrm>
        <a:graphic>
          <a:graphicData uri="http://schemas.openxmlformats.org/drawingml/2006/table">
            <a:tbl>
              <a:tblPr/>
              <a:tblGrid>
                <a:gridCol w="677880"/>
                <a:gridCol w="674640"/>
                <a:gridCol w="676080"/>
                <a:gridCol w="676440"/>
                <a:gridCol w="676080"/>
                <a:gridCol w="677880"/>
                <a:gridCol w="673200"/>
                <a:gridCol w="739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rot="16200000">
            <a:off x="2072520" y="2851920"/>
            <a:ext cx="358560" cy="122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98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735440" y="1630080"/>
            <a:ext cx="288720" cy="374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97560 h 3743640"/>
              <a:gd name="textAreaBottom" fmla="*/ 3646080 h 37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4880" y="37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84520" y="4437000"/>
          <a:ext cx="5040000" cy="455760"/>
        </p:xfrm>
        <a:graphic>
          <a:graphicData uri="http://schemas.openxmlformats.org/drawingml/2006/table">
            <a:tbl>
              <a:tblPr/>
              <a:tblGrid>
                <a:gridCol w="628560"/>
                <a:gridCol w="631800"/>
                <a:gridCol w="628560"/>
                <a:gridCol w="631800"/>
                <a:gridCol w="630360"/>
                <a:gridCol w="628560"/>
                <a:gridCol w="631800"/>
                <a:gridCol w="62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4125600" y="2672640"/>
            <a:ext cx="358920" cy="489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324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65360"/>
            <a:ext cx="1496880" cy="2303640"/>
          </a:xfrm>
          <a:prstGeom prst="wedgeRectCallout">
            <a:avLst>
              <a:gd name="adj1" fmla="val 82662"/>
              <a:gd name="adj2" fmla="val -13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脉冲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脉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032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80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工作方式由命令字中的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停止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8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采集和分析系统之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扩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十六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并行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I/O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765000"/>
            <a:ext cx="8713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与键盘接口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是常用的输出设备之一，目前使用较多的显示器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码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液晶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如何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光二极管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电平时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，二极管发光；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平，二极管不发光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任何电平，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均不发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44880" y="4365720"/>
            <a:ext cx="3456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笔段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结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组成，其引脚及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列如图所示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用于显示数字、字符的笔划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点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连接，作为公共端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发光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有共阳极和共阴极两种连接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20880" y="2708280"/>
            <a:ext cx="820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可以看出，不同笔段的组合就可以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字符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共阴级编码见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0520" y="1413000"/>
            <a:ext cx="885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4880" y="47592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片机的三总线引脚结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345440" cy="51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40520" y="2924280"/>
            <a:ext cx="1800360" cy="863640"/>
          </a:xfrm>
          <a:prstGeom prst="wedgeRectCallout">
            <a:avLst>
              <a:gd name="adj1" fmla="val -85097"/>
              <a:gd name="adj2" fmla="val 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，输出。用于低字节地址锁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84880" y="3860640"/>
            <a:ext cx="2089440" cy="576360"/>
          </a:xfrm>
          <a:prstGeom prst="wedgeRectCallout">
            <a:avLst>
              <a:gd name="adj1" fmla="val -74847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程序存储器读选通信号，输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0" y="4581360"/>
            <a:ext cx="2376360" cy="1008360"/>
          </a:xfrm>
          <a:prstGeom prst="wedgeRectCallout">
            <a:avLst>
              <a:gd name="adj1" fmla="val -73648"/>
              <a:gd name="adj2" fmla="val -4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存储器访问允许信号，输入。当为低电平时，只访问外部程序存储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2160" y="4076640"/>
            <a:ext cx="1729080" cy="576360"/>
          </a:xfrm>
          <a:prstGeom prst="wedgeRectCallout">
            <a:avLst>
              <a:gd name="adj1" fmla="val 65333"/>
              <a:gd name="adj2" fmla="val 132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输入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5229360"/>
            <a:ext cx="1800360" cy="576000"/>
          </a:xfrm>
          <a:prstGeom prst="wedgeRectCallout">
            <a:avLst>
              <a:gd name="adj1" fmla="val 61638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数据存储器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写选通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连接时一般可以采用分立元件（如：三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）或驱动芯片来增强驱动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6985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692280"/>
            <a:ext cx="8424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由笔段代码锁存器、笔段译码器（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不需要译码器）等部分组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方式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动程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笔段代码表首地址，送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相应笔段代码送到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取出的笔段代码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B  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F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A4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B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笔段代码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96880" y="4292640"/>
            <a:ext cx="583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译码方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电路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45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锁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2880" y="1484280"/>
            <a:ext cx="7490160" cy="419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93240" y="1916280"/>
            <a:ext cx="148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9240" y="-52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显示缓冲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00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个位端口地址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显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虽然显示程序简单，但由于占用过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，不适合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接口。实际应用中，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通常是采用动态扫描的方法进行显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电路一般由三个部分组成，即显示器、字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驱动器和字位锁存驱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0880" y="3068640"/>
            <a:ext cx="7343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显示接口电路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7756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1440" y="259920"/>
            <a:ext cx="87138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缓冲区首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位控码初值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出显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偏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查表取字形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位，并锁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向下一缓冲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判断是否到最高位，到则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向显示器高位移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位控码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LD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继续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  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字形代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延时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-191520"/>
            <a:ext cx="8642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接口需要解决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电路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按键编码和按键功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监控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键去抖动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采用直接编码输入方式，每一个按键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接入一根输入线，如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55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式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矩阵式键盘输入电路一般由输出锁存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输入缓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键盘开关矩阵三个部分组成，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792520" y="1773360"/>
            <a:ext cx="376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1800" y="981000"/>
            <a:ext cx="8569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部扩展能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片外存储器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可扩展的数据存储器和程序存储器的最大容量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在一些需要扩展大容量存储器的场合（如汉字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），采用页面访问技术可以实现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扩展数量不多且功能简单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时，常常采用锁存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缓冲器；采用可编程接口芯片来扩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，可以完成复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功能，如：扩展并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串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9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显示与键盘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七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工作原理及接口技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(Liquid  Crystal  Devic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，即液晶显示器，属于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利用光反射的被动显示器件，适合在明亮场合下使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具有体积小、重量轻、工作电压低、功能耗小等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广泛用作各类电子设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钟表、计算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、手机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器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分为动态散射型和场效应型两大类，而场效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分为反射式场效应型和透射式场效应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驱动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中，最常用的方法是将交流驱动信号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控制信号异或后接上电极，而交流驱动信号接下电极，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88880" y="2781360"/>
            <a:ext cx="849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49240" y="-354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也分为静态显示驱动和动态显示驱动两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极连接方式有关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静态显示驱动方式，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使用动态显示驱动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712880" y="1916280"/>
            <a:ext cx="712800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A/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将模拟量转换成数字量的器件，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种类繁多，就其位数来分，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等。位数越多，其分辨率越高，价格也越贵。按照其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可分为四种，即：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、双积分式转换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和并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4936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艺制成的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模拟输入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封装，片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开关及地址锁存与译码电路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和三态输出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器。其内部结构和引脚分配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6520" y="2565360"/>
            <a:ext cx="7129440" cy="40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12880" y="2637000"/>
            <a:ext cx="1079640" cy="504720"/>
          </a:xfrm>
          <a:prstGeom prst="wedgeRectCallout">
            <a:avLst>
              <a:gd name="adj1" fmla="val 60736"/>
              <a:gd name="adj2" fmla="val 126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2520" y="5661000"/>
            <a:ext cx="1368360" cy="576360"/>
          </a:xfrm>
          <a:prstGeom prst="wedgeRectCallout">
            <a:avLst>
              <a:gd name="adj1" fmla="val 64152"/>
              <a:gd name="adj2" fmla="val -130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通道选择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5600" y="6021360"/>
            <a:ext cx="1295280" cy="647640"/>
          </a:xfrm>
          <a:prstGeom prst="wedgeRectCallout">
            <a:avLst>
              <a:gd name="adj1" fmla="val -36398"/>
              <a:gd name="adj2" fmla="val -1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9240" y="1916280"/>
            <a:ext cx="1584360" cy="288720"/>
          </a:xfrm>
          <a:prstGeom prst="wedgeRectCallout">
            <a:avLst>
              <a:gd name="adj1" fmla="val -29861"/>
              <a:gd name="adj2" fmla="val 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启动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97960" y="4076640"/>
            <a:ext cx="934920" cy="504720"/>
          </a:xfrm>
          <a:prstGeom prst="wedgeRectCallout">
            <a:avLst>
              <a:gd name="adj1" fmla="val -105689"/>
              <a:gd name="adj2" fmla="val -1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48520" y="5950080"/>
            <a:ext cx="1152720" cy="504720"/>
          </a:xfrm>
          <a:prstGeom prst="wedgeRectCallout">
            <a:avLst>
              <a:gd name="adj1" fmla="val -103444"/>
              <a:gd name="adj2" fmla="val 36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276640"/>
            <a:ext cx="1152720" cy="576000"/>
          </a:xfrm>
          <a:prstGeom prst="wedgeRectCallout">
            <a:avLst>
              <a:gd name="adj1" fmla="val -57990"/>
              <a:gd name="adj2" fmla="val 103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束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5600" y="6524640"/>
            <a:ext cx="1439640" cy="333360"/>
          </a:xfrm>
          <a:prstGeom prst="wedgeRectCallout">
            <a:avLst>
              <a:gd name="adj1" fmla="val -61796"/>
              <a:gd name="adj2" fmla="val -82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基准电压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和编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电路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12880" y="1268280"/>
            <a:ext cx="59770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0160" y="476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电路中需要考虑转换数据的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。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，单片机可以用查询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上）或者中断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或上）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结束；也可以使用定时传送方式实现转换数据的传送。上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方式进行数据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控制方式采集数据的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主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中断服务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通道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选择为边沿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允许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8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采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结果存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下一模拟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数据区下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程序如果采用查询方式，应如何修改程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D/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（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一种将数字信号转换成模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器件，其原理结构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出模拟电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输入数字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参考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2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二进制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=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¹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² +……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¹ 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º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2160" y="2205000"/>
            <a:ext cx="7705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储器扩展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存储器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掩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只能读出程序，而不能更改其中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适合应用于大批量的生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编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在出厂时没有任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，用户可以用专门的编程器将程序写到芯片中去。该芯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写入一次，不能进行修改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允许用户用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线反复擦除写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电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可以用电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擦除或写入程序，适合在应用系统中进行在线改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快闪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最大特点是必须按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 ，目前被广泛用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的主板上，用来保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进行程序的升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封装。其内部结构和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排列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2520" y="1773360"/>
            <a:ext cx="7561440" cy="3512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8520" y="1557360"/>
            <a:ext cx="1368360" cy="504720"/>
          </a:xfrm>
          <a:prstGeom prst="wedgeRectCallout">
            <a:avLst>
              <a:gd name="adj1" fmla="val 63574"/>
              <a:gd name="adj2" fmla="val 11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41720"/>
            <a:ext cx="1208160" cy="574560"/>
          </a:xfrm>
          <a:prstGeom prst="wedgeRectCallout">
            <a:avLst>
              <a:gd name="adj1" fmla="val 93231"/>
              <a:gd name="adj2" fmla="val 82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片选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9360"/>
            <a:ext cx="1352520" cy="574920"/>
          </a:xfrm>
          <a:prstGeom prst="wedgeRectCallout">
            <a:avLst>
              <a:gd name="adj1" fmla="val 73356"/>
              <a:gd name="adj2" fmla="val 12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输入锁存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1136520" cy="863640"/>
          </a:xfrm>
          <a:prstGeom prst="wedgeRectCallout">
            <a:avLst>
              <a:gd name="adj1" fmla="val 103212"/>
              <a:gd name="adj2" fmla="val -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锁存器写选通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013360"/>
            <a:ext cx="1568520" cy="503280"/>
          </a:xfrm>
          <a:prstGeom prst="wedgeRectCallout">
            <a:avLst>
              <a:gd name="adj1" fmla="val 58097"/>
              <a:gd name="adj2" fmla="val -12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控制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28880" y="5373720"/>
            <a:ext cx="1655640" cy="792000"/>
          </a:xfrm>
          <a:prstGeom prst="wedgeRectCallout">
            <a:avLst>
              <a:gd name="adj1" fmla="val -47601"/>
              <a:gd name="adj2" fmla="val -188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写选通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0" y="1125360"/>
            <a:ext cx="1513080" cy="648000"/>
          </a:xfrm>
          <a:prstGeom prst="wedgeRectCallout">
            <a:avLst>
              <a:gd name="adj1" fmla="val 47375"/>
              <a:gd name="adj2" fmla="val 17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电流输出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6880" y="1268280"/>
            <a:ext cx="1224000" cy="574920"/>
          </a:xfrm>
          <a:prstGeom prst="wedgeRectCallout">
            <a:avLst>
              <a:gd name="adj1" fmla="val -143254"/>
              <a:gd name="adj2" fmla="val 24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1268280"/>
            <a:ext cx="1152360" cy="574920"/>
          </a:xfrm>
          <a:prstGeom prst="wedgeRectCallout">
            <a:avLst>
              <a:gd name="adj1" fmla="val -38842"/>
              <a:gd name="adj2" fmla="val 12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电压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5300640"/>
            <a:ext cx="936720" cy="360360"/>
          </a:xfrm>
          <a:prstGeom prst="wedgeRectCallout">
            <a:avLst>
              <a:gd name="adj1" fmla="val 82375"/>
              <a:gd name="adj2" fmla="val -522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2520" y="5300640"/>
            <a:ext cx="936720" cy="360360"/>
          </a:xfrm>
          <a:prstGeom prst="wedgeRectCallout">
            <a:avLst>
              <a:gd name="adj1" fmla="val -20337"/>
              <a:gd name="adj2" fmla="val -272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0160" y="90756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和编程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由八条数据输入线、两个写选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和    、片选信号    、允许输入锁存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传送控制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组成。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通方式  将   、  、  和   接地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高电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缓冲方式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寄存器中的一个工作在直通状态，另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于受控的锁存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冲方式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寄存器都处于受控的锁存状态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20880" y="1341360"/>
                <a:ext cx="503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12880" y="134136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81240" y="220500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20880" y="1773360"/>
                <a:ext cx="718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84520" y="2276640"/>
                <a:ext cx="503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32160" y="2276640"/>
                <a:ext cx="50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81600" y="2205000"/>
                <a:ext cx="71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单缓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36520" y="1197000"/>
            <a:ext cx="6264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寄存器的端口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则以下指令可将存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字量转换为模拟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程序可以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连续锯齿波电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输入寄存器端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A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值增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40160" y="4437000"/>
            <a:ext cx="4034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33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入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地址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完成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转换的程序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B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160880" y="404640"/>
            <a:ext cx="547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0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452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设计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线选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两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716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译码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一个含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键的键盘和显示接口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存储器扩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八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7646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数据存储器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见动画九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数据存储器扩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.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/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口扩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地址译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信息转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数据缓冲与锁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通信联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11:07Z</dcterms:modified>
  <cp:revision>72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