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DEB-34DB-4997-BE6D-96A39B5B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F50-2221-47C3-8B0F-EC977028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A9F-ABE9-41E2-9E5C-1631984A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7F0-4B5D-4936-AAF3-EEBB6483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3D1E-8B86-4D41-BD36-CA92730E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8007-B42A-4C15-9B20-A2991B85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ADD5-45A5-4B0B-9D70-09BDA3E1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6335-7C7C-4119-9111-1A4474F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C9C4-E4CC-440B-929D-04E1AEB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508F-52E3-4493-BFAE-EEEF4466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4192-8F55-468A-8E39-0D9C8CF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315-3421-4D26-9895-488AB62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856F-1352-4C28-97B4-4F7686C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93B7-3155-46B6-8BF7-835695FE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BF6-DC25-42A2-A654-D9C7CA2A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2AE6-D53D-4EDD-9A63-48644FF4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9233-F940-49C8-888D-666535C9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CD9-9EE7-451F-B65F-EBCE4100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224-0A4A-4CF3-BC42-34CDC96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A2A-FB56-4AFA-841C-668199D7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AAD-2DAC-405E-82FF-13B47235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7B7-CD3B-46E4-9BBA-B2080410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1C2-D217-4D5A-B3A2-5DBF3B8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D57-3343-4DEA-995D-08F4F9A2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8B5C-2232-49A8-B9D2-86BC4F21EE0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7B5E-D33E-4997-9FFC-80381730A97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基本编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本指令的一般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6000" y="0"/>
            <a:ext cx="4852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1560" y="1556280"/>
            <a:ext cx="37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532720" cy="2157480"/>
          </a:xfrm>
          <a:prstGeom prst="rect">
            <a:avLst/>
          </a:prstGeom>
          <a:ln w="0">
            <a:noFill/>
          </a:ln>
        </p:spPr>
      </p:pic>
      <p:pic>
        <p:nvPicPr>
          <p:cNvPr id="209" name="03d08" descr=""/>
          <p:cNvPicPr/>
          <p:nvPr/>
        </p:nvPicPr>
        <p:blipFill>
          <a:blip r:embed="rId2"/>
          <a:stretch/>
        </p:blipFill>
        <p:spPr>
          <a:xfrm>
            <a:off x="1924200" y="2376360"/>
            <a:ext cx="2342880" cy="1619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64240" y="2405160"/>
            <a:ext cx="24573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8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两层栈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2320" y="4138920"/>
            <a:ext cx="2641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二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第二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Y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24200" y="23763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6800" y="4221360"/>
            <a:ext cx="16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S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入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P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第一层出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X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24360" y="4221000"/>
            <a:ext cx="341964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20" y="1483560"/>
            <a:ext cx="257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8459640" cy="1733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68040" y="3787920"/>
            <a:ext cx="370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N0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主控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线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    Y00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     N0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主控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29280" y="3724200"/>
            <a:ext cx="3240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6545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05120" y="3943800"/>
            <a:ext cx="377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V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程序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94524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9120" y="15562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532720" cy="175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19440" y="4007160"/>
            <a:ext cx="361872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  Y00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   X00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  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3274"/>
          <a:stretch/>
        </p:blipFill>
        <p:spPr>
          <a:xfrm>
            <a:off x="4788000" y="4149720"/>
            <a:ext cx="388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44240" y="4507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二、编程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080" y="2133720"/>
            <a:ext cx="22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74400" y="2563200"/>
            <a:ext cx="103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留出一定的空间，待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某些接点或电路短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切断某些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换部分电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8800" y="4075920"/>
            <a:ext cx="209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1557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6160" y="5057640"/>
            <a:ext cx="18860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双线圈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程序的优化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编程元件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00" y="90180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5003640" cy="2982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859280" cy="3441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981680" y="5024520"/>
            <a:ext cx="3924360" cy="136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2205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飞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键离合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曲柄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6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滑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7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8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9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作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0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位弹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1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磁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2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衔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3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闭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4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程开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 15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凸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32480" y="155628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曲柄压力机及常规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4292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模拟曲柄压力机硬件接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及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4360" y="2733840"/>
            <a:ext cx="5182920" cy="4124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0" t="3377" r="31144" b="16179"/>
          <a:stretch/>
        </p:blipFill>
        <p:spPr>
          <a:xfrm>
            <a:off x="5076720" y="1628640"/>
            <a:ext cx="4067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合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4360" y="2870280"/>
            <a:ext cx="4824360" cy="398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57890" t="49861" r="-2829" b="7991"/>
          <a:stretch/>
        </p:blipFill>
        <p:spPr>
          <a:xfrm>
            <a:off x="4427640" y="1484280"/>
            <a:ext cx="424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643920"/>
            <a:ext cx="34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动断触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的电机“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停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及梯形图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2851200"/>
            <a:ext cx="4824360" cy="4006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rcRect l="59141" t="45332" r="-1000" b="11161"/>
          <a:stretch/>
        </p:blipFill>
        <p:spPr>
          <a:xfrm>
            <a:off x="4500720" y="1347840"/>
            <a:ext cx="40320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63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模块三</a:t>
            </a:r>
            <a:br>
              <a:rPr sz="3200"/>
            </a:br>
            <a:r>
              <a:rPr b="0" lang="zh-CN" sz="3200" spc="-1" strike="noStrike">
                <a:solidFill>
                  <a:srgbClr val="330033"/>
                </a:solidFill>
                <a:latin typeface="宋体"/>
              </a:rPr>
              <a:t>  基本逻辑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4880" y="69228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052880" y="0"/>
            <a:ext cx="3090960" cy="6642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66880" y="3056400"/>
            <a:ext cx="15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-2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，写出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5205240" cy="684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3320" y="-473400"/>
            <a:ext cx="606960" cy="60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0033"/>
                </a:solidFill>
                <a:latin typeface="Arial"/>
              </a:rPr>
              <a:t>模块三  基本逻辑指令及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1960" y="1558800"/>
            <a:ext cx="326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0640" y="37879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指令一览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395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指令表绘出下列程序的梯形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8520" y="1549800"/>
            <a:ext cx="254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50880" y="1559160"/>
            <a:ext cx="162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6880" y="1629720"/>
            <a:ext cx="162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P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2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960" y="2276640"/>
            <a:ext cx="21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议边学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0120" y="-482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19479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556640"/>
            <a:ext cx="4305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19880" cy="216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4376880"/>
            <a:ext cx="3095640" cy="2481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2920" y="4394160"/>
            <a:ext cx="3324240" cy="2463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0120" y="1220760"/>
            <a:ext cx="102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532720" cy="1544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463920" cy="193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24600" y="2928960"/>
            <a:ext cx="2093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  AND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4075200"/>
            <a:ext cx="540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3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4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27080" y="292896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9480" y="1556280"/>
            <a:ext cx="26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846000" y="15609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9280" y="1989000"/>
            <a:ext cx="8424720" cy="15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94760" y="3645360"/>
            <a:ext cx="364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03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1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0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         X007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0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M1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常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         M10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输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4000" y="3622680"/>
            <a:ext cx="33116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9880" y="2133720"/>
            <a:ext cx="8437680" cy="356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9920" y="1627920"/>
            <a:ext cx="668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模块三  基本逻辑指令及应用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1960" y="1627920"/>
            <a:ext cx="705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例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9160" y="2158920"/>
            <a:ext cx="361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X00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Y0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常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       X01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上升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F      X01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脉冲下降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       Y002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1020"/>
          <a:stretch/>
        </p:blipFill>
        <p:spPr>
          <a:xfrm>
            <a:off x="5292720" y="2205000"/>
            <a:ext cx="30654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87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7120" y="1352520"/>
            <a:ext cx="1957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4240" y="57960"/>
            <a:ext cx="3650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8317080" cy="1149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8317080" cy="1168200"/>
          </a:xfrm>
          <a:prstGeom prst="rect">
            <a:avLst/>
          </a:prstGeom>
          <a:ln w="0">
            <a:noFill/>
          </a:ln>
        </p:spPr>
      </p:pic>
      <p:pic>
        <p:nvPicPr>
          <p:cNvPr id="188" name="03d05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3780000" cy="3485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2133720"/>
            <a:ext cx="2235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  AN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示例程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43028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4280" y="2801880"/>
            <a:ext cx="408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B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4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007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与常闭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串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两块电路并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 M10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0033"/>
                </a:solidFill>
                <a:latin typeface="宋体"/>
              </a:rPr>
              <a:t>模块三  基本逻辑指令及应用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440" y="47368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3960" y="2244600"/>
            <a:ext cx="246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00600" y="0"/>
            <a:ext cx="91188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FX2N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基本逻辑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2200" y="162756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845964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38600" y="3859560"/>
            <a:ext cx="416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0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置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X00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下降沿脉冲输出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M1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取常开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Y0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复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7920" y="3774960"/>
            <a:ext cx="34196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6T05:30:42Z</dcterms:modified>
  <cp:revision>71</cp:revision>
  <dc:subject/>
  <dc:title>模块二  S7-200系列PLC的基本结构 </dc:title>
</cp:coreProperties>
</file>