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62F-7F11-44AE-A9FB-D317A8A4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AB9-FB06-4963-982A-DA37CB61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C66-4CD0-4D79-93D5-6029CD07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A1C-F1D0-4EF2-950D-8E48B30F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D766-578B-4C10-91BD-95CDAA6C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4AC2-D1BE-4284-8B33-B9C39521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791A-0F17-4B1A-A94E-8DDE273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83E1-B65E-48AC-B1B4-DF27507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8E9-2FA5-4C7E-BB85-E976C99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ECDE-E3FE-47C4-B3AF-2BE0C3F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FE0-91E3-4599-B57A-374731E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BD2-E244-47A5-91D8-E2CA3A9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8DF3-E127-44F4-A43F-9BD291D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6267-B4EC-4822-BE2D-4E9E7B71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34C9-0D2B-443D-BAEC-CA4450F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473-4EF3-42BD-9A7C-B7BC0C67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C7C4-24A9-4103-AF52-DDE6886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193-4BBE-4C83-8B52-2C476D16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AF8-3D24-49A3-9DB0-EB69E43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FD7-048A-4E25-898B-7AA65B8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A96-8145-40F4-9D92-3CF34573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489-5403-4CC2-A716-B748A72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F92-3091-4DD8-BF4B-1893F8F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035-A10D-4BBB-8839-921217C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4F75-24AA-4E19-B1DD-E936C16A800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8F4-EB09-4390-A530-5744B15A323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功能指令及其通用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程序流程类指令的基本编程方法及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功能指令在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213300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警戒时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2708280"/>
          <a:ext cx="5905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5905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55628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彩灯的两种闪烁模式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211640" cy="40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30080" y="22766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78626" t="0" r="0" b="0"/>
          <a:stretch/>
        </p:blipFill>
        <p:spPr>
          <a:xfrm>
            <a:off x="7926480" y="2276640"/>
            <a:ext cx="121752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9658" b="0"/>
          <a:stretch/>
        </p:blipFill>
        <p:spPr>
          <a:xfrm>
            <a:off x="3892680" y="2349360"/>
            <a:ext cx="39020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87200" y="17002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多工作方式的小车行程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359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程序调用指令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各种用途开关类电器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控制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3440" cy="169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456000" cy="210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59160" y="1557360"/>
            <a:ext cx="4884840" cy="5300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3960" y="3788640"/>
            <a:ext cx="26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车行程控制系统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16600" y="63586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面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原理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42467" r="0" b="2745"/>
          <a:stretch/>
        </p:blipFill>
        <p:spPr>
          <a:xfrm>
            <a:off x="4656240" y="2205000"/>
            <a:ext cx="448776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程序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0" r="0" b="57677"/>
          <a:stretch/>
        </p:blipFill>
        <p:spPr>
          <a:xfrm>
            <a:off x="0" y="2965320"/>
            <a:ext cx="4861080" cy="389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57360" y="2276640"/>
            <a:ext cx="17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8605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思考下列问题，将正确的答案填入空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条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将不执行该指令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位元件，即由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设计一个报警电路。输入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报警输入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亮，闪烁频率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报警蜂鸣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音响输出，报警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由闪烁变为常亮且停止音响；按下报警解除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报警灯熄灭。为测试报警灯和报警蜂鸣器的好坏，可用测试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时测试。试画出控制程序梯形图、写出语句表，并加注释。（提示：可分别将报警和报警响应两种状态用两段子程序编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4160" y="162864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2480" y="2275920"/>
            <a:ext cx="225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功能指令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5530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87040" y="30679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格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92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达形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17880" y="4941720"/>
            <a:ext cx="694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7920" y="1988640"/>
            <a:ext cx="1337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1160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3755880" cy="71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7594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01720" y="24210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3360" y="33577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040" y="429264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（慎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4176720" cy="76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4941000"/>
            <a:ext cx="275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脉冲执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240" y="83628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0920" y="1912320"/>
            <a:ext cx="36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元件及字元件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5498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64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9960" y="1988280"/>
            <a:ext cx="325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48160" y="2452680"/>
            <a:ext cx="4356000" cy="41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9440" y="3714480"/>
            <a:ext cx="32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50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+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0160" y="31978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第三行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6880" y="220428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条件跳转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16480" y="2232000"/>
          <a:ext cx="54720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232000"/>
                    <a:ext cx="5472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3644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3328920"/>
            <a:ext cx="312732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30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2781360"/>
            <a:ext cx="2089080" cy="360360"/>
          </a:xfrm>
          <a:prstGeom prst="wedgeRoundRectCallout">
            <a:avLst>
              <a:gd name="adj1" fmla="val -23935"/>
              <a:gd name="adj2" fmla="val 10991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149720"/>
            <a:ext cx="576360" cy="1943280"/>
          </a:xfrm>
          <a:prstGeom prst="wedgeRoundRectCallout">
            <a:avLst>
              <a:gd name="adj1" fmla="val 103166"/>
              <a:gd name="adj2" fmla="val 678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重跳转指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640" y="69192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62800"/>
            <a:ext cx="187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子程序调用及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628640"/>
          <a:ext cx="558000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5800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1788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2349360"/>
            <a:ext cx="3102120" cy="410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877000"/>
            <a:ext cx="1800360" cy="753840"/>
          </a:xfrm>
          <a:prstGeom prst="wedgeRoundRectCallout">
            <a:avLst>
              <a:gd name="adj1" fmla="val 53615"/>
              <a:gd name="adj2" fmla="val -16852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的应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700280"/>
            <a:ext cx="2448000" cy="433440"/>
          </a:xfrm>
          <a:prstGeom prst="wedgeRoundRectCallout">
            <a:avLst>
              <a:gd name="adj1" fmla="val -15888"/>
              <a:gd name="adj2" fmla="val 12985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的嵌套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48200" y="1889280"/>
            <a:ext cx="4195800" cy="496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628280"/>
            <a:ext cx="37911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03560" y="278064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中断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47512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89360"/>
                    <a:ext cx="475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4280"/>
            <a:ext cx="305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主程序结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781360"/>
          <a:ext cx="525600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5256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014840" y="393300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6440" y="4581360"/>
            <a:ext cx="5400720" cy="16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492360" cy="277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 rot="10800000">
            <a:off x="5651280" y="587592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程序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05:52:25Z</dcterms:modified>
  <cp:revision>113</cp:revision>
  <dc:subject/>
  <dc:title>模块二  S7-200系列PLC的基本结构 </dc:title>
</cp:coreProperties>
</file>