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423-D48B-4130-91FE-11F2B931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0A7A-707C-4F34-BD8D-BA7CD5B6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AB3-6E34-4122-B3FC-B9046B4C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0ED-05CC-47AC-94B1-ADC2FE0B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8B45-14F7-4114-91E7-71215BB3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D60C-F93F-491C-B651-88E17B97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F2E6-18E5-4C81-B2FC-DFFF1486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9F22-AC41-48D1-AB4C-C9A9F4E8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3364-D563-4890-B971-90C7F385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3798-CB89-4FBE-9056-FB53E071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6F3D-2C33-4BD5-B910-C2063666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C2E-2F8C-4219-BD99-AD552F55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FBA7-5A2A-4792-BD75-BCD18775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684D-855A-4CE2-B527-CAB168AF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FAE7-2B61-4CB7-A384-53B34B85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FAD0-B6BF-4320-9C28-94854653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9460-A22D-47AD-9A53-A8DF7D4C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E25B-82E3-4584-9790-432D7A9A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876-14B6-4C84-9FEE-DE819052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4C0B-EED8-4594-A87E-13631EB0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DF8-AB60-491E-A8F0-CC20DBA2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173-A05D-4301-B859-F32FE2DB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84D-1337-47DB-A5C0-241AB67B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27D-7999-45F5-B264-A94F54C0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06C3-E928-46BD-8A6E-750B4C84A84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1CFA-34D8-4569-913A-58B084B337F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学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传送比较、逻辑运算类指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掌握传送比较、逻辑运算类指令的编程方法和应用技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6400" y="1627920"/>
            <a:ext cx="121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字逻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运算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140360" y="1197000"/>
            <a:ext cx="4716360" cy="3394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71360" y="4657680"/>
            <a:ext cx="8972640" cy="2200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473840" y="306720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各种字逻辑运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的运用情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课 堂 演 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46400" y="1340640"/>
            <a:ext cx="243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使用功能指令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启－保－停控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3560" r="0" b="1771"/>
          <a:stretch/>
        </p:blipFill>
        <p:spPr>
          <a:xfrm>
            <a:off x="4486320" y="836640"/>
            <a:ext cx="4657680" cy="6021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rcRect l="0" t="0" r="53173" b="15238"/>
          <a:stretch/>
        </p:blipFill>
        <p:spPr>
          <a:xfrm>
            <a:off x="755640" y="3068640"/>
            <a:ext cx="3672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59920" y="220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3228480"/>
            <a:ext cx="7200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传送比较、逻辑运算等指令的综合编程方法和应用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进一步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X Developer V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程软件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系统开发过程中的使用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91400" y="3283560"/>
            <a:ext cx="170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单按钮启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控制硬件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70360" y="123840"/>
            <a:ext cx="5273640" cy="67341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00" y="390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0" t="0" r="0" b="52328"/>
          <a:stretch/>
        </p:blipFill>
        <p:spPr>
          <a:xfrm>
            <a:off x="0" y="77760"/>
            <a:ext cx="6516720" cy="4803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0" t="47678" r="0" b="0"/>
          <a:stretch/>
        </p:blipFill>
        <p:spPr>
          <a:xfrm>
            <a:off x="3059280" y="1935000"/>
            <a:ext cx="6084720" cy="492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796000" y="40464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Arial"/>
              </a:rPr>
              <a:t>模块七  传送比较、逻辑运算类指令及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22936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单按钮启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控制硬件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959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12960" y="16830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边学边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06d10a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384360" cy="981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203640" y="3716280"/>
            <a:ext cx="2184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10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1916640"/>
            <a:ext cx="82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填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指令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5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将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数据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858960" y="333360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7640" y="4193280"/>
            <a:ext cx="82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计数脉冲和复位信号分别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提供，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将计数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当前值转换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码后送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请设计出梯形图程序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计数值应限制在什么范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0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用定时器中断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01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组成的位元件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4Y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请设计主程序和中断子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4676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56520" y="213264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6432480" cy="1936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16000" y="4221000"/>
            <a:ext cx="4059360" cy="2613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72480" y="5358600"/>
            <a:ext cx="20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-1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比较指令的应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05480" y="21326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区间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94200" y="2276640"/>
            <a:ext cx="6049800" cy="1777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00160" y="4064040"/>
            <a:ext cx="4032360" cy="2759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813640" y="5157000"/>
            <a:ext cx="23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-2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区间比较指令的应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9240" y="2014200"/>
            <a:ext cx="1703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数据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6" descr=""/>
          <p:cNvPicPr/>
          <p:nvPr/>
        </p:nvPicPr>
        <p:blipFill>
          <a:blip r:embed="rId1"/>
          <a:srcRect l="896" t="4481" r="1392" b="4822"/>
          <a:stretch/>
        </p:blipFill>
        <p:spPr>
          <a:xfrm>
            <a:off x="3132000" y="2133720"/>
            <a:ext cx="6012000" cy="1222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68360" y="3573360"/>
            <a:ext cx="3311640" cy="614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41760" y="43455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移位传送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16360" y="4365720"/>
            <a:ext cx="6092640" cy="1346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268360" y="5805360"/>
            <a:ext cx="4608720" cy="72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45680" y="3572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74040" y="58759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6520" y="205992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取反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6033960" cy="1325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345680" y="3572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45680" y="59490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124000" y="3645000"/>
            <a:ext cx="3527640" cy="674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44640" y="443592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块传送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771640" y="4437000"/>
            <a:ext cx="6229440" cy="1368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124000" y="5992920"/>
            <a:ext cx="41626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20880" y="2059920"/>
            <a:ext cx="170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多点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5919840" cy="1314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3529080" cy="628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005480" y="43646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数据交换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132000" y="4365720"/>
            <a:ext cx="592164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340000" y="5805360"/>
            <a:ext cx="352728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45680" y="3572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45680" y="58759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46400" y="15562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一、传送与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7400" y="2059560"/>
            <a:ext cx="15764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变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5977080" cy="132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340000" y="3573360"/>
            <a:ext cx="3166920" cy="673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30360" y="4219920"/>
            <a:ext cx="1904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二进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变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rcRect l="0" t="0" r="0" b="4227"/>
          <a:stretch/>
        </p:blipFill>
        <p:spPr>
          <a:xfrm>
            <a:off x="2830680" y="4365720"/>
            <a:ext cx="5933880" cy="1274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2268360" y="5805360"/>
            <a:ext cx="3167280" cy="505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345680" y="3572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18760" y="5804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02280" y="1556280"/>
            <a:ext cx="268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、加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指令与减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9880" y="2203920"/>
            <a:ext cx="15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9880" y="3643920"/>
            <a:ext cx="15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4075" r="0" b="2564"/>
          <a:stretch/>
        </p:blipFill>
        <p:spPr>
          <a:xfrm>
            <a:off x="2340000" y="2276640"/>
            <a:ext cx="6048360" cy="1288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411280" y="3716280"/>
            <a:ext cx="5954760" cy="1314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348000" y="5157720"/>
            <a:ext cx="3456000" cy="1563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22040" y="566028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33"/>
                </a:solidFill>
                <a:latin typeface="Times New Roman"/>
              </a:rPr>
              <a:t>模块七  传送比较、逻辑运算类指令及应用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39880" y="1556280"/>
            <a:ext cx="4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三、字逻辑运算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22287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逻辑运算指令包括字逻辑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NC 2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、字逻辑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O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NC 2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、字逻辑异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XO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NC 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和求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E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NC 2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6912000" cy="1511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0" t="2316" r="0" b="2779"/>
          <a:stretch/>
        </p:blipFill>
        <p:spPr>
          <a:xfrm>
            <a:off x="1476360" y="5013360"/>
            <a:ext cx="6889680" cy="1488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42400" y="3788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07:48Z</dcterms:created>
  <dc:creator>雨林木风</dc:creator>
  <dc:description/>
  <dc:language>en-US</dc:language>
  <cp:lastModifiedBy>雨林木风</cp:lastModifiedBy>
  <dcterms:modified xsi:type="dcterms:W3CDTF">2010-10-08T10:14:12Z</dcterms:modified>
  <cp:revision>114</cp:revision>
  <dc:subject/>
  <dc:title>模块二  S7-200系列PLC的基本结构 </dc:title>
</cp:coreProperties>
</file>