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B5B-CE24-478A-B0A3-64D82508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500-3428-4875-9571-130A5D07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F0B-ED0B-48D3-BDC4-374D6AAA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864A-CB64-47D5-A8FC-5D86C9CF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1002-1AE8-4277-B12E-75B6B658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4D05-7FB7-474A-8E91-03CEA360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4846-4803-486A-BB12-23593285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B97C-9053-4838-8DAF-264C3168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8B7C-5ACF-4AA2-AE66-C86EE8F6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5D2D-EB72-4198-A41D-930D808F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6EE0-FA25-4046-9578-5B3943F7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37E-9CA1-4E0C-8BF8-A991ED68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DE89-1B6B-4A94-AC9E-AAB24647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D7DB-5EF4-4CD4-97A4-7FD756DF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9B93-D033-4F54-973E-734CB8C8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6A9D-EF8F-4634-B549-C86D1012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4FAA-FB6E-471C-8413-58A07E00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6E231-52FF-4D51-B935-D7B637FE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5C580-9EE3-49DA-A1D4-5866DE99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3197D-6ED4-4B77-A932-F37172E2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F610D-9630-4F36-B1DB-7EE84088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2A73-FF97-4025-8455-A5482007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B36-CFD5-4200-9987-F5CA1405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A338B-201A-4C10-8E73-6C8757E0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EB498-7CED-416D-97A4-80695006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92A5C-56A8-41A5-B194-5C481331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36488-3428-42D5-9979-747C8C6C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48C7-7C1F-4916-80CF-96E35368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88FDA-1451-454A-B9E0-6F195D89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324B5-FC35-41E0-8EA1-7F76BACC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57A91-A7C6-418A-A495-7A0C84BE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2E352-283D-43EC-8ED8-5CA46310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9D808-0B64-410E-B6D9-1433AB98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B2B-FAB2-4299-B905-156A1101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78CAD-4912-40AD-B1A9-20D5FF1D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31B32-5E31-4C9D-974C-84643592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3D998-8640-4A0E-8918-C283A7C1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7EB1B-A6C0-486A-821E-9A677658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22298-3681-4039-B731-214E51E6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20FDF-E071-4803-A1A5-DBD5CE0B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5BF00-1364-42A8-87E8-314B4D48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92EBF-DEC2-4497-94FE-A3DB8226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5C874-35FB-4332-9071-AA97C4E9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A17-CAC0-404D-9116-7CBCC6B0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3EE-415E-482F-89C6-FDC8E0CE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D22-D605-4034-93A7-37CF50F2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AE5-9647-4462-AFBA-AD2A855C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51A-1935-44A8-A4D5-6043531F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F8BE-FEA8-42BB-AB1E-6F6004FA99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A8EA-BA11-4674-BEE7-6E05AF8F58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1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1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E1C2-BD1B-4BB5-80DB-AD9A3A86F18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6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6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FF9B-41A0-48CA-AA92-2589A4E4426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可编程控制器应用基础</a:t>
            </a:r>
            <a:br>
              <a:rPr sz="5400"/>
            </a:b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版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116000" y="62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模块式技能实训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中职系列教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508800" y="4076640"/>
            <a:ext cx="185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周四六  主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纪文超  副主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58280" y="620568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人民邮电出版社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010.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482616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673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扫描工作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编程控制器采用循环扫描方式工作。从第一条程序开始，按顺序逐条执行程序，直到程序结束。然后再从头开始扫描，并周而复始地重复进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编程控制器工作时的扫描过程包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阶段：内部处理、通信处理、输入扫描、程序执行、输出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732720" y="1413000"/>
          <a:ext cx="189216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1413000"/>
                    <a:ext cx="189216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26120" y="4581360"/>
            <a:ext cx="3533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LD   X000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逻辑操作开始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R   Y000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常开接点并联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 X001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常闭接点串联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 X002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常闭接点串联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UT  Y000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输出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END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程序结束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2349360"/>
            <a:ext cx="424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梯形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是使用得最多的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图形编程语言。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-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所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控制程序，就是用梯形图语言编制的一段程序。实际编程时，总是先写出梯形图程序，如果需要，再根据梯形图写出指令表程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" y="4581360"/>
            <a:ext cx="424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指令表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亦称语句表）类似于计算机汇编语言的形式，它是采用指令的助记符来编程的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59500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顺序功能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详见本书模块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24000" y="1700280"/>
            <a:ext cx="27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PL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三种编程语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rcRect l="63066" t="25759" r="-2452" b="28003"/>
          <a:stretch/>
        </p:blipFill>
        <p:spPr>
          <a:xfrm>
            <a:off x="4859280" y="2276640"/>
            <a:ext cx="324180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5148360" y="3884760"/>
          <a:ext cx="3995640" cy="29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884760"/>
                    <a:ext cx="3995640" cy="29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55200" y="24210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停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程序写入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700360" y="4365720"/>
            <a:ext cx="1081080" cy="1728720"/>
          </a:xfrm>
          <a:prstGeom prst="wedgeRoundRectCallout">
            <a:avLst>
              <a:gd name="adj1" fmla="val 17106"/>
              <a:gd name="adj2" fmla="val -9031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三菱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FX2N -32MR-001 PL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7314840" y="3206880"/>
            <a:ext cx="615960" cy="1060200"/>
          </a:xfrm>
          <a:custGeom>
            <a:avLst/>
            <a:gdLst>
              <a:gd name="textAreaLeft" fmla="*/ 77040 w 615960"/>
              <a:gd name="textAreaRight" fmla="*/ 539280 w 615960"/>
              <a:gd name="textAreaTop" fmla="*/ 264960 h 1060200"/>
              <a:gd name="textAreaBottom" fmla="*/ 795240 h 1060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4880" y="3908520"/>
            <a:ext cx="606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最小系统的软硬件组成方案之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SC09_HPP" descr=""/>
          <p:cNvPicPr/>
          <p:nvPr/>
        </p:nvPicPr>
        <p:blipFill>
          <a:blip r:embed="rId3"/>
          <a:srcRect l="5102" t="14179" r="14891" b="0"/>
          <a:stretch/>
        </p:blipFill>
        <p:spPr>
          <a:xfrm>
            <a:off x="1042920" y="1628640"/>
            <a:ext cx="1467000" cy="2086200"/>
          </a:xfrm>
          <a:prstGeom prst="rect">
            <a:avLst/>
          </a:prstGeom>
          <a:ln w="0">
            <a:noFill/>
          </a:ln>
        </p:spPr>
      </p:pic>
      <p:pic>
        <p:nvPicPr>
          <p:cNvPr id="382" name="SC09_PLC" descr=""/>
          <p:cNvPicPr/>
          <p:nvPr/>
        </p:nvPicPr>
        <p:blipFill>
          <a:blip r:embed="rId4"/>
          <a:srcRect l="3140" t="0" r="0" b="0"/>
          <a:stretch/>
        </p:blipFill>
        <p:spPr>
          <a:xfrm>
            <a:off x="2556000" y="1628640"/>
            <a:ext cx="1533240" cy="2086200"/>
          </a:xfrm>
          <a:prstGeom prst="rect">
            <a:avLst/>
          </a:prstGeom>
          <a:ln w="0">
            <a:noFill/>
          </a:ln>
        </p:spPr>
      </p:pic>
      <p:pic>
        <p:nvPicPr>
          <p:cNvPr id="383" name="FX-20P-CAB" descr=""/>
          <p:cNvPicPr/>
          <p:nvPr/>
        </p:nvPicPr>
        <p:blipFill>
          <a:blip r:embed="rId5"/>
          <a:srcRect l="42092" t="0" r="3368" b="0"/>
          <a:stretch/>
        </p:blipFill>
        <p:spPr>
          <a:xfrm>
            <a:off x="4140360" y="1628640"/>
            <a:ext cx="1514160" cy="20955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640" y="1700280"/>
            <a:ext cx="218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LD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X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Y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X001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X002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Y000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20840" y="4365720"/>
            <a:ext cx="1081080" cy="1728720"/>
          </a:xfrm>
          <a:prstGeom prst="wedgeRoundRectCallout">
            <a:avLst>
              <a:gd name="adj1" fmla="val -4476"/>
              <a:gd name="adj2" fmla="val -86638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FX-20P-E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手持式编程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4365720"/>
            <a:ext cx="1081080" cy="1728720"/>
          </a:xfrm>
          <a:prstGeom prst="wedgeRoundRectCallout">
            <a:avLst>
              <a:gd name="adj1" fmla="val 23421"/>
              <a:gd name="adj2" fmla="val -86638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FX-20P-CAB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适配电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79320" y="628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三菱小型机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947880" y="3797280"/>
            <a:ext cx="3779640" cy="2870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6265800" cy="26877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08720" y="61563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停“程序写入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352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0800000">
            <a:off x="5148000" y="4724280"/>
            <a:ext cx="615960" cy="1060560"/>
          </a:xfrm>
          <a:custGeom>
            <a:avLst/>
            <a:gdLst>
              <a:gd name="textAreaLeft" fmla="*/ 77040 w 615960"/>
              <a:gd name="textAreaRight" fmla="*/ 539280 w 615960"/>
              <a:gd name="textAreaTop" fmla="*/ 264960 h 1060560"/>
              <a:gd name="textAreaBottom" fmla="*/ 79560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4880" y="735120"/>
            <a:ext cx="606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最小系统的软硬件组成方案之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5940360" y="4437000"/>
            <a:ext cx="3032280" cy="15796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971640" y="2060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欧姆龙小型机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-4320" y="169416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86640" y="158112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彩灯亮灭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开关控制电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716360" y="2204280"/>
            <a:ext cx="280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梯形图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54840" y="4075560"/>
            <a:ext cx="326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-15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彩灯开关控制梯形图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指令表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72400" y="595008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-14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彩灯的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开关控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3961080" cy="3762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435640" y="2637000"/>
            <a:ext cx="2374920" cy="15192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619240" y="5050440"/>
            <a:ext cx="189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001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00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764800" y="191628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实训内容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输入输出继电器的接线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58560" y="3213000"/>
            <a:ext cx="362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熟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外部接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掌握输入继电器与输入端子之间的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掌握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负载、负载供电电源之间的联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理解程序在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控制系统中的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了解手持式编程工具的一般应用。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75920" y="2448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18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602064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-16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实训电路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I/O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接线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10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3360" y="308844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08440" y="5733000"/>
            <a:ext cx="623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(a)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梯形图程序 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(b)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指令表程序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-17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梯形图及指令表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790800" cy="38163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rcRect l="0" t="0" r="0" b="8326"/>
          <a:stretch/>
        </p:blipFill>
        <p:spPr>
          <a:xfrm>
            <a:off x="4414680" y="2421000"/>
            <a:ext cx="47293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18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10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33360" y="308844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700360" y="155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5640" y="269100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思考下列问题，将正确的答案填入空白处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可编程控制器的内部有很多等效继电器，但只有输入继电器和输出继电器是可以与外围设备进行连接的，其中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继电器的驱动线圈有外部接线端子，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继电器的动合触头有外部接线端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的主要编程设备有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的输出接口电路一般有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输出方式、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输出方式和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输出方式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种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全书共分八个模块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一  可编程控制器常见应用系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二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FX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系列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基本结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三  基本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四  三相异步电动机的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控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五  步进指令及状态编程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六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程序流程类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七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传送比较、逻辑运算类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八  其他功能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常见应用系统的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的特点及应用范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的硬件结构和软件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的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3456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种“启－保－停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控制电路的比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971640" y="2708280"/>
          <a:ext cx="322740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708280"/>
                    <a:ext cx="322740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4788000" y="6021360"/>
            <a:ext cx="33829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控制电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6021360"/>
            <a:ext cx="4319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继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接触器控制电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859280" y="1557360"/>
            <a:ext cx="3924360" cy="29354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rcRect l="63066" t="25759" r="-2452" b="28003"/>
          <a:stretch/>
        </p:blipFill>
        <p:spPr>
          <a:xfrm>
            <a:off x="5508720" y="4437000"/>
            <a:ext cx="27255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可编程控制器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编程方法简单易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功能强，性能价格比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硬件配套齐全，用户使用方便，适应性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可靠性高，抗干扰能力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系统的设计、安装、调试工作量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维修工作量小，维修方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体积小，能耗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8920" y="4652640"/>
            <a:ext cx="3673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-4  PL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部硬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逻辑结构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rcRect l="0" t="1453" r="0" b="1026"/>
          <a:stretch/>
        </p:blipFill>
        <p:spPr>
          <a:xfrm>
            <a:off x="4859280" y="3645000"/>
            <a:ext cx="4284720" cy="309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0" y="1484280"/>
          <a:ext cx="4968720" cy="293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496872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5219640" y="2133720"/>
            <a:ext cx="3600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-3  FX2N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系列可编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控制器的外形结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两种输入接口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780000" y="2060640"/>
            <a:ext cx="5040000" cy="2214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4465800" cy="2403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2276640"/>
            <a:ext cx="302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直流输入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电路外接电源的极性可任意，单元中含有</a:t>
            </a: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及</a:t>
            </a: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构成的滤波电路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46760" y="4653000"/>
            <a:ext cx="4197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交流输入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单元中含有隔直流电容</a:t>
            </a: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，直流及交流输入电路中均采用光耦实现输入信号与机内电路的耦合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三种输出接口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2349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晶体管输出电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03280" y="5516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继电器输出电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176720" cy="21178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7883" t="12699" r="10536" b="6779"/>
          <a:stretch/>
        </p:blipFill>
        <p:spPr>
          <a:xfrm>
            <a:off x="611280" y="3357720"/>
            <a:ext cx="3816360" cy="20811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rcRect l="13832" t="7795" r="16649" b="8642"/>
          <a:stretch/>
        </p:blipFill>
        <p:spPr>
          <a:xfrm>
            <a:off x="4427640" y="4665600"/>
            <a:ext cx="4446360" cy="21924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5724360" y="400536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晶闸管输出电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92360" y="2349360"/>
            <a:ext cx="976320" cy="412920"/>
          </a:xfrm>
          <a:prstGeom prst="rightArrow">
            <a:avLst>
              <a:gd name="adj1" fmla="val 50000"/>
              <a:gd name="adj2" fmla="val 5911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3933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360" y="551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28920" y="5013360"/>
            <a:ext cx="135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入接线端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内置输入控制回路直流电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入等效继电器驱动线圈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入等效继电器工作触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程序“工作电源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91280" y="5013360"/>
            <a:ext cx="70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驱动线圈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辅助触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主触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接线端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负载工作电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-341280"/>
            <a:ext cx="546120" cy="55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黑体"/>
                <a:ea typeface="黑体"/>
              </a:rPr>
              <a:t>模块一  可编程控制器常见应用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6697440" cy="505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047240" y="1267200"/>
            <a:ext cx="60696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等效电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2:37:52Z</dcterms:created>
  <dc:creator>雨林木风</dc:creator>
  <dc:description/>
  <dc:language>en-US</dc:language>
  <cp:lastModifiedBy>雨林木风</cp:lastModifiedBy>
  <dcterms:modified xsi:type="dcterms:W3CDTF">2010-10-05T07:26:08Z</dcterms:modified>
  <cp:revision>47</cp:revision>
  <dc:subject/>
  <dc:title> S7-200系列可编程控制器 应 用 基 础</dc:title>
</cp:coreProperties>
</file>