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E5A6-817F-4651-B101-CAD3ADE8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90A1-16D1-41B4-A62E-41974F32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C62E-B94C-47F7-94B9-9AF7413B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1030-99D9-4D85-8566-F847990C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4C98-7805-436E-86B6-1D03F9EA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7312-0C70-4369-9BEE-E0A4601E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D48A-C93A-4425-B04F-853BD1E3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9554-0E47-431F-BFD1-4DC54764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E8E1-112C-40CB-BA1E-6779B9AC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A54B-3992-4FA4-8EDD-A598A67C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1B07-39C7-46E9-81D4-9B4DBE6F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754D-FB80-4630-A488-223618E4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07C1-A839-471E-AAA9-8A3D66A7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9117-326B-4CD1-B7DE-74D7473C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2918-5100-48A0-9792-AC8756D3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7FEB-4E96-41EF-9C4F-A7D3A58F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C113-D6A9-413B-B130-B8FAAC73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95145-279D-4168-AF34-2A2424E6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C6CFB-5AB5-4D6B-AF5B-91193ED1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5D8B7-47DD-46E7-954B-6045E26D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F3BAE-82A5-4D30-8576-9F2FB220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BCB81-E94A-4AC2-9746-C14C980C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CF7B-50D7-430F-9F52-F616C0AE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5DA4B-C0E8-4D30-B027-8F46BC33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88DB0-20D9-4DB1-BC19-F145C8BE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31C67-16F3-4E66-B4E2-A2EB1A23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8DDD3-A179-483A-A960-E1902EE2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984DC-EA93-4D9A-AAAA-8363B389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337E8-52AA-420F-A3DD-FEBB35E9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50F06-87EB-44C5-BD3B-96C76E23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46943-E03C-40DB-827D-16AA799D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69E58-C9DC-4429-B85C-DE6F7C4A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9B66D-039F-4511-9757-D154F0A1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017B-1AE5-4386-9EF6-9A701BE1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854FD-EEF6-4F8E-AD15-497CEE89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75FFE-AB38-4A42-81C5-F297359A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567BA-9768-49F0-ADD3-4C19ED8E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AF9B6-04A4-48BE-9E78-5F63EEB8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5CEDB-7B93-4C54-889C-452D86F1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FFA71-4449-4329-BCCF-B530282F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259E9-C04A-41DE-A0D5-80098B3A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486F4-1CFB-4507-9811-D97CFF95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29EDD-7FC6-4F2B-B551-98FC93C7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8C9E-A67A-4FDB-AC2A-DB9ACD97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8252-0229-4A04-B1C4-09E29C93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941-B561-4A40-B29E-9ABD6CEF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7BF1-6255-47B3-9EFF-80AD3A47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7BBF-5CDB-4F82-BF11-50819590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25B2-AA39-4BE1-AFCA-289CB3AED3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1473-3DD6-4892-B434-5B2483D302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12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14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51C6-B95D-4C99-8D15-54E5F8E2499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59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61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65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E623-56BF-4F73-8558-9CEDFA01ACF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可编程控制器应用基础</a:t>
            </a:r>
            <a:br>
              <a:rPr sz="5400"/>
            </a:b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第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版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116000" y="62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楷体"/>
              </a:rPr>
              <a:t>模块式技能实训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楷体"/>
              </a:rPr>
              <a:t>·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楷体"/>
              </a:rPr>
              <a:t>中职系列教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508800" y="4076640"/>
            <a:ext cx="185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周四六  主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纪文超  副主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58280" y="6205680"/>
            <a:ext cx="30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人民邮电出版社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010.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900000" y="3284640"/>
            <a:ext cx="482616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673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扫描工作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编程控制器采用循环扫描方式工作。从第一条程序开始，按顺序逐条执行程序，直到程序结束。然后再从头开始扫描，并周而复始地重复进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编程控制器工作时的扫描过程包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阶段：内部处理、通信处理、输入扫描、程序执行、输出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55640" y="2421000"/>
            <a:ext cx="30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732720" y="1413000"/>
          <a:ext cx="189216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1413000"/>
                    <a:ext cx="189216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26120" y="4581360"/>
            <a:ext cx="3533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LD   X000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表示逻辑操作开始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OR   Y000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表示常开接点并联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ANI  X001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表示常闭接点串联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ANI  X002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表示常闭接点串联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OUT  Y000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表示输出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END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表示程序结束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24000" y="2349360"/>
            <a:ext cx="424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梯形图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是使用得最多的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图形编程语言。图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-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）所示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控制程序，就是用梯形图语言编制的一段程序。实际编程时，总是先写出梯形图程序，如果需要，再根据梯形图写出指令表程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4000" y="4581360"/>
            <a:ext cx="424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指令表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亦称语句表）类似于计算机汇编语言的形式，它是采用指令的助记符来编程的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595008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顺序功能图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详见本书模块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24000" y="1700280"/>
            <a:ext cx="270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PLC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三种编程语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rcRect l="63066" t="25759" r="-2452" b="28003"/>
          <a:stretch/>
        </p:blipFill>
        <p:spPr>
          <a:xfrm>
            <a:off x="4859280" y="2276640"/>
            <a:ext cx="324180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5148360" y="3884760"/>
          <a:ext cx="3995640" cy="29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3884760"/>
                    <a:ext cx="3995640" cy="29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55200" y="24210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启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停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程序写入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700360" y="4365720"/>
            <a:ext cx="1081080" cy="1728720"/>
          </a:xfrm>
          <a:prstGeom prst="wedgeRoundRectCallout">
            <a:avLst>
              <a:gd name="adj1" fmla="val 17106"/>
              <a:gd name="adj2" fmla="val -90310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三菱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FX2N -32MR-001 PL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7314840" y="3206880"/>
            <a:ext cx="615960" cy="1060200"/>
          </a:xfrm>
          <a:custGeom>
            <a:avLst/>
            <a:gdLst>
              <a:gd name="textAreaLeft" fmla="*/ 77040 w 615960"/>
              <a:gd name="textAreaRight" fmla="*/ 539280 w 615960"/>
              <a:gd name="textAreaTop" fmla="*/ 264960 h 1060200"/>
              <a:gd name="textAreaBottom" fmla="*/ 795240 h 1060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4880" y="3908520"/>
            <a:ext cx="60696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最小系统的软硬件组成方案之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SC09_HPP" descr=""/>
          <p:cNvPicPr/>
          <p:nvPr/>
        </p:nvPicPr>
        <p:blipFill>
          <a:blip r:embed="rId3"/>
          <a:srcRect l="5102" t="14179" r="14891" b="0"/>
          <a:stretch/>
        </p:blipFill>
        <p:spPr>
          <a:xfrm>
            <a:off x="1042920" y="1628640"/>
            <a:ext cx="1467000" cy="2086200"/>
          </a:xfrm>
          <a:prstGeom prst="rect">
            <a:avLst/>
          </a:prstGeom>
          <a:ln w="0">
            <a:noFill/>
          </a:ln>
        </p:spPr>
      </p:pic>
      <p:pic>
        <p:nvPicPr>
          <p:cNvPr id="382" name="SC09_PLC" descr=""/>
          <p:cNvPicPr/>
          <p:nvPr/>
        </p:nvPicPr>
        <p:blipFill>
          <a:blip r:embed="rId4"/>
          <a:srcRect l="3140" t="0" r="0" b="0"/>
          <a:stretch/>
        </p:blipFill>
        <p:spPr>
          <a:xfrm>
            <a:off x="2556000" y="1628640"/>
            <a:ext cx="1533240" cy="2086200"/>
          </a:xfrm>
          <a:prstGeom prst="rect">
            <a:avLst/>
          </a:prstGeom>
          <a:ln w="0">
            <a:noFill/>
          </a:ln>
        </p:spPr>
      </p:pic>
      <p:pic>
        <p:nvPicPr>
          <p:cNvPr id="383" name="FX-20P-CAB" descr=""/>
          <p:cNvPicPr/>
          <p:nvPr/>
        </p:nvPicPr>
        <p:blipFill>
          <a:blip r:embed="rId5"/>
          <a:srcRect l="42092" t="0" r="3368" b="0"/>
          <a:stretch/>
        </p:blipFill>
        <p:spPr>
          <a:xfrm>
            <a:off x="4140360" y="1628640"/>
            <a:ext cx="1514160" cy="20955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85840" y="2381400"/>
            <a:ext cx="80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85840" y="2381400"/>
            <a:ext cx="80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5840" y="2381400"/>
            <a:ext cx="80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67640" y="1700280"/>
            <a:ext cx="2180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LD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X000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Y000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ANI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X001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ANI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X002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Y000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20840" y="4365720"/>
            <a:ext cx="1081080" cy="1728720"/>
          </a:xfrm>
          <a:prstGeom prst="wedgeRoundRectCallout">
            <a:avLst>
              <a:gd name="adj1" fmla="val -4476"/>
              <a:gd name="adj2" fmla="val -86638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FX-20P-E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手持式编程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067280" y="4365720"/>
            <a:ext cx="1081080" cy="1728720"/>
          </a:xfrm>
          <a:prstGeom prst="wedgeRoundRectCallout">
            <a:avLst>
              <a:gd name="adj1" fmla="val 23421"/>
              <a:gd name="adj2" fmla="val -86638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FX-20P-CAB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适配电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479320" y="6286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三菱小型机系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947880" y="3797280"/>
            <a:ext cx="3779640" cy="28702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2340000" y="1197000"/>
            <a:ext cx="6265800" cy="26877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08720" y="615636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启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停“程序写入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8352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10800000">
            <a:off x="5148000" y="4724280"/>
            <a:ext cx="615960" cy="1060560"/>
          </a:xfrm>
          <a:custGeom>
            <a:avLst/>
            <a:gdLst>
              <a:gd name="textAreaLeft" fmla="*/ 77040 w 615960"/>
              <a:gd name="textAreaRight" fmla="*/ 539280 w 615960"/>
              <a:gd name="textAreaTop" fmla="*/ 264960 h 1060560"/>
              <a:gd name="textAreaBottom" fmla="*/ 795600 h 1060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4880" y="735120"/>
            <a:ext cx="6069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最小系统的软硬件组成方案之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85840" y="2381400"/>
            <a:ext cx="80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85840" y="2381400"/>
            <a:ext cx="80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85840" y="2381400"/>
            <a:ext cx="800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5940360" y="4437000"/>
            <a:ext cx="3032280" cy="15796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971640" y="2060640"/>
            <a:ext cx="12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欧姆龙小型机系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-4320" y="1694160"/>
            <a:ext cx="667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课 堂 演 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086640" y="158112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彩灯亮灭的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开关控制电路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716360" y="2204280"/>
            <a:ext cx="2808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1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梯形图程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54840" y="4075560"/>
            <a:ext cx="326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1-15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彩灯开关控制梯形图程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指令表程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625560" y="46317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72400" y="595008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-14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彩灯的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开关控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3961080" cy="37623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5435640" y="2637000"/>
            <a:ext cx="2374920" cy="15192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5619240" y="5050440"/>
            <a:ext cx="1899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000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000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001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00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764800" y="1916280"/>
            <a:ext cx="38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实训内容—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输入输出继电器的接线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625560" y="46317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058560" y="3213000"/>
            <a:ext cx="362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熟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外部接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掌握输入继电器与输入端子之间的关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掌握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负载、负载供电电源之间的联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理解程序在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控制系统中的作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了解手持式编程工具的一般应用。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075920" y="2448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华文隶书"/>
              </a:rPr>
              <a:t>实训目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7360" y="1614600"/>
            <a:ext cx="6678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技 能 训 练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625560" y="46317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18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55640" y="6020640"/>
            <a:ext cx="37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1-16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实训电路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I/O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接线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10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33360" y="308844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908440" y="5733000"/>
            <a:ext cx="623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  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(a)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梯形图程序  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(b)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指令表程序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1-17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梯形图及指令表程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790800" cy="38163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rcRect l="0" t="0" r="0" b="8326"/>
          <a:stretch/>
        </p:blipFill>
        <p:spPr>
          <a:xfrm>
            <a:off x="4414680" y="2421000"/>
            <a:ext cx="47293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625560" y="46317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18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10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33360" y="308844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Times New Roman"/>
              </a:rPr>
              <a:t>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700360" y="1556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边学边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55640" y="2691000"/>
            <a:ext cx="799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思考下列问题，将正确的答案填入空白处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）可编程控制器的内部有很多等效继电器，但只有输入继电器和输出继电器是可以与外围设备进行连接的，其中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继电器的驱动线圈有外部接线端子，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继电器的动合触头有外部接线端子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的主要编程设备有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的输出接口电路一般有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输出方式、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输出方式和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输出方式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种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全书共分八个模块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一  可编程控制器常见应用系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二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FX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系列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PLC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基本结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三  基本指令及应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四  三相异步电动机的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PLC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控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五  步进指令及状态编程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六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程序流程类指令及应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七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传送比较、逻辑运算类指令及应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块八  其他功能指令及应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可编程控制器常见应用系统的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可编程控制器的特点及应用范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可编程控制器的硬件结构和软件系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了解可编程控制器的工作原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34560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种“启－保－停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控制电路的比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-8287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971640" y="2708280"/>
          <a:ext cx="322740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708280"/>
                    <a:ext cx="322740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4788000" y="6021360"/>
            <a:ext cx="33829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控制电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6021360"/>
            <a:ext cx="4319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继电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接触器控制电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4859280" y="1557360"/>
            <a:ext cx="3924360" cy="29354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rcRect l="63066" t="25759" r="-2452" b="28003"/>
          <a:stretch/>
        </p:blipFill>
        <p:spPr>
          <a:xfrm>
            <a:off x="5508720" y="4437000"/>
            <a:ext cx="27255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可编程控制器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编程方法简单易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功能强，性能价格比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硬件配套齐全，用户使用方便，适应性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可靠性高，抗干扰能力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系统的设计、安装、调试工作量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维修工作量小，维修方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体积小，能耗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58920" y="4652640"/>
            <a:ext cx="36734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-4  PL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部硬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逻辑结构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rcRect l="0" t="1453" r="0" b="1026"/>
          <a:stretch/>
        </p:blipFill>
        <p:spPr>
          <a:xfrm>
            <a:off x="4859280" y="3645000"/>
            <a:ext cx="4284720" cy="309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0" y="1484280"/>
          <a:ext cx="4968720" cy="293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84280"/>
                    <a:ext cx="496872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5219640" y="2133720"/>
            <a:ext cx="3600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-3  FX2N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系列可编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控制器的外形结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两种输入接口电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3780000" y="2060640"/>
            <a:ext cx="5040000" cy="2214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395280" y="4221000"/>
            <a:ext cx="4465800" cy="24037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755640" y="2421000"/>
            <a:ext cx="30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1280" y="2276640"/>
            <a:ext cx="302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直流输入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电路外接电源的极性可任意，单元中含有</a:t>
            </a:r>
            <a:r>
              <a:rPr b="0" i="1" lang="zh-CN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及</a:t>
            </a:r>
            <a:r>
              <a:rPr b="0" i="1" lang="zh-CN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构成的滤波电路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946760" y="4653000"/>
            <a:ext cx="4197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交流输入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单元中含有隔直流电容</a:t>
            </a:r>
            <a:r>
              <a:rPr b="0" i="1" lang="zh-CN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，直流及交流输入电路中均采用光耦实现输入信号与机内电路的耦合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0033"/>
                </a:solidFill>
                <a:latin typeface="Times New Roman"/>
              </a:rPr>
              <a:t>模块一  可编程控制器常见应用系统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三种输出接口电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55640" y="2421000"/>
            <a:ext cx="30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32000" y="2349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晶体管输出电路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403280" y="551664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继电器输出电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176720" cy="21178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7883" t="12699" r="10536" b="6779"/>
          <a:stretch/>
        </p:blipFill>
        <p:spPr>
          <a:xfrm>
            <a:off x="611280" y="3357720"/>
            <a:ext cx="3816360" cy="20811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rcRect l="13832" t="7795" r="16649" b="8642"/>
          <a:stretch/>
        </p:blipFill>
        <p:spPr>
          <a:xfrm>
            <a:off x="4427640" y="4665600"/>
            <a:ext cx="4446360" cy="21924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5724360" y="400536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晶闸管输出电路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92360" y="2349360"/>
            <a:ext cx="976320" cy="412920"/>
          </a:xfrm>
          <a:prstGeom prst="rightArrow">
            <a:avLst>
              <a:gd name="adj1" fmla="val 50000"/>
              <a:gd name="adj2" fmla="val 59111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0" y="3933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92360" y="5516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755640" y="2421000"/>
            <a:ext cx="30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28920" y="5013360"/>
            <a:ext cx="1357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入接线端子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内置输入控制回路直流电源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入等效继电器驱动线圈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入等效继电器工作触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程序“工作电源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91280" y="5013360"/>
            <a:ext cx="706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出继电器驱动线圈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出继电器辅助触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出继电器主触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输出继电器接线端子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负载工作电源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40" y="-341280"/>
            <a:ext cx="546120" cy="55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0033"/>
                </a:solidFill>
                <a:latin typeface="黑体"/>
                <a:ea typeface="黑体"/>
              </a:rPr>
              <a:t>模块一  可编程控制器常见应用系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6697440" cy="5057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047240" y="1267200"/>
            <a:ext cx="60696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等效电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2:37:52Z</dcterms:created>
  <dc:creator>雨林木风</dc:creator>
  <dc:description/>
  <dc:language>en-US</dc:language>
  <cp:lastModifiedBy>雨林木风</cp:lastModifiedBy>
  <dcterms:modified xsi:type="dcterms:W3CDTF">2010-10-05T07:26:08Z</dcterms:modified>
  <cp:revision>47</cp:revision>
  <dc:subject/>
  <dc:title> S7-200系列可编程控制器 应 用 基 础</dc:title>
</cp:coreProperties>
</file>