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6BFD-22E8-4B67-8432-1965C979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E068-DEA1-4EFE-91B6-2996166C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BD35-75A7-438F-98D1-1EA7C593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6CE4-0DD9-4F67-B21E-FD42FCEB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2C90-B795-466C-9AA2-FAF95E57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01C6-8107-4A9F-BE46-26D80871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CEA6-56C3-49E6-B6C5-5F48D4B7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039E-D675-4C01-9720-C70B8099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7BE5-0644-45A7-B9D0-D3131771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F284-9126-43D6-AF21-78560690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7C93-08FE-4542-8595-F56C2D33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8A32-BE7D-4B5C-8D6A-4B0CC3B8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F646-F502-4F41-A0FE-8FF2F91F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098E-7DAC-4AB7-8549-41C0C3A4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B274-B027-4B96-9CC6-D13DFF4A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23D8-8EB9-4DC8-B19E-E60D61BB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67BC-2A71-4739-9B69-08BC6251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DC6D-5121-4E87-9D1B-BA9171E8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1630-DE0D-4550-A66E-BC6FEBF9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C4D8-6701-4222-8F7F-A128D9E0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E134-0B0E-4C7A-A4B1-5C601436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6C0F-7A8F-46BE-855A-53535C69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FBD5-4F33-433E-AD94-0AB898F7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C82C-68F9-4D6D-9438-1EF52C68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AA43-281F-4CD1-941E-817154EF780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1F15-640B-488C-B992-A47DBB02D46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习可编程控制器在三相异步电动机控制电路中的运用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简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控制系统的开发运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0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1240" y="610920"/>
            <a:ext cx="606960" cy="71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皮带运输机顺序控制的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I/O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接线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7667640" cy="4761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927160" y="6377760"/>
            <a:ext cx="35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-14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皮带运输机顺序控制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线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0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8880" y="1557360"/>
            <a:ext cx="51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图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4-15  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皮带运输机顺序控制参考梯形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0" t="0" r="0" b="54107"/>
          <a:stretch/>
        </p:blipFill>
        <p:spPr>
          <a:xfrm>
            <a:off x="1042920" y="2133720"/>
            <a:ext cx="3673440" cy="3649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rcRect l="0" t="46159" r="0" b="0"/>
          <a:stretch/>
        </p:blipFill>
        <p:spPr>
          <a:xfrm>
            <a:off x="4932360" y="2276640"/>
            <a:ext cx="369108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00360" y="1556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2600" y="2367000"/>
            <a:ext cx="838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台电动机，要求起动时，每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10mi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依次起动一台，每台运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8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后自动停机。在运行中可用停止按钮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台电动机同时停机。试设计控制程序梯形图、写出语句表，并加注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两个指示灯自动交替闪亮控制。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H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HL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两个指示灯交替闪亮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H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亮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HL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灭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H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灭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HL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亮，时序波形如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4-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所示。要求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）画出电路接线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l=t2=2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设计控制程序梯形图、写出语句表，并加注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）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tl=t2=0.5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，能否简化梯形图程序设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751120" y="4548240"/>
          <a:ext cx="3600360" cy="18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1120" y="4548240"/>
                    <a:ext cx="360036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2719440" y="6399720"/>
            <a:ext cx="353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4-16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指示灯交替闪亮控制时序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6640" y="403920"/>
            <a:ext cx="245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华文隶书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三相异步电动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点动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长动控制回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61763" t="0" r="0" b="0"/>
          <a:stretch/>
        </p:blipFill>
        <p:spPr>
          <a:xfrm>
            <a:off x="709560" y="1628640"/>
            <a:ext cx="3197160" cy="3456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40" y="-812520"/>
            <a:ext cx="546120" cy="63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模块四  三相异步电动机的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5661000"/>
            <a:ext cx="1728720" cy="720720"/>
          </a:xfrm>
          <a:prstGeom prst="wedgeRoundRectCallout">
            <a:avLst>
              <a:gd name="adj1" fmla="val 2249"/>
              <a:gd name="adj2" fmla="val -125990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电器接触器控制电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797360"/>
            <a:ext cx="1058760" cy="1700280"/>
          </a:xfrm>
          <a:prstGeom prst="wedgeRoundRectCallout">
            <a:avLst>
              <a:gd name="adj1" fmla="val 89879"/>
              <a:gd name="adj2" fmla="val -23574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长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59280" y="1916280"/>
            <a:ext cx="1419120" cy="969840"/>
          </a:xfrm>
          <a:prstGeom prst="wedgeRoundRectCallout">
            <a:avLst>
              <a:gd name="adj1" fmla="val 82884"/>
              <a:gd name="adj2" fmla="val 10393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线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0" t="0" r="47241" b="0"/>
          <a:stretch/>
        </p:blipFill>
        <p:spPr>
          <a:xfrm>
            <a:off x="5003640" y="0"/>
            <a:ext cx="4140360" cy="3440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rcRect l="0" t="0" r="44865" b="15267"/>
          <a:stretch/>
        </p:blipFill>
        <p:spPr>
          <a:xfrm>
            <a:off x="5219640" y="37623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19440" y="403920"/>
            <a:ext cx="337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三相异步电动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正转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反转控制回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" y="-812520"/>
            <a:ext cx="546120" cy="63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模块四  三相异步电动机的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5805360"/>
            <a:ext cx="1728720" cy="720720"/>
          </a:xfrm>
          <a:prstGeom prst="wedgeRoundRectCallout">
            <a:avLst>
              <a:gd name="adj1" fmla="val 8953"/>
              <a:gd name="adj2" fmla="val -124449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电器接触器控制电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4797360"/>
            <a:ext cx="914400" cy="1700280"/>
          </a:xfrm>
          <a:prstGeom prst="wedgeRoundRectCallout">
            <a:avLst>
              <a:gd name="adj1" fmla="val 84027"/>
              <a:gd name="adj2" fmla="val -30393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正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反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19640" y="2349360"/>
            <a:ext cx="842760" cy="1511280"/>
          </a:xfrm>
          <a:prstGeom prst="wedgeRoundRectCallout">
            <a:avLst>
              <a:gd name="adj1" fmla="val 73541"/>
              <a:gd name="adj2" fmla="val -20694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线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0400" y="1557360"/>
            <a:ext cx="2800440" cy="3672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162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148360" y="4322880"/>
            <a:ext cx="309564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27640" y="3103560"/>
            <a:ext cx="4103640" cy="3754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0" t="1104" r="24037" b="4956"/>
          <a:stretch/>
        </p:blipFill>
        <p:spPr>
          <a:xfrm>
            <a:off x="755640" y="1557360"/>
            <a:ext cx="3533760" cy="4680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82160" y="403920"/>
            <a:ext cx="304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三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相异步电动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顺序启动控制回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" y="-812520"/>
            <a:ext cx="546120" cy="63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模块四  三相异步电动机的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40360" y="1052640"/>
            <a:ext cx="1368360" cy="1055520"/>
          </a:xfrm>
          <a:prstGeom prst="wedgeRoundRectCallout">
            <a:avLst>
              <a:gd name="adj1" fmla="val 69259"/>
              <a:gd name="adj2" fmla="val 2629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电器接触器控制电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6235560"/>
            <a:ext cx="3024000" cy="503280"/>
          </a:xfrm>
          <a:prstGeom prst="wedgeRoundRectCallout">
            <a:avLst>
              <a:gd name="adj1" fmla="val -16037"/>
              <a:gd name="adj2" fmla="val -80597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顺序启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95640" y="2205000"/>
            <a:ext cx="1800360" cy="719280"/>
          </a:xfrm>
          <a:prstGeom prst="wedgeRoundRectCallout">
            <a:avLst>
              <a:gd name="adj1" fmla="val -8643"/>
              <a:gd name="adj2" fmla="val 96356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线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rcRect l="59085" t="0" r="0" b="0"/>
          <a:stretch/>
        </p:blipFill>
        <p:spPr>
          <a:xfrm>
            <a:off x="5821200" y="0"/>
            <a:ext cx="332280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462120" cy="3960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3959280" cy="35686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90000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5240" y="403920"/>
            <a:ext cx="343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四、三相异步电动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Ｙ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-△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启动控制回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" y="-812520"/>
            <a:ext cx="546120" cy="63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模块四  三相异步电动机的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11640" y="4869000"/>
            <a:ext cx="936720" cy="1728720"/>
          </a:xfrm>
          <a:prstGeom prst="wedgeRoundRectCallout">
            <a:avLst>
              <a:gd name="adj1" fmla="val 77120"/>
              <a:gd name="adj2" fmla="val -18962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电器接触器控制电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5950080"/>
            <a:ext cx="3024360" cy="503280"/>
          </a:xfrm>
          <a:prstGeom prst="wedgeRoundRectCallout">
            <a:avLst>
              <a:gd name="adj1" fmla="val -8898"/>
              <a:gd name="adj2" fmla="val -124134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67280" y="3573360"/>
            <a:ext cx="1152360" cy="1008000"/>
          </a:xfrm>
          <a:prstGeom prst="wedgeRoundRectCallout">
            <a:avLst>
              <a:gd name="adj1" fmla="val 69148"/>
              <a:gd name="adj2" fmla="val -54407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线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rcRect l="57605" t="0" r="0" b="0"/>
          <a:stretch/>
        </p:blipFill>
        <p:spPr>
          <a:xfrm>
            <a:off x="5435640" y="3246480"/>
            <a:ext cx="370836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987640" y="1700280"/>
            <a:ext cx="4897440" cy="48402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22400" y="205956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彩灯顺序点亮控制硬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04000" y="5661000"/>
            <a:ext cx="1943280" cy="863640"/>
          </a:xfrm>
          <a:prstGeom prst="wedgeRoundRectCallout">
            <a:avLst>
              <a:gd name="adj1" fmla="val -82189"/>
              <a:gd name="adj2" fmla="val -35476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按钮启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路控制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48360" y="4365720"/>
            <a:ext cx="1727280" cy="792000"/>
          </a:xfrm>
          <a:prstGeom prst="wedgeRoundRectCallout">
            <a:avLst>
              <a:gd name="adj1" fmla="val 12592"/>
              <a:gd name="adj2" fmla="val -96291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按钮启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波形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43280" y="16606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彩灯顺序点亮控制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及波形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25320" y="2927520"/>
            <a:ext cx="5256360" cy="3579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991120" y="1628640"/>
            <a:ext cx="30956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87120" y="1773360"/>
            <a:ext cx="34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训内容—皮带输送机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控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75920" y="2448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34956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学习并掌握各种基本逻辑指令的实际应用情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学习并掌握编程元件定时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辅助继电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应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学习并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接线，理解多个输出公共端子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195640" y="16279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皮带运输机工作原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0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四  三相异步电动机的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控制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4360" y="2870280"/>
          <a:ext cx="4033800" cy="19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870280"/>
                    <a:ext cx="403380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1530000" y="5228280"/>
            <a:ext cx="26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-12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皮带运输机工作示意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869000" y="2292480"/>
          <a:ext cx="4140000" cy="269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9000" y="2292480"/>
                    <a:ext cx="414000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5581080" y="5213880"/>
            <a:ext cx="278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-13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皮带运输机顺序控制时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06T06:09:15Z</dcterms:modified>
  <cp:revision>49</cp:revision>
  <dc:subject/>
  <dc:title>模块二  S7-200系列PLC的基本结构 </dc:title>
</cp:coreProperties>
</file>