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EB4-3CB8-44BD-9C3F-2E1D100B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F69-B870-436A-8E40-2826ADF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4E6-A54A-4900-B6A1-8D1E01AE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6A5-3E9E-4605-9ABC-F08E3FA8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8FA-6EDA-4934-A867-FAFBBE74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CAE-532F-47F7-9D3A-367FFE9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69BB-73B0-4325-BC68-6A678C7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42F8-B4AE-4124-B39F-6C556ED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B4E-79E4-4456-9A9E-991FCC4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18D-62FD-4C2E-B616-C984CAF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99FF-41AC-4ADD-B68E-24E2203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62A-690E-4E83-BE3C-956F57A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516-A5F7-4418-BCFB-BF3C3C1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61D9-D492-494A-9ECD-51CA887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F10-E40F-42C3-9028-F14D7A02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F503-6F57-4D95-B515-1141AE43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8E5-6BD4-423B-81A6-AB906D3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E70-C5A4-405F-8164-47C21398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250-28D0-454B-9792-AB352EA9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D21-53BD-4FE7-B890-D6F23D1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153-8F7C-4A91-A36C-30881EB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13F-0612-423A-A23B-21BB772C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A04-0974-49E7-B6EB-9B15822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5BE-4BA8-41AC-8FFF-3EAB1B2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9A5-DC79-435B-AF5B-C475A6551A2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447-748A-4497-B3B7-3FD997DB4E4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送比较、逻辑运算类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传送比较、逻辑运算类指令的编程方法和应用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0" y="1627920"/>
            <a:ext cx="12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1360" y="4657680"/>
            <a:ext cx="8972640" cy="2200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3840" y="30672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字逻辑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的运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46400" y="134064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功能指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启－保－停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3560" r="0" b="1771"/>
          <a:stretch/>
        </p:blipFill>
        <p:spPr>
          <a:xfrm>
            <a:off x="4486320" y="836640"/>
            <a:ext cx="4657680" cy="602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0" r="53173" b="15238"/>
          <a:stretch/>
        </p:blipFill>
        <p:spPr>
          <a:xfrm>
            <a:off x="755640" y="3068640"/>
            <a:ext cx="36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228480"/>
            <a:ext cx="7200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送比较、逻辑运算等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1400" y="3283560"/>
            <a:ext cx="17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70360" y="123840"/>
            <a:ext cx="5273640" cy="67341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" y="390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2328"/>
          <a:stretch/>
        </p:blipFill>
        <p:spPr>
          <a:xfrm>
            <a:off x="0" y="77760"/>
            <a:ext cx="6516720" cy="480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7678" r="0" b="0"/>
          <a:stretch/>
        </p:blipFill>
        <p:spPr>
          <a:xfrm>
            <a:off x="3059280" y="1935000"/>
            <a:ext cx="6084720" cy="492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6000" y="404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七  传送比较、逻辑运算类指令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59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06d10a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384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03640" y="3716280"/>
            <a:ext cx="2184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9166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数据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640" y="419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脉冲和复位信号分别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供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当前值转换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码后送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出梯形图程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值应限制在什么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用定时器中断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位元件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4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主程序和中断子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676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6520" y="2132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432480" cy="19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4059360" cy="261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72480" y="5358600"/>
            <a:ext cx="20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5480" y="2132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94200" y="2276640"/>
            <a:ext cx="6049800" cy="177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0160" y="4064040"/>
            <a:ext cx="403236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13640" y="515700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9240" y="201420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6" descr=""/>
          <p:cNvPicPr/>
          <p:nvPr/>
        </p:nvPicPr>
        <p:blipFill>
          <a:blip r:embed="rId1"/>
          <a:srcRect l="896" t="4481" r="1392" b="4822"/>
          <a:stretch/>
        </p:blipFill>
        <p:spPr>
          <a:xfrm>
            <a:off x="3132000" y="2133720"/>
            <a:ext cx="6012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311640" cy="61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41760" y="4345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移位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609264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4608720" cy="7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04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取反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6033960" cy="132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5680" y="5949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527640" cy="67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44640" y="4435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块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62294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124000" y="5992920"/>
            <a:ext cx="41626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088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多点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591984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529080" cy="62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05480" y="4364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交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592164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5805360"/>
            <a:ext cx="3527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568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2059560"/>
            <a:ext cx="157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977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66920" cy="6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0360" y="4219920"/>
            <a:ext cx="1904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进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0" b="4227"/>
          <a:stretch/>
        </p:blipFill>
        <p:spPr>
          <a:xfrm>
            <a:off x="2830680" y="4365720"/>
            <a:ext cx="5933880" cy="127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3167280" cy="5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8760" y="5804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2280" y="155628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与减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9880" y="220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880" y="364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075" r="0" b="2564"/>
          <a:stretch/>
        </p:blipFill>
        <p:spPr>
          <a:xfrm>
            <a:off x="2340000" y="2276640"/>
            <a:ext cx="6048360" cy="128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95476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3456000" cy="156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22040" y="5660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39880" y="1556280"/>
            <a:ext cx="4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228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逻辑运算指令包括字逻辑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异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和求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91200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2316" r="0" b="2779"/>
          <a:stretch/>
        </p:blipFill>
        <p:spPr>
          <a:xfrm>
            <a:off x="1476360" y="5013360"/>
            <a:ext cx="6889680" cy="1488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42400" y="3788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10:14:12Z</dcterms:modified>
  <cp:revision>114</cp:revision>
  <dc:subject/>
  <dc:title>模块二  S7-200系列PLC的基本结构 </dc:title>
</cp:coreProperties>
</file>