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5C5D-7357-4053-9EBD-7AA763CEF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F950-9A17-4BA4-ABB8-F4F635480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AC46-CD9C-4AA6-8775-70F9596D8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BB00-615B-4EA3-86E3-87F232FAA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A51DC-18D3-415A-A46C-A5321EC1E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2611A-7B6A-46BE-9E22-7B198F798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A4AA6-BA2C-414F-9880-90BF526D2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D2E4E-9B00-4DB1-8D8F-0C0B9F907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900CC-5BB4-4EF8-85B5-2CFDF3DF5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7E44C-FE90-448E-A50C-41887922B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4A406-15A2-4933-AB13-F7A81091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F8C5-1218-4722-9BF8-F3D6C2B9B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25531-DC34-4439-9BEE-0F409F0B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C2CFD-38AD-4929-8537-8F0414BE1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78182-8D52-448E-A52F-C4B6E6BF6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037D6-217B-422E-AD08-81BE88C79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03712-B543-40E9-B391-6C99048E3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DB75-33D0-4345-80B5-75AC6BF69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E148-F04F-4C26-8475-22557B147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DE37-46F3-43A9-9AC3-FAF2D19DE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C90D-FDCA-43DB-BA96-7DD15F610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A858-2624-4188-9D12-3922589E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0A75-F383-4C32-BC96-2A848D0F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2B25-4E21-4C26-9BB9-9E15937D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28B6D-99E4-4E0C-91BD-61EFBEA3CDED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C80BB-A21B-4ED8-AE15-4D4A1D4A5AE7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模块二  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FX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系列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PLC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的基本结构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79200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目的要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了解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X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系列可编程控制器的硬件结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了解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X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系列可编程控制器常见应用系统的组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掌握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X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系列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常用编程元件的使用方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了解编程软件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GX Developer V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一般应用情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模块二  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FX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系列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PLC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的基本结构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技 能 训 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16000" y="1916280"/>
            <a:ext cx="751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实训内容—计数器、特殊功能辅助继电器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的应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075920" y="2448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华文隶书"/>
              </a:rPr>
              <a:t>实训目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3340080"/>
            <a:ext cx="78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掌握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中计数器的一般使用方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掌握典型用途特殊功能辅助继电器的使用方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学会使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GX Developer V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编程软件在电脑上编辑梯形图程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模块二  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FX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系列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PLC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的基本结构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技 能 训 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204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67960" y="5723640"/>
            <a:ext cx="259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2-9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输入输出继电器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I/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接线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14720" y="5771160"/>
            <a:ext cx="271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-1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参考梯形图及指令表程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3744720" cy="37209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500720" y="2205000"/>
            <a:ext cx="4643280" cy="35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模块二  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FX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系列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PLC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的基本结构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92000" y="2509920"/>
            <a:ext cx="835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三菱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F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系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应用比较广泛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之一，它由基本单元、扩展单元、扩展模块及特殊功能单元构成。其中基本单元内含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PU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主机，扩展单元用于增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点数，扩展模块用于改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点的比例，特殊功能模块用于模拟量输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出、网络通信等。三菱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FX2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系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编程元件有输入触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输出继电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辅助继电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定时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计数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状态寄存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数据寄存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变址寄存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指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常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/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思考并将合适的答案填于空白处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①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定时器的线圈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时开始定时，定时时间到时其常开触点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常闭触点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②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用定时器的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时被复位，复位后其常开触点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常闭触点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当前值变为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③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部计数器的复位输入电路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计数输入电路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当前值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设定值时，计数器的当前值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计数当前值等于设定值时，其常开触点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常闭触点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再来计数脉冲时当前值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复位输入电路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时，计数器被复位，复位后其常开触点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常闭触点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当前值为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④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不能用于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继电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⑤ 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初始化脉冲，在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时，它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N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个扫描周期。当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处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状态时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80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直为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⑥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编程元件中只有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元件号采用八进制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-91440" y="1459800"/>
            <a:ext cx="667800" cy="23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边学边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模块二  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FX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系列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PLC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的基本结构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-91440" y="1459800"/>
            <a:ext cx="667800" cy="23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边学边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31800" y="1903320"/>
            <a:ext cx="8226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八进制数和十六进制数只是二进制数的一种较为方便的写法，但二进制数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C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数是两个不同的概念，一个多位十进制数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C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数和二进制数是不一样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：十进制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9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C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数和二进制数分别写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进制数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C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数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00101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二进制数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110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很多指令中，既有对二进制数的运算处理，也有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C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数的运算处理，并且有二进制数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C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数的相互转换指令，使用时应予以区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思考和计算，并把结果填入空格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①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进制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在不同数制中应分别写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二进制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__________________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八进制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__________________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六进制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________________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C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___________________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②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二进制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11011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在不同数制中应分别写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进制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__________________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八进制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__________________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模块二  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FX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系列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PLC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的基本结构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411280" y="1483920"/>
            <a:ext cx="422928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1320" rIns="90000" tIns="84240" bIns="8424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华文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FX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系列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PLC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概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11280" y="2060640"/>
            <a:ext cx="8532720" cy="21686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39640" y="4292640"/>
            <a:ext cx="8604360" cy="23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36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330033"/>
                </a:solidFill>
                <a:latin typeface="Times New Roman"/>
              </a:rPr>
              <a:t>模块二  </a:t>
            </a:r>
            <a:r>
              <a:rPr b="1" lang="zh-CN" sz="3800" spc="-1" strike="noStrike">
                <a:solidFill>
                  <a:srgbClr val="330033"/>
                </a:solidFill>
                <a:latin typeface="Times New Roman"/>
              </a:rPr>
              <a:t>FX</a:t>
            </a:r>
            <a:r>
              <a:rPr b="1" lang="zh-CN" sz="3800" spc="-1" strike="noStrike">
                <a:solidFill>
                  <a:srgbClr val="330033"/>
                </a:solidFill>
                <a:latin typeface="Times New Roman"/>
              </a:rPr>
              <a:t>系列</a:t>
            </a:r>
            <a:br>
              <a:rPr sz="3800"/>
            </a:br>
            <a:r>
              <a:rPr b="1" lang="zh-CN" sz="3800" spc="-1" strike="noStrike">
                <a:solidFill>
                  <a:srgbClr val="330033"/>
                </a:solidFill>
                <a:latin typeface="Times New Roman"/>
              </a:rPr>
              <a:t>PLC</a:t>
            </a:r>
            <a:r>
              <a:rPr b="1" lang="zh-CN" sz="3800" spc="-1" strike="noStrike">
                <a:solidFill>
                  <a:srgbClr val="330033"/>
                </a:solidFill>
                <a:latin typeface="Times New Roman"/>
              </a:rPr>
              <a:t>的基本结构</a:t>
            </a:r>
            <a:r>
              <a:rPr b="0" lang="zh-CN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4344840" cy="47242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rcRect l="7728" t="13908" r="10029" b="9645"/>
          <a:stretch/>
        </p:blipFill>
        <p:spPr>
          <a:xfrm>
            <a:off x="4290840" y="260280"/>
            <a:ext cx="485316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模块二  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FX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系列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PLC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的基本结构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4360" y="3049560"/>
            <a:ext cx="284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X2N-□□M□-00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典型输入外部配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0" t="538" r="0" b="1109"/>
          <a:stretch/>
        </p:blipFill>
        <p:spPr>
          <a:xfrm>
            <a:off x="3276720" y="1292400"/>
            <a:ext cx="5867280" cy="55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模块二  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FX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系列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PLC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的基本结构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287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230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12760" y="2212920"/>
          <a:ext cx="8642160" cy="4548240"/>
        </p:xfrm>
        <a:graphic>
          <a:graphicData uri="http://schemas.openxmlformats.org/drawingml/2006/table">
            <a:tbl>
              <a:tblPr/>
              <a:tblGrid>
                <a:gridCol w="1220760"/>
                <a:gridCol w="1227240"/>
                <a:gridCol w="1290600"/>
                <a:gridCol w="1226880"/>
                <a:gridCol w="1108080"/>
                <a:gridCol w="1127160"/>
                <a:gridCol w="1441440"/>
              </a:tblGrid>
              <a:tr h="7588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电源，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 24V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输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电源，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 24V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输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输入点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输出点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可连接的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继电器输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晶体管输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继电器输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晶体管输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X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2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X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2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X</a:t>
                      </a:r>
                      <a:r>
                        <a:rPr b="0" lang="zh-CN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N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和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X</a:t>
                      </a:r>
                      <a:r>
                        <a:rPr b="0" lang="zh-CN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7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X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0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X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0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X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0ER-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X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X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8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X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8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X</a:t>
                      </a:r>
                      <a:r>
                        <a:rPr b="0" lang="zh-CN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N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和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X</a:t>
                      </a:r>
                      <a:r>
                        <a:rPr b="0" lang="zh-CN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X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8ER-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X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8ET-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X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2440440" y="1669320"/>
            <a:ext cx="470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X1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X2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系列带电源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扩展单元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模块二  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FX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系列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PLC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的基本结构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193480" y="1551960"/>
            <a:ext cx="488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X1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X2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系列不带电源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扩展模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01640" y="2117880"/>
          <a:ext cx="7772400" cy="463212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63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输 入 模 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继电器输出模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晶体管输出模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输 入 点 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输 出 点 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X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8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X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8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X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6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X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6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X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8EY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X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8EY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X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6EY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X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6EY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X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6EY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X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6EY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模块二  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FX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系列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PLC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的基本结构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19280" y="1557000"/>
            <a:ext cx="569916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4240" bIns="842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二、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FX2N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系列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PLC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的编程元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40160" y="2203560"/>
            <a:ext cx="1893240" cy="43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．输入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继电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输出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继电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．辅助继电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通用辅助继电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掉电保持辅助继电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特殊功能辅助继电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．定时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通用定时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累积定时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．计数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加计数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双向计数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高速计数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0" y="2205000"/>
            <a:ext cx="457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．状态寄存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初始状态用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回归原点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一般通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保持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．数据寄存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通用型数据寄存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保持型数据寄存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特殊功能寄存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．变址寄存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．指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用于子程序调用的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标号的指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用于中断服务程序入口的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标号指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．常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/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00000" y="836280"/>
            <a:ext cx="1857600" cy="55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模块二  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FX</a:t>
            </a:r>
            <a:br>
              <a:rPr sz="4200"/>
            </a:b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系列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PLC</a:t>
            </a:r>
            <a:br>
              <a:rPr sz="4200"/>
            </a:b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的基本结构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348000" y="0"/>
            <a:ext cx="5241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模块二  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FX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系列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PLC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的基本结构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-4320" y="1694160"/>
            <a:ext cx="66780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课 堂 演 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74560" y="1557360"/>
            <a:ext cx="281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双定时器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PLC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闪光控制电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69000" y="6222240"/>
            <a:ext cx="236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-6 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闪光控制电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238720" y="6236280"/>
            <a:ext cx="187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-8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演示电路程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755640" y="2060640"/>
            <a:ext cx="3303720" cy="41050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284720" y="2637000"/>
            <a:ext cx="462132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07:07:48Z</dcterms:created>
  <dc:creator>雨林木风</dc:creator>
  <dc:description/>
  <dc:language>en-US</dc:language>
  <cp:lastModifiedBy>雨林木风</cp:lastModifiedBy>
  <dcterms:modified xsi:type="dcterms:W3CDTF">2010-10-06T01:26:56Z</dcterms:modified>
  <cp:revision>34</cp:revision>
  <dc:subject/>
  <dc:title>模块二  S7-200系列PLC的基本结构 </dc:title>
</cp:coreProperties>
</file>