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A62-C0FA-4083-9C0C-44233AF4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A20-E621-42EB-BDBB-EC8B8A63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077-92F6-4867-B70E-DF5CE567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BA3-348E-4E80-8C15-3138CCD7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5CEB-705E-4E4F-8975-C70CE239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AB35-5D03-4C59-A0FE-87FD5692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22AD-321E-4320-A9D3-5B6A24EA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5312-B2C9-4812-8934-3B5D9ACC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CBDE-5DC7-42FF-AC5E-6E63E68E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D305-AD08-4C23-9606-38E36F43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D63B-F0C6-4F11-8E24-4C126EF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FCC-8967-41E6-A9C4-8BE6EE98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C292-7B84-489B-94D0-BA183142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444E-7E9F-4B87-9919-5D3FFF3F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2DBE-840B-45C1-B76C-9290D451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F4E3-C216-466A-9472-840BCE88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B63E-F1AF-4E94-9BFC-C4B7601B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90A-C3ED-4A63-9884-73892F1D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163-0295-4ADF-AC0A-B7B7C47A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6BE-F9DA-4F69-B5AD-722F1B97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81A-4101-4EF2-912A-5CA73BB3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087-C9D1-4648-BC21-85340639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0E0-EB84-416F-9A92-0FB7674A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7D1-4FBF-45B6-ACD9-A15FB15D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2E26-5FF1-4E4D-9430-10E7DA31516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07BA-9FD7-48A9-B7F1-862949E85F7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可编程控制器在三相异步电动机控制电路中的运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简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控制系统的开发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1240" y="610920"/>
            <a:ext cx="606960" cy="71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皮带运输机顺序控制的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I/O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接线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667640" cy="4761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927160" y="6377760"/>
            <a:ext cx="35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顺序控制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8880" y="1557360"/>
            <a:ext cx="51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4-15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皮带运输机顺序控制参考梯形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4107"/>
          <a:stretch/>
        </p:blipFill>
        <p:spPr>
          <a:xfrm>
            <a:off x="1042920" y="2133720"/>
            <a:ext cx="3673440" cy="3649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0" t="46159" r="0" b="0"/>
          <a:stretch/>
        </p:blipFill>
        <p:spPr>
          <a:xfrm>
            <a:off x="4932360" y="2276640"/>
            <a:ext cx="3691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2600" y="2367000"/>
            <a:ext cx="83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台电动机，要求起动时，每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0mi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依次起动一台，每台运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8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后自动停机。在运行中可用停止按钮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台电动机同时停机。试设计控制程序梯形图、写出语句表，并加注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指示灯自动交替闪亮控制。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指示灯交替闪亮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亮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灭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亮，时序波形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4-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所示。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）画出电路接线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l=t2=2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计控制程序梯形图、写出语句表，并加注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）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tl=t2=0.5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，能否简化梯形图程序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751120" y="4548240"/>
          <a:ext cx="360036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1120" y="4548240"/>
                    <a:ext cx="360036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719440" y="6399720"/>
            <a:ext cx="353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4-16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指示灯交替闪亮控制时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6640" y="403920"/>
            <a:ext cx="245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点动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长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61763" t="0" r="0" b="0"/>
          <a:stretch/>
        </p:blipFill>
        <p:spPr>
          <a:xfrm>
            <a:off x="709560" y="1628640"/>
            <a:ext cx="3197160" cy="3456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661000"/>
            <a:ext cx="1728720" cy="720720"/>
          </a:xfrm>
          <a:prstGeom prst="wedgeRoundRectCallout">
            <a:avLst>
              <a:gd name="adj1" fmla="val 2249"/>
              <a:gd name="adj2" fmla="val -12599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797360"/>
            <a:ext cx="1058760" cy="1700280"/>
          </a:xfrm>
          <a:prstGeom prst="wedgeRoundRectCallout">
            <a:avLst>
              <a:gd name="adj1" fmla="val 89879"/>
              <a:gd name="adj2" fmla="val -2357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1916280"/>
            <a:ext cx="1419120" cy="969840"/>
          </a:xfrm>
          <a:prstGeom prst="wedgeRoundRectCallout">
            <a:avLst>
              <a:gd name="adj1" fmla="val 82884"/>
              <a:gd name="adj2" fmla="val 1039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47241" b="0"/>
          <a:stretch/>
        </p:blipFill>
        <p:spPr>
          <a:xfrm>
            <a:off x="5003640" y="0"/>
            <a:ext cx="4140360" cy="344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0" t="0" r="44865" b="15267"/>
          <a:stretch/>
        </p:blipFill>
        <p:spPr>
          <a:xfrm>
            <a:off x="5219640" y="3762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9440" y="403920"/>
            <a:ext cx="337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正转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反转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805360"/>
            <a:ext cx="1728720" cy="720720"/>
          </a:xfrm>
          <a:prstGeom prst="wedgeRoundRectCallout">
            <a:avLst>
              <a:gd name="adj1" fmla="val 8953"/>
              <a:gd name="adj2" fmla="val -124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4797360"/>
            <a:ext cx="914400" cy="1700280"/>
          </a:xfrm>
          <a:prstGeom prst="wedgeRoundRectCallout">
            <a:avLst>
              <a:gd name="adj1" fmla="val 84027"/>
              <a:gd name="adj2" fmla="val -3039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2349360"/>
            <a:ext cx="842760" cy="1511280"/>
          </a:xfrm>
          <a:prstGeom prst="wedgeRoundRectCallout">
            <a:avLst>
              <a:gd name="adj1" fmla="val 73541"/>
              <a:gd name="adj2" fmla="val -2069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0400" y="1557360"/>
            <a:ext cx="2800440" cy="367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162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48360" y="4322880"/>
            <a:ext cx="30956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27640" y="3103560"/>
            <a:ext cx="4103640" cy="3754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1104" r="24037" b="4956"/>
          <a:stretch/>
        </p:blipFill>
        <p:spPr>
          <a:xfrm>
            <a:off x="755640" y="1557360"/>
            <a:ext cx="3533760" cy="4680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82160" y="403920"/>
            <a:ext cx="304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三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顺序启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1052640"/>
            <a:ext cx="1368360" cy="1055520"/>
          </a:xfrm>
          <a:prstGeom prst="wedgeRoundRectCallout">
            <a:avLst>
              <a:gd name="adj1" fmla="val 69259"/>
              <a:gd name="adj2" fmla="val 262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35560"/>
            <a:ext cx="3024000" cy="503280"/>
          </a:xfrm>
          <a:prstGeom prst="wedgeRoundRectCallout">
            <a:avLst>
              <a:gd name="adj1" fmla="val -16037"/>
              <a:gd name="adj2" fmla="val -8059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顺序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2205000"/>
            <a:ext cx="1800360" cy="719280"/>
          </a:xfrm>
          <a:prstGeom prst="wedgeRoundRectCallout">
            <a:avLst>
              <a:gd name="adj1" fmla="val -8643"/>
              <a:gd name="adj2" fmla="val 96356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59085" t="0" r="0" b="0"/>
          <a:stretch/>
        </p:blipFill>
        <p:spPr>
          <a:xfrm>
            <a:off x="5821200" y="0"/>
            <a:ext cx="33228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62120" cy="396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959280" cy="3568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90000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5240" y="403920"/>
            <a:ext cx="343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Ｙ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△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启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4869000"/>
            <a:ext cx="936720" cy="1728720"/>
          </a:xfrm>
          <a:prstGeom prst="wedgeRoundRectCallout">
            <a:avLst>
              <a:gd name="adj1" fmla="val 77120"/>
              <a:gd name="adj2" fmla="val -1896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5950080"/>
            <a:ext cx="3024360" cy="503280"/>
          </a:xfrm>
          <a:prstGeom prst="wedgeRoundRectCallout">
            <a:avLst>
              <a:gd name="adj1" fmla="val -8898"/>
              <a:gd name="adj2" fmla="val -12413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573360"/>
            <a:ext cx="1152360" cy="1008000"/>
          </a:xfrm>
          <a:prstGeom prst="wedgeRoundRectCallout">
            <a:avLst>
              <a:gd name="adj1" fmla="val 69148"/>
              <a:gd name="adj2" fmla="val -5440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rcRect l="57605" t="0" r="0" b="0"/>
          <a:stretch/>
        </p:blipFill>
        <p:spPr>
          <a:xfrm>
            <a:off x="5435640" y="3246480"/>
            <a:ext cx="3708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897440" cy="48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22400" y="205956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彩灯顺序点亮控制硬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04000" y="5661000"/>
            <a:ext cx="1943280" cy="863640"/>
          </a:xfrm>
          <a:prstGeom prst="wedgeRoundRectCallout">
            <a:avLst>
              <a:gd name="adj1" fmla="val -82189"/>
              <a:gd name="adj2" fmla="val -35476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路控制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365720"/>
            <a:ext cx="1727280" cy="792000"/>
          </a:xfrm>
          <a:prstGeom prst="wedgeRoundRectCallout">
            <a:avLst>
              <a:gd name="adj1" fmla="val 12592"/>
              <a:gd name="adj2" fmla="val -96291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波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43280" y="16606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彩灯顺序点亮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及波形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25320" y="2927520"/>
            <a:ext cx="5256360" cy="3579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991120" y="162864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87120" y="177336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皮带输送机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495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各种基本逻辑指令的实际应用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编程元件定时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辅助继电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应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线，理解多个输出公共端子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95640" y="16279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皮带运输机工作原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870280"/>
          <a:ext cx="403380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870280"/>
                    <a:ext cx="40338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530000" y="5228280"/>
            <a:ext cx="26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工作示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869000" y="2292480"/>
          <a:ext cx="4140000" cy="26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9000" y="2292480"/>
                    <a:ext cx="41400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581080" y="521388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3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顺序控制时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6:09:15Z</dcterms:modified>
  <cp:revision>49</cp:revision>
  <dc:subject/>
  <dc:title>模块二  S7-200系列PLC的基本结构 </dc:title>
</cp:coreProperties>
</file>