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13A-2B92-48A2-B597-82441B23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0F6-9EA8-49E9-B837-2F68E7BC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9CC-A91C-4CFB-A94A-74EFA2A2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C85-BB7D-43E3-8119-7FE3002C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89D5-68CE-47D0-B65D-F19624E8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5C1C-208B-411E-B6B3-1C92C9E5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9956-1685-4DF9-9351-3888A2B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F78-4E5A-4F4F-962C-D6C2367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EC4-4662-432F-9F9D-EF84B45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30FD-126B-4287-999E-69371B32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61F8-54A2-4413-97C2-8DE0E65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9F0-138B-4377-A5C6-C9500816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A57-8E4B-413D-AB2A-CE653EA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FB3D-C688-4F4B-8C29-DB8D1AD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BFD-AAC4-4437-94B6-0DC80A2B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FF8-721F-4204-B2D6-1BBDA891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59C-7EA9-47BC-9B13-BFD13D72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936-C3AF-451B-BEC0-DC47FF15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606-18E9-4119-82A4-7C20F977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910-BFD7-4CA8-A232-D7A421D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B71-B0C5-4817-BD13-95496F5B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5D3-82D6-414D-A64C-ED88134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17E-FF4C-49F9-859C-1853146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48F-CF20-4859-AF7C-43070ED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725-49D9-4188-A405-3BCED9031E4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5166-C3A6-45C2-A40B-BE930DC729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功能指令及其通用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程序流程类指令的基本编程方法及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功能指令在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213300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警戒时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2708280"/>
          <a:ext cx="5905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5905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55628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彩灯的两种闪烁模式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211640" cy="40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30080" y="22766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78626" t="0" r="0" b="0"/>
          <a:stretch/>
        </p:blipFill>
        <p:spPr>
          <a:xfrm>
            <a:off x="7926480" y="2276640"/>
            <a:ext cx="121752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9658" b="0"/>
          <a:stretch/>
        </p:blipFill>
        <p:spPr>
          <a:xfrm>
            <a:off x="3892680" y="2349360"/>
            <a:ext cx="39020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87200" y="17002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多工作方式的小车行程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35916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程序调用指令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各种用途开关类电器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控制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3440" cy="169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456000" cy="210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59160" y="1557360"/>
            <a:ext cx="4884840" cy="5300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3960" y="3788640"/>
            <a:ext cx="26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车行程控制系统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16600" y="63586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-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面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原理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42467" r="0" b="2745"/>
          <a:stretch/>
        </p:blipFill>
        <p:spPr>
          <a:xfrm>
            <a:off x="4656240" y="2205000"/>
            <a:ext cx="448776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627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多工作方式的小车行程控制程序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0" r="0" b="57677"/>
          <a:stretch/>
        </p:blipFill>
        <p:spPr>
          <a:xfrm>
            <a:off x="0" y="2965320"/>
            <a:ext cx="4861080" cy="389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57360" y="2276640"/>
            <a:ext cx="17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86056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思考下列问题，将正确的答案填入空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条件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将不执行该指令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位元件，即由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设计一个报警电路。输入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报警输入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亮，闪烁频率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”0.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报警蜂鸣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音响输出，报警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报警灯由闪烁变为常亮且停止音响；按下报警解除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报警灯熄灭。为测试报警灯和报警蜂鸣器的好坏，可用测试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时测试。试画出控制程序梯形图、写出语句表，并加注释。（提示：可分别将报警和报警响应两种状态用两段子程序编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4160" y="162864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2480" y="2275920"/>
            <a:ext cx="2251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功能指令的表达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5530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87040" y="30679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格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92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达形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17880" y="4941720"/>
            <a:ext cx="69483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7920" y="1988640"/>
            <a:ext cx="1337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1160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3755880" cy="71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759480" cy="716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01720" y="24210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3360" y="33577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040" y="429264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传送（慎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4176720" cy="761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4941000"/>
            <a:ext cx="275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脉冲执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240" y="83628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0920" y="1912320"/>
            <a:ext cx="36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元件及字元件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5498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X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2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l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Ml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S16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M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2S3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X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Y4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3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M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4S4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的字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X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SY4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8M64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9960" y="1988280"/>
            <a:ext cx="325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4160" y="148392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功能指令的通用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48160" y="2452680"/>
            <a:ext cx="4356000" cy="4162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9440" y="3714480"/>
            <a:ext cx="32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50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+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6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80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0160" y="31978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第三行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6880" y="220428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条件跳转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16480" y="2232000"/>
          <a:ext cx="54720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232000"/>
                    <a:ext cx="54720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3644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3328920"/>
            <a:ext cx="312732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176720" cy="230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2781360"/>
            <a:ext cx="2089080" cy="360360"/>
          </a:xfrm>
          <a:prstGeom prst="wedgeRoundRectCallout">
            <a:avLst>
              <a:gd name="adj1" fmla="val -23935"/>
              <a:gd name="adj2" fmla="val 10991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4149720"/>
            <a:ext cx="576360" cy="1943280"/>
          </a:xfrm>
          <a:prstGeom prst="wedgeRoundRectCallout">
            <a:avLst>
              <a:gd name="adj1" fmla="val 103166"/>
              <a:gd name="adj2" fmla="val 6782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重跳转指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640" y="69192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62800"/>
            <a:ext cx="187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子程序调用及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628640"/>
          <a:ext cx="5580000" cy="27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5800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1788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0360" y="2349360"/>
            <a:ext cx="3102120" cy="410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877000"/>
            <a:ext cx="1800360" cy="753840"/>
          </a:xfrm>
          <a:prstGeom prst="wedgeRoundRectCallout">
            <a:avLst>
              <a:gd name="adj1" fmla="val 53615"/>
              <a:gd name="adj2" fmla="val -168527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的应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700280"/>
            <a:ext cx="2448000" cy="433440"/>
          </a:xfrm>
          <a:prstGeom prst="wedgeRoundRectCallout">
            <a:avLst>
              <a:gd name="adj1" fmla="val -15888"/>
              <a:gd name="adj2" fmla="val 129851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的嵌套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48200" y="1889280"/>
            <a:ext cx="4195800" cy="496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628280"/>
            <a:ext cx="37911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03560" y="278064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中断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47512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89360"/>
                    <a:ext cx="475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六   程序流程类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0840" y="1557000"/>
            <a:ext cx="3733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程序流向控制类指令（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0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NC09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4280"/>
            <a:ext cx="305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主程序结束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781360"/>
          <a:ext cx="525600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5256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014840" y="3933000"/>
            <a:ext cx="1337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6440" y="4581360"/>
            <a:ext cx="5400720" cy="16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3492360" cy="277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 rot="10800000">
            <a:off x="5651280" y="587592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程序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05:52:25Z</dcterms:modified>
  <cp:revision>113</cp:revision>
  <dc:subject/>
  <dc:title>模块二  S7-200系列PLC的基本结构 </dc:title>
</cp:coreProperties>
</file>