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3D0-7E0A-46C8-B879-ADA5C11B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5CE-61BE-479B-A3FC-5253B7CC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504-6DA9-499C-87B4-46118A94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A70-6A7B-4C37-9861-3F77E304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3727-0505-42B5-B78E-70459C29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EE73-4477-4351-ADF2-A19BAC18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03F5-DF6E-4440-970F-847EFE28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A45A-504F-4EFD-968A-2BA6CA02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2B2F-6CB4-4333-8DAA-FE43FCA0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0390-1635-4475-9C6C-19E1723C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BECA-CBAF-4B84-AEA7-9F2CF477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34E-6A0B-4FAB-93A2-5A41D329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F2AD-D907-4F7F-B244-AC7019E6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0FEA-BC9C-41BD-8A26-5FF2B98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15C7-B44A-48B8-95FC-A2728575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8E81-B704-407D-A8A9-52AD2D3B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EA75-D80C-4E75-980D-00D456FF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8C2-52B2-462D-99B3-583AFD6D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CCF-CE53-44A0-82BB-6AAC21A3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A12-96B2-4128-AA1D-CBA6285D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217-2859-4C5C-9750-847D6420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8D1-5245-4EA5-8B5B-C383B46D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297-A35E-4873-B796-118CFD76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0BE-BC64-494E-B2FC-5BE51AB0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9AFB-627E-4FCA-9F26-1610B76DF9A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5DF4-3CFE-491D-A3ED-55BDBE16D01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循环移位与移位指令、编解码指令等常用功能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使用常用功能指令进行彩灯循环控制的基本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会开发简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彩灯循环控制应用系统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1840" y="1483560"/>
            <a:ext cx="38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只彩灯循环闪亮的硬件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3591" r="0" b="1437"/>
          <a:stretch/>
        </p:blipFill>
        <p:spPr>
          <a:xfrm>
            <a:off x="5394240" y="3068640"/>
            <a:ext cx="3749760" cy="3789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6408720" cy="2627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16000" y="5013360"/>
            <a:ext cx="1943280" cy="1413000"/>
          </a:xfrm>
          <a:prstGeom prst="wedgeRoundRectCallout">
            <a:avLst>
              <a:gd name="adj1" fmla="val 6537"/>
              <a:gd name="adj2" fmla="val -80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只彩灯循环的继电器接触器控制系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5084640"/>
            <a:ext cx="1656000" cy="1440000"/>
          </a:xfrm>
          <a:prstGeom prst="wedgeRoundRectCallout">
            <a:avLst>
              <a:gd name="adj1" fmla="val 99666"/>
              <a:gd name="adj2" fmla="val 2883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只彩灯循环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简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88000" y="2276640"/>
            <a:ext cx="3105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示演 堂 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3024000"/>
            <a:ext cx="20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只彩灯循环闪亮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控制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6804000" cy="5073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992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3447720"/>
            <a:ext cx="7200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循环移位指令的综合编程方法和应用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一步熟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开发过程中的使用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0" b="-169"/>
          <a:stretch/>
        </p:blipFill>
        <p:spPr>
          <a:xfrm>
            <a:off x="5386320" y="765000"/>
            <a:ext cx="3757680" cy="6093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7040" y="907200"/>
            <a:ext cx="44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只彩灯循环闪亮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960720" cy="2865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0" t="0" r="49991" b="56571"/>
          <a:stretch/>
        </p:blipFill>
        <p:spPr>
          <a:xfrm>
            <a:off x="1116000" y="4770360"/>
            <a:ext cx="4032360" cy="2087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03280" y="1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Arial"/>
              </a:rPr>
              <a:t>模块八  其他功能指令及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12960" y="1683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边学边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858960" y="333360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646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07d15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87640" cy="1463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19640" y="3645000"/>
            <a:ext cx="22460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5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8360" y="1627560"/>
            <a:ext cx="233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试分析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梯形图的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2473200" y="30909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431676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设计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电路，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脉冲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出一个脉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接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彩灯移位是否移位，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；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左移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或右移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；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将彩灯的初值设定为十六进制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F0F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设计出梯形图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78560" y="2059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2228"/>
          <a:stretch/>
        </p:blipFill>
        <p:spPr>
          <a:xfrm>
            <a:off x="1258920" y="2565360"/>
            <a:ext cx="7129440" cy="1525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8243640" cy="1590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03480" y="6165000"/>
            <a:ext cx="23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右移指令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524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循环左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985080" cy="1542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87320" y="4508640"/>
            <a:ext cx="8356680" cy="1596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37280" y="6222240"/>
            <a:ext cx="23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循环左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52600" y="213264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带进位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913800" cy="1538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14598" r="0" b="7462"/>
          <a:stretch/>
        </p:blipFill>
        <p:spPr>
          <a:xfrm>
            <a:off x="611280" y="4292640"/>
            <a:ext cx="8532720" cy="1528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97560" y="6091920"/>
            <a:ext cx="28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3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带进位循环右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720" y="213264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带进位循环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7345440" cy="1592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8337600" cy="149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5920" y="6165000"/>
            <a:ext cx="28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带进位循环左移指令的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80160" y="1557000"/>
            <a:ext cx="28630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循环移位与移位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8720" y="213264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位右移和位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7488360" cy="165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4143240" cy="178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822920" y="4344840"/>
            <a:ext cx="4224240" cy="1812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021040" y="6285600"/>
            <a:ext cx="14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5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右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53240" y="6285600"/>
            <a:ext cx="14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-6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左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69192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3440" y="17722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解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35400" y="1322280"/>
            <a:ext cx="6551280" cy="1443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5184720" cy="56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730080" y="3689280"/>
          <a:ext cx="8317080" cy="3057480"/>
        </p:xfrm>
        <a:graphic>
          <a:graphicData uri="http://schemas.openxmlformats.org/drawingml/2006/table">
            <a:tbl>
              <a:tblPr/>
              <a:tblGrid>
                <a:gridCol w="1513080"/>
                <a:gridCol w="2092320"/>
                <a:gridCol w="47116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置位的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位的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134172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69192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4172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43200" y="1798200"/>
            <a:ext cx="133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编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6516720" cy="1467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4608720" cy="56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817560" y="3645000"/>
          <a:ext cx="7772040" cy="3107880"/>
        </p:xfrm>
        <a:graphic>
          <a:graphicData uri="http://schemas.openxmlformats.org/drawingml/2006/table">
            <a:tbl>
              <a:tblPr/>
              <a:tblGrid>
                <a:gridCol w="3894840"/>
                <a:gridCol w="3877200"/>
              </a:tblGrid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0   0  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0   1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0   1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0   1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0   1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0   1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1   0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0   0   0   0   0   0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54180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八  其他功能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78560" y="1627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交替输出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836280"/>
            <a:ext cx="3702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其他功能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7360" y="2205000"/>
            <a:ext cx="5292720" cy="1171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2263" r="56064" b="0"/>
          <a:stretch/>
        </p:blipFill>
        <p:spPr>
          <a:xfrm>
            <a:off x="900000" y="3500280"/>
            <a:ext cx="4095720" cy="1047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499000" y="0"/>
            <a:ext cx="357192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44340" t="-16513" r="0" b="0"/>
          <a:stretch/>
        </p:blipFill>
        <p:spPr>
          <a:xfrm>
            <a:off x="684360" y="4581360"/>
            <a:ext cx="4390920" cy="105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5950080"/>
            <a:ext cx="4645080" cy="761760"/>
          </a:xfrm>
          <a:prstGeom prst="wedgeRoundRectCallout">
            <a:avLst>
              <a:gd name="adj1" fmla="val 54680"/>
              <a:gd name="adj2" fmla="val -2395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启停控制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800" y="40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10T02:05:17Z</dcterms:modified>
  <cp:revision>132</cp:revision>
  <dc:subject/>
  <dc:title>模块二  S7-200系列PLC的基本结构 </dc:title>
</cp:coreProperties>
</file>