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626-FF49-4EE6-9750-50EF09CE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1F2-81B5-4715-AB3E-30DF44EF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DD1-FD2B-4B91-87E5-14A93AD6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ABE-9BCD-42F1-9747-0D29F3D2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E367-D46B-4BAB-8B94-7836E782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61AC-D714-45CF-93BC-709D7949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5ACF-7565-4DB0-8F58-7DEE4636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1BCF-BA1E-4364-A32F-12DF6DB6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238C-B949-45B2-8E78-CDC2AF81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7C78-A583-4F6C-8AA1-8F9006DE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3785-9DB1-4097-B870-1368560C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8B4-7AD0-41C6-906A-BDACA835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4C30-D892-4A4D-9DD8-32E2296D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839B-C26A-439F-8223-E146BE0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A2E2-C927-4316-B317-F7F10C30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B598-362B-4814-A4B1-05AB9166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6919-73FC-4582-8476-50B8CA34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024-DD2F-4626-9621-9105962F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B0E-957F-42D7-A4BF-11ECBFB3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B06-0164-44F7-9CA5-33081E26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0AB-D4A9-465D-8B7D-9C67B99B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A14-3A15-4881-9886-649164C8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2C2-C1D1-4B1A-A7D7-5B98E711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055-2F40-4BCF-871B-8860F700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77BE-E1B2-490A-A472-368A2188394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EF46-BC46-41B5-B077-6CB4C120421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状态转移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绘制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三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状态继电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其步进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会运用状态编程法编制简单顺序控制应用程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状态编程法中的一般应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9800" y="1699200"/>
            <a:ext cx="26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转移图中的流程不能交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17800" y="2055960"/>
            <a:ext cx="59054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8459640" cy="3152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4520" y="1920600"/>
            <a:ext cx="85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要对某个区间状态进行复位，可用区间复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a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理；若要使某个状态中的输出禁止，可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听示方法处理；若要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全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，可用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成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c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进行程序运算，但所有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都断开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11440" y="646020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区域复位和输出禁止的处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6895" t="0" r="5172" b="0"/>
          <a:stretch/>
        </p:blipFill>
        <p:spPr>
          <a:xfrm>
            <a:off x="4908600" y="0"/>
            <a:ext cx="42908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538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性分支与汇合及其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3800" y="835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24360" y="259920"/>
            <a:ext cx="560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2827440"/>
            <a:ext cx="4896000" cy="403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35520" y="1943640"/>
            <a:ext cx="25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、汇合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对应的步进梯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66960" y="1559520"/>
            <a:ext cx="35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行分支与汇合的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66240" y="7578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2920" y="98280"/>
            <a:ext cx="56055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1989720"/>
            <a:ext cx="31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状态转移图及其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状态转移图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对应的状态梯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4360" y="3040200"/>
            <a:ext cx="4321080" cy="3817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87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1695600"/>
            <a:ext cx="43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带式运输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理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283356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17564" b="0"/>
          <a:stretch/>
        </p:blipFill>
        <p:spPr>
          <a:xfrm>
            <a:off x="5541840" y="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46880" y="3849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0" y="-374400"/>
            <a:ext cx="667800" cy="76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Arial"/>
              </a:rPr>
              <a:t>模块五   步进指令及状态编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1911960"/>
            <a:ext cx="43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带式运输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梯形图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63378" t="45631" r="8455" b="0"/>
          <a:stretch/>
        </p:blipFill>
        <p:spPr>
          <a:xfrm>
            <a:off x="5940360" y="404640"/>
            <a:ext cx="2851200" cy="645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63378" t="0" r="0" b="53739"/>
          <a:stretch/>
        </p:blipFill>
        <p:spPr>
          <a:xfrm>
            <a:off x="2479680" y="1700280"/>
            <a:ext cx="3483000" cy="5157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5605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</a:t>
            </a:r>
            <a:br>
              <a:rPr sz="3200"/>
            </a:b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9240" y="3849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0600" y="619920"/>
            <a:ext cx="60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、利用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软件编制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皮带运输机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顺控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50694" b="8643"/>
          <a:stretch/>
        </p:blipFill>
        <p:spPr>
          <a:xfrm>
            <a:off x="0" y="1025640"/>
            <a:ext cx="1835280" cy="583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0" t="49604" r="0" b="0"/>
          <a:stretch/>
        </p:blipFill>
        <p:spPr>
          <a:xfrm>
            <a:off x="5526000" y="1303200"/>
            <a:ext cx="3618000" cy="5554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rcRect l="0" t="0" r="0" b="49434"/>
          <a:stretch/>
        </p:blipFill>
        <p:spPr>
          <a:xfrm>
            <a:off x="1914480" y="1341360"/>
            <a:ext cx="3583080" cy="5516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560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41600" y="1557000"/>
            <a:ext cx="38383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台电机三种运行模式的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2920" y="2108160"/>
            <a:ext cx="7632720" cy="4749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760" y="20613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1760" y="48492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6520" y="7236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44908" b="82144"/>
          <a:stretch/>
        </p:blipFill>
        <p:spPr>
          <a:xfrm>
            <a:off x="900000" y="0"/>
            <a:ext cx="4032360" cy="1860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0" t="17860" r="44908" b="34471"/>
          <a:stretch/>
        </p:blipFill>
        <p:spPr>
          <a:xfrm>
            <a:off x="900000" y="1844640"/>
            <a:ext cx="4071960" cy="5013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rcRect l="0" t="65508" r="59552" b="0"/>
          <a:stretch/>
        </p:blipFill>
        <p:spPr>
          <a:xfrm>
            <a:off x="5435640" y="1700280"/>
            <a:ext cx="3122640" cy="3789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59280" y="174240"/>
            <a:ext cx="428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3600"/>
            </a:b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 rot="10800000">
            <a:off x="5724360" y="5731920"/>
            <a:ext cx="40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3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转移图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1760" y="20613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1760" y="48492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6520" y="7236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59280" y="174240"/>
            <a:ext cx="428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3600"/>
            </a:b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64001" t="0" r="0" b="43861"/>
          <a:stretch/>
        </p:blipFill>
        <p:spPr>
          <a:xfrm>
            <a:off x="1979640" y="0"/>
            <a:ext cx="309096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64001" t="55966" r="0" b="0"/>
          <a:stretch/>
        </p:blipFill>
        <p:spPr>
          <a:xfrm>
            <a:off x="5435640" y="1557360"/>
            <a:ext cx="3044880" cy="5300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26920" y="2500560"/>
            <a:ext cx="11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35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步进梯形图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9480" y="2059560"/>
            <a:ext cx="26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步进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8388360" cy="136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411280" y="4005360"/>
            <a:ext cx="6264360" cy="254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77840" y="4867920"/>
            <a:ext cx="94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进指令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7040" y="170028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专用钻床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992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87280" y="3541680"/>
            <a:ext cx="67089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多流程步进顺序控制状态转移图的编制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会运用专用软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状态法编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02560" y="1556280"/>
            <a:ext cx="44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输入输出继电器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接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632720" cy="41562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1840" y="764280"/>
            <a:ext cx="29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参考状态转移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900000" y="1608120"/>
            <a:ext cx="5400720" cy="5249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rcRect l="0" t="0" r="74209" b="63047"/>
          <a:stretch/>
        </p:blipFill>
        <p:spPr>
          <a:xfrm>
            <a:off x="7020000" y="1413000"/>
            <a:ext cx="1701720" cy="5445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427640" y="1773360"/>
            <a:ext cx="1439640" cy="934920"/>
          </a:xfrm>
          <a:prstGeom prst="wedgeRoundRectCallout">
            <a:avLst>
              <a:gd name="adj1" fmla="val 4023"/>
              <a:gd name="adj2" fmla="val 74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参考编程手册绘制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4653000"/>
            <a:ext cx="1368360" cy="1224000"/>
          </a:xfrm>
          <a:prstGeom prst="wedgeRoundRectCallout">
            <a:avLst>
              <a:gd name="adj1" fmla="val 87240"/>
              <a:gd name="adj2" fmla="val 408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68280" y="7642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参考编程手册绘制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rcRect l="0" t="0" r="0" b="48112"/>
          <a:stretch/>
        </p:blipFill>
        <p:spPr>
          <a:xfrm>
            <a:off x="1332000" y="1413000"/>
            <a:ext cx="2984400" cy="5445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0" t="51892" r="0" b="0"/>
          <a:stretch/>
        </p:blipFill>
        <p:spPr>
          <a:xfrm>
            <a:off x="4284720" y="1484280"/>
            <a:ext cx="3176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87200" y="76428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GX Developer V8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编辑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47637" r="27073" b="649"/>
          <a:stretch/>
        </p:blipFill>
        <p:spPr>
          <a:xfrm>
            <a:off x="5219640" y="1409760"/>
            <a:ext cx="3414600" cy="54482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rcRect l="0" t="0" r="27073" b="52261"/>
          <a:stretch/>
        </p:blipFill>
        <p:spPr>
          <a:xfrm>
            <a:off x="1042920" y="1628640"/>
            <a:ext cx="3549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16360" y="16279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3456000" cy="2067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024360" cy="2046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48440" y="2186640"/>
            <a:ext cx="18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画出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波形对应的顺序功能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2817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小车在初始状态时停在中间，限位开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按下起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小车按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的顺序运动，最后返回并停在初始位置。画出控制系统的顺序功能图，并编写梯形图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48920" y="6020640"/>
            <a:ext cx="25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03880" y="6021360"/>
            <a:ext cx="19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波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135640" cy="3197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87880" y="213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47080" y="1556280"/>
            <a:ext cx="31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编写出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状态转移图的梯形图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299560"/>
            <a:ext cx="82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                                        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3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15562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9640" y="2284920"/>
            <a:ext cx="829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两条书室运输带顺序相连，按下起动按钮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运输带开始运行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运输带自动起动。停机的顺序与起动的顺序刚好相反，间隔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画出状态转移图，编写出梯形图程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复件 复件 1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4392720" cy="1906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708360" y="5157000"/>
            <a:ext cx="19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4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5920" y="205956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步进指令的使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3240000" cy="1649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419720"/>
            <a:ext cx="8604360" cy="209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2376720" cy="182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34680" y="4220280"/>
            <a:ext cx="28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栈操作指令在状态内的正确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38760" y="421416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线圈的互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70520" y="6490440"/>
            <a:ext cx="25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内没有触点线圈的编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1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05956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转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F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建立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8780" t="0" r="5841" b="0"/>
          <a:stretch/>
        </p:blipFill>
        <p:spPr>
          <a:xfrm>
            <a:off x="5732640" y="1989000"/>
            <a:ext cx="341136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92720" y="4032360"/>
            <a:ext cx="3456000" cy="24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390720" y="3855240"/>
            <a:ext cx="21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车自动往返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0000" y="649044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车自动往返顺序控制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90276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启动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转，台车前进，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转，台车后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车后退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台车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停转，台车停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次前进，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再次后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后退再次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台车停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9800" y="278028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台车自动往返控制要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37321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90760" y="1556280"/>
            <a:ext cx="24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2800"/>
            </a:b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5920"/>
            <a:ext cx="51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转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F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建立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38800" y="3140640"/>
            <a:ext cx="26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台车自动往返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SFC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及特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40440"/>
            <a:ext cx="49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复杂的任务或过程分解成了若干个工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对某一个具体的工序来说，控制任务实现了简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要弄清各工序成立的条件、工序转移的条件和转移的方向．就可以进行这类图形的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容易理解，可读性强，能清晰地反映全部控制工艺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1208160"/>
            <a:ext cx="6300720" cy="5649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2819520" cy="5178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24160" y="7639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台车自动往返控制状态转移图、步进梯形图、指令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737360"/>
            <a:ext cx="395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编程时必须使用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状态的软元件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程顺序为先驱动，再转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使用多重（双线圈）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负载的驱动、状态转移条件可能为多个元件的逻辑组合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" y="935280"/>
            <a:ext cx="5461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356000" cy="223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6300720" cy="247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77080" y="4005360"/>
            <a:ext cx="19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序状态转移用置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之间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15636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状态可由其他状态驱动，但运行开始必须用其他方法预先做好驱动，否则状态流程不可能向下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9960" y="19324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向上转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重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向非相连的下面转移或向其他流程状态转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跳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称为顺序不连续转移，顺序不连续转移的状态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要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进行状态转移，并要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用“”符号表示转移目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8243640" cy="344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901600" y="6091920"/>
            <a:ext cx="34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连续转移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的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6264360" cy="301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2025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流程中要表示状态的自复位处理时，要用“”符号表示，自复位状态在程序中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527280" cy="2173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084720" y="414972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的转移条件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应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3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确定转移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7T15:01:34Z</dcterms:modified>
  <cp:revision>114</cp:revision>
  <dc:subject/>
  <dc:title>模块二  S7-200系列PLC的基本结构 </dc:title>
</cp:coreProperties>
</file>