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A76-9584-4E5B-BE76-2340562F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D91-FA36-47A9-ADFA-B3982E6F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CE4-565A-455D-A4D9-F3E83E2E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A9A-1DB4-49FF-9C47-2DB39583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DB77-D468-443E-882D-8F3720B7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599A-C008-4B7E-80BC-6DE6299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D3A8-3AA3-44C1-B729-2DB9D501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6EA8-BFA2-4193-8C8A-214C4F67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AC84-EB43-4EAE-8985-C480E94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AC1B-5467-495E-84B8-6B5EE797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81C0-70AC-405F-84C0-DE387EC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CF8-D00D-4E4B-8955-2F0BF9AB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3B19-0A45-4A52-9AD6-3A45DAF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F755-8CA3-4C0F-9282-63AA6DF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6C62-3963-4135-A2A8-470FC2A6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238-E6A6-4C90-B6B6-934967BE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D80C-2362-4201-A00F-0F34508F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59D-24F5-49E7-8EA0-6D68E81D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70F-ADC3-4729-AB39-C869343D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81C-C2C1-40C9-BF7D-70E5037C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F16-8E2C-401A-AB22-384DFB27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F9F-9B71-4463-BCA2-D799BB6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69C-4CD9-4E5F-A7E1-890DEAD7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998-5590-4893-8F53-7E25727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27B9-4705-425D-B066-B169C75501A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4B8A-587C-461F-ADD3-72DDEE38E43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状态转移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绘制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三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状态继电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其步进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会运用状态编程法编制简单顺序控制应用程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状态编程法中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9800" y="1699200"/>
            <a:ext cx="26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中的流程不能交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17800" y="2055960"/>
            <a:ext cx="59054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8459640" cy="3152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520" y="1920600"/>
            <a:ext cx="85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要对某个区间状态进行复位，可用区间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a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理；若要使某个状态中的输出禁止，可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听示方法处理；若要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可用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(c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路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进行程序运算，但所有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断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1440" y="646020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5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区域复位和输出禁止的处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6895" t="0" r="5172" b="0"/>
          <a:stretch/>
        </p:blipFill>
        <p:spPr>
          <a:xfrm>
            <a:off x="4908600" y="0"/>
            <a:ext cx="42908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53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性分支与汇合及其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3800" y="835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24360" y="25992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2827440"/>
            <a:ext cx="4896000" cy="403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35520" y="1943640"/>
            <a:ext cx="25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、汇合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性分支对应的步进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66960" y="1559520"/>
            <a:ext cx="35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行分支与汇合的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66240" y="757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2920" y="98280"/>
            <a:ext cx="56055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1989720"/>
            <a:ext cx="31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及其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状态转移图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行分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对应的状态梯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4360" y="3040200"/>
            <a:ext cx="4321080" cy="3817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87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1695600"/>
            <a:ext cx="43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理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28335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17564" b="0"/>
          <a:stretch/>
        </p:blipFill>
        <p:spPr>
          <a:xfrm>
            <a:off x="5541840" y="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4688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0" y="-374400"/>
            <a:ext cx="667800" cy="76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Arial"/>
              </a:rPr>
              <a:t>模块五   步进指令及状态编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1911960"/>
            <a:ext cx="43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带式运输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梯形图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63378" t="45631" r="8455" b="0"/>
          <a:stretch/>
        </p:blipFill>
        <p:spPr>
          <a:xfrm>
            <a:off x="5940360" y="404640"/>
            <a:ext cx="2851200" cy="645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63378" t="0" r="0" b="53739"/>
          <a:stretch/>
        </p:blipFill>
        <p:spPr>
          <a:xfrm>
            <a:off x="2479680" y="1700280"/>
            <a:ext cx="3483000" cy="5157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605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</a:t>
            </a:r>
            <a:br>
              <a:rPr sz="3200"/>
            </a:b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9240" y="3849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多流程步进顺序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0600" y="61992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四、利用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软件编制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皮带运输机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顺控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50694" b="8643"/>
          <a:stretch/>
        </p:blipFill>
        <p:spPr>
          <a:xfrm>
            <a:off x="0" y="1025640"/>
            <a:ext cx="1835280" cy="583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0" t="49604" r="0" b="0"/>
          <a:stretch/>
        </p:blipFill>
        <p:spPr>
          <a:xfrm>
            <a:off x="5526000" y="1303200"/>
            <a:ext cx="3618000" cy="5554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0" t="0" r="0" b="49434"/>
          <a:stretch/>
        </p:blipFill>
        <p:spPr>
          <a:xfrm>
            <a:off x="1914480" y="1341360"/>
            <a:ext cx="3583080" cy="5516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560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41600" y="1557000"/>
            <a:ext cx="38383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4240" bIns="84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台电机三种运行模式的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2920" y="2108160"/>
            <a:ext cx="7632720" cy="4749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44908" b="82144"/>
          <a:stretch/>
        </p:blipFill>
        <p:spPr>
          <a:xfrm>
            <a:off x="900000" y="0"/>
            <a:ext cx="4032360" cy="1860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0" t="17860" r="44908" b="34471"/>
          <a:stretch/>
        </p:blipFill>
        <p:spPr>
          <a:xfrm>
            <a:off x="900000" y="1844640"/>
            <a:ext cx="4071960" cy="501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0" t="65508" r="59552" b="0"/>
          <a:stretch/>
        </p:blipFill>
        <p:spPr>
          <a:xfrm>
            <a:off x="5435640" y="1700280"/>
            <a:ext cx="3122640" cy="3789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10800000">
            <a:off x="5724360" y="5731920"/>
            <a:ext cx="40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4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转移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-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1760" y="206136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1760" y="48492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6520" y="7236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59280" y="174240"/>
            <a:ext cx="428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3600"/>
            </a:b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64001" t="0" r="0" b="43861"/>
          <a:stretch/>
        </p:blipFill>
        <p:spPr>
          <a:xfrm>
            <a:off x="1979640" y="0"/>
            <a:ext cx="309096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64001" t="55966" r="0" b="0"/>
          <a:stretch/>
        </p:blipFill>
        <p:spPr>
          <a:xfrm>
            <a:off x="5435640" y="1557360"/>
            <a:ext cx="3044880" cy="5300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26920" y="2500560"/>
            <a:ext cx="11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35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步进梯形图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9480" y="205956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步进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8388360" cy="136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411280" y="4005360"/>
            <a:ext cx="6264360" cy="254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77840" y="4867920"/>
            <a:ext cx="94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7040" y="17002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专用钻床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992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7280" y="3541680"/>
            <a:ext cx="67089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多流程步进顺序控制状态转移图的编制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运用专用软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状态法编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02560" y="1556280"/>
            <a:ext cx="44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输入输出继电器的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接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632720" cy="4156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1840" y="764280"/>
            <a:ext cx="29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参考状态转移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900000" y="1608120"/>
            <a:ext cx="5400720" cy="5249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rcRect l="0" t="0" r="74209" b="63047"/>
          <a:stretch/>
        </p:blipFill>
        <p:spPr>
          <a:xfrm>
            <a:off x="7020000" y="1413000"/>
            <a:ext cx="1701720" cy="5445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427640" y="1773360"/>
            <a:ext cx="1439640" cy="934920"/>
          </a:xfrm>
          <a:prstGeom prst="wedgeRoundRectCallout">
            <a:avLst>
              <a:gd name="adj1" fmla="val 4023"/>
              <a:gd name="adj2" fmla="val 74449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参考编程手册绘制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4653000"/>
            <a:ext cx="1368360" cy="1224000"/>
          </a:xfrm>
          <a:prstGeom prst="wedgeRoundRectCallout">
            <a:avLst>
              <a:gd name="adj1" fmla="val 87240"/>
              <a:gd name="adj2" fmla="val 4083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68280" y="7642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参考编程手册绘制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rcRect l="0" t="0" r="0" b="48112"/>
          <a:stretch/>
        </p:blipFill>
        <p:spPr>
          <a:xfrm>
            <a:off x="1332000" y="1413000"/>
            <a:ext cx="2984400" cy="5445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0" t="51892" r="0" b="0"/>
          <a:stretch/>
        </p:blipFill>
        <p:spPr>
          <a:xfrm>
            <a:off x="4284720" y="1484280"/>
            <a:ext cx="3176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87200" y="76428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GX Developer V8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编辑的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专用钻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梯形图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47637" r="27073" b="649"/>
          <a:stretch/>
        </p:blipFill>
        <p:spPr>
          <a:xfrm>
            <a:off x="5219640" y="1409760"/>
            <a:ext cx="3414600" cy="54482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rcRect l="0" t="0" r="27073" b="52261"/>
          <a:stretch/>
        </p:blipFill>
        <p:spPr>
          <a:xfrm>
            <a:off x="1042920" y="1628640"/>
            <a:ext cx="3549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16360" y="16279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3456000" cy="206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024360" cy="2046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48440" y="2186640"/>
            <a:ext cx="18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画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波形对应的顺序功能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2817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小车在初始状态时停在中间，限位开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按下起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小车按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顺序运动，最后返回并停在初始位置。画出控制系统的顺序功能图，并编写梯形图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48920" y="6020640"/>
            <a:ext cx="25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03880" y="6021360"/>
            <a:ext cx="19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135640" cy="3197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87880" y="213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47080" y="1556280"/>
            <a:ext cx="31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编写出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状态转移图的梯形图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299560"/>
            <a:ext cx="82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                                        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3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1556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2284920"/>
            <a:ext cx="82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两条书室运输带顺序相连，按下起动按钮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开始运行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号运输带自动起动。停机的顺序与起动的顺序刚好相反，间隔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画出状态转移图，编写出梯形图程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复件 复件 1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4392720" cy="1906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708360" y="5157000"/>
            <a:ext cx="19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44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5920" y="205956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步进指令的使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3240000" cy="164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419720"/>
            <a:ext cx="8604360" cy="209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2376720" cy="182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34680" y="4220280"/>
            <a:ext cx="28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栈操作指令在状态内的正确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38760" y="421416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线圈的互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0520" y="6490440"/>
            <a:ext cx="25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内没有触点线圈的编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1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05956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8780" t="0" r="5841" b="0"/>
          <a:stretch/>
        </p:blipFill>
        <p:spPr>
          <a:xfrm>
            <a:off x="5732640" y="1989000"/>
            <a:ext cx="341136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92720" y="4032360"/>
            <a:ext cx="3456000" cy="24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390720" y="385524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0000" y="649044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-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车自动往返顺序控制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90276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转，台车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转，台车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车后退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台车电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转，台车停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次前进，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再次后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后退再次碰到限位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Q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台车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9800" y="278028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控制要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7321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90760" y="155628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五   步进指令</a:t>
            </a:r>
            <a:br>
              <a:rPr sz="2800"/>
            </a:b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5920"/>
            <a:ext cx="51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转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SF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建立及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38800" y="314064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台车自动往返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SFC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及特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40440"/>
            <a:ext cx="49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复杂的任务或过程分解成了若干个工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某一个具体的工序来说，控制任务实现了简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要弄清各工序成立的条件、工序转移的条件和转移的方向．就可以进行这类图形的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容易理解，可读性强，能清晰地反映全部控制工艺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3200" y="148356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步进指令与状态转移图表示方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1208160"/>
            <a:ext cx="6300720" cy="564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819520" cy="5178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24160" y="7639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台车自动往返控制状态转移图、步进梯形图、指令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737360"/>
            <a:ext cx="395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编程时必须使用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的软元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程顺序为先驱动，再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使用多重（双线圈）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的驱动、状态转移条件可能为多个元件的逻辑组合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" y="935280"/>
            <a:ext cx="5461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356000" cy="223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6300720" cy="247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77080" y="4005360"/>
            <a:ext cx="19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顺序状态转移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之间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1563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状态可由其他状态驱动，但运行开始必须用其他方法预先做好驱动，否则状态流程不可能向下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9960" y="19324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向上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重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向非相连的下面转移或向其他流程状态转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跳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称为顺序不连续转移，顺序不连续转移的状态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状态转移，并要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用“”符号表示转移目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8243640" cy="344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01600" y="6091920"/>
            <a:ext cx="34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连续转移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6264360" cy="301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2025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流程中要表示状态的自复位处理时，要用“”符号表示，自复位状态在程序中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45160" y="835560"/>
            <a:ext cx="34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编制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SF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图的注意事项和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5720" y="163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五   步进指令及状态编程法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1335960"/>
            <a:ext cx="54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F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的规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527280" cy="217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84720" y="414972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)SF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中的转移条件不能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应按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-13(b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确定转移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7T15:01:34Z</dcterms:modified>
  <cp:revision>114</cp:revision>
  <dc:subject/>
  <dc:title>模块二  S7-200系列PLC的基本结构 </dc:title>
</cp:coreProperties>
</file>