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3F31-C5BE-44DB-94B1-BFDDAA4B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AD8-DA8C-4685-9BF8-72CC4259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345-99E4-42A3-A574-B4ACA617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1C5A-D779-4208-96E2-E881DE36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22A9-6194-44DC-8144-2629E486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4A50-CEFE-4C11-8650-1B8750E2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811A-0745-4173-BCD2-7563D7FD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3840-631B-4FE3-A393-7E0C6A6B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F6D2-B24C-4A7A-BC56-3E3D5278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1604-659E-4826-8F3A-88571B13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66A4-A4D8-44A7-AF19-9055DDA6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103-2166-4D60-BC7C-9FADF4C5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71B3-F8B9-419D-B6F0-5DE6EE38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4EA9-C3ED-444B-BA4B-DA40A7DB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F6CB-B4B9-4002-A79D-1FBC2C08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4CBD-C309-4812-8C8F-6FFA2848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36B3-F6D7-47F8-BAD3-79B0A338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75D-E80E-4718-85F7-713D7704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419-D7BB-40CB-A311-6FDAD633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15C-5C12-462F-87A8-AB659D73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6DA-4D42-49E1-93A7-B7ABEB18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4A8-F5E2-478D-AD07-7EAF5576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B8FE-1D9B-4B9C-92C5-74FE5145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0B0-1580-453E-81FD-F4D7667E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10B9-3F1D-4259-BA9D-9BFBC5B51FE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5061-8F32-4642-B220-F46FE2A5BE0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基本指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基本编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基本指令的一般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6000" y="0"/>
            <a:ext cx="4852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81560" y="1556280"/>
            <a:ext cx="37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R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532720" cy="2157480"/>
          </a:xfrm>
          <a:prstGeom prst="rect">
            <a:avLst/>
          </a:prstGeom>
          <a:ln w="0">
            <a:noFill/>
          </a:ln>
        </p:spPr>
      </p:pic>
      <p:pic>
        <p:nvPicPr>
          <p:cNvPr id="209" name="03d08" descr=""/>
          <p:cNvPicPr/>
          <p:nvPr/>
        </p:nvPicPr>
        <p:blipFill>
          <a:blip r:embed="rId2"/>
          <a:stretch/>
        </p:blipFill>
        <p:spPr>
          <a:xfrm>
            <a:off x="1924200" y="2376360"/>
            <a:ext cx="2342880" cy="1619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764240" y="2405160"/>
            <a:ext cx="24573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8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两层栈示例程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22320" y="4138920"/>
            <a:ext cx="2641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S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一层入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S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二层入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Y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第二层出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X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Y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24200" y="237636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76800" y="4221360"/>
            <a:ext cx="16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P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一层出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S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一层入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Y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P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一层出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Y00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724360" y="4221000"/>
            <a:ext cx="3419640" cy="23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0520" y="1483560"/>
            <a:ext cx="2571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8459640" cy="1733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968040" y="3787920"/>
            <a:ext cx="3705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0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N0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层主控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100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主控线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1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      Y000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2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      Y001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      N0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主控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129280" y="3724200"/>
            <a:ext cx="32400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165456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8532720" cy="1298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005120" y="3943800"/>
            <a:ext cx="377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   X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V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  Y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ND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程序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394524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9120" y="1556280"/>
            <a:ext cx="28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532720" cy="1755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919440" y="4007160"/>
            <a:ext cx="361872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   X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  Y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   X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T  Y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T  Y001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   X002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  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rcRect l="0" t="0" r="0" b="3274"/>
          <a:stretch/>
        </p:blipFill>
        <p:spPr>
          <a:xfrm>
            <a:off x="4788000" y="4149720"/>
            <a:ext cx="38876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44240" y="45075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二、编程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1080" y="2133720"/>
            <a:ext cx="22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OP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74400" y="2563200"/>
            <a:ext cx="103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留出一定的空间，待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某些接点或电路短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切断某些电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变换部分电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8800" y="4075920"/>
            <a:ext cx="2099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92360" y="1557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96160" y="5057640"/>
            <a:ext cx="188604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双线圈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程序的优化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编程元件的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00" y="90180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5003640" cy="2982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859280" cy="3441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4981680" y="5024520"/>
            <a:ext cx="3924360" cy="1361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2205000"/>
            <a:ext cx="34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2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飞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3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转键离合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4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曲柄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5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连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6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滑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7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8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9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作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0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复位弹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1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磁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2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衔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3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关闭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4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程开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5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凸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32480" y="155628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曲柄压力机及常规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-4320" y="169416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194292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模拟曲柄压力机硬件接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及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84360" y="2733840"/>
            <a:ext cx="5182920" cy="41241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rcRect l="0" t="3377" r="31144" b="16179"/>
          <a:stretch/>
        </p:blipFill>
        <p:spPr>
          <a:xfrm>
            <a:off x="5076720" y="1628640"/>
            <a:ext cx="4067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64000" y="3643920"/>
            <a:ext cx="341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动合触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的电机“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停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控制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及梯形图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84360" y="2870280"/>
            <a:ext cx="4824360" cy="3987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rcRect l="57890" t="49861" r="-2829" b="7991"/>
          <a:stretch/>
        </p:blipFill>
        <p:spPr>
          <a:xfrm>
            <a:off x="4427640" y="1484280"/>
            <a:ext cx="4248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64000" y="3643920"/>
            <a:ext cx="341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动断触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的电机“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停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控制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及梯形图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84360" y="2851200"/>
            <a:ext cx="4824360" cy="40068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rcRect l="59141" t="45332" r="-1000" b="11161"/>
          <a:stretch/>
        </p:blipFill>
        <p:spPr>
          <a:xfrm>
            <a:off x="4500720" y="1347840"/>
            <a:ext cx="40320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2781000"/>
            <a:ext cx="63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0033"/>
                </a:solidFill>
                <a:latin typeface="宋体"/>
              </a:rPr>
              <a:t>模块三</a:t>
            </a:r>
            <a:br>
              <a:rPr sz="3200"/>
            </a:br>
            <a:r>
              <a:rPr b="0" lang="zh-CN" sz="3200" spc="-1" strike="noStrike">
                <a:solidFill>
                  <a:srgbClr val="330033"/>
                </a:solidFill>
                <a:latin typeface="宋体"/>
              </a:rPr>
              <a:t>  基本逻辑指令及应用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74880" y="692280"/>
            <a:ext cx="2130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议边学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052880" y="0"/>
            <a:ext cx="3090960" cy="6642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766880" y="3056400"/>
            <a:ext cx="15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根据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-2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梯形图程序，写出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5205240" cy="6840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3320" y="-473400"/>
            <a:ext cx="606960" cy="60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0033"/>
                </a:solidFill>
                <a:latin typeface="Arial"/>
              </a:rPr>
              <a:t>模块三  基本逻辑指令及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01960" y="1558800"/>
            <a:ext cx="326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70640" y="3787920"/>
            <a:ext cx="378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-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指令一览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3950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根据指令表绘出下列程序的梯形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58520" y="1549800"/>
            <a:ext cx="2541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I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F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50880" y="1559160"/>
            <a:ext cx="1626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66880" y="1629720"/>
            <a:ext cx="162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P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F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P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2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R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模块三  基本逻辑指令及应用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1960" y="2276640"/>
            <a:ext cx="2130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议边学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556640"/>
            <a:ext cx="4305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219880" cy="2165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76720" y="4376880"/>
            <a:ext cx="3095640" cy="2481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2920" y="4394160"/>
            <a:ext cx="3324240" cy="2463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8532720" cy="1544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3463920" cy="1938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124600" y="2928960"/>
            <a:ext cx="20937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2  AND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示例程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4075200"/>
            <a:ext cx="5403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0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取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2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000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Y000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3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与常闭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100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1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Y004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27080" y="292896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模块三  基本逻辑指令及应用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9480" y="1556280"/>
            <a:ext cx="26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846000" y="156096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7120" y="1352520"/>
            <a:ext cx="1957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19280" y="1989000"/>
            <a:ext cx="8424720" cy="1552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94760" y="3645360"/>
            <a:ext cx="364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X001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X003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M101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与常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       Y00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Y00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常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       X007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M10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X01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M11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       M10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364000" y="3622680"/>
            <a:ext cx="331164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模块三  基本逻辑指令及应用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9880" y="2133720"/>
            <a:ext cx="8437680" cy="3563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99920" y="1627920"/>
            <a:ext cx="6689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模块三  基本逻辑指令及应用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21960" y="1627920"/>
            <a:ext cx="7055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例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09160" y="2158920"/>
            <a:ext cx="361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上升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X00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下降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Y0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3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上升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下降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S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5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       X01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上升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F      X012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下降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ST       Y002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0" r="0" b="1020"/>
          <a:stretch/>
        </p:blipFill>
        <p:spPr>
          <a:xfrm>
            <a:off x="5292720" y="2205000"/>
            <a:ext cx="30654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7120" y="1352520"/>
            <a:ext cx="1957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94240" y="57960"/>
            <a:ext cx="3650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8317080" cy="1149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8317080" cy="1168200"/>
          </a:xfrm>
          <a:prstGeom prst="rect">
            <a:avLst/>
          </a:prstGeom>
          <a:ln w="0">
            <a:noFill/>
          </a:ln>
        </p:spPr>
      </p:pic>
      <p:pic>
        <p:nvPicPr>
          <p:cNvPr id="188" name="03d05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3780000" cy="3485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132000" y="2133720"/>
            <a:ext cx="2235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5  ANB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示例程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43028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4280" y="2801880"/>
            <a:ext cx="408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3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并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取常闭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2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并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B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两块电路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0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并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Y0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0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取常闭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4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闭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1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7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闭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两块电路并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M1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2200" y="1627560"/>
            <a:ext cx="25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8459640" cy="1633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38600" y="3859560"/>
            <a:ext cx="4161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0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脉冲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0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Y000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1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下降沿脉冲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1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Y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587920" y="3774960"/>
            <a:ext cx="3419640" cy="27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6T05:30:42Z</dcterms:modified>
  <cp:revision>71</cp:revision>
  <dc:subject/>
  <dc:title>模块二  S7-200系列PLC的基本结构 </dc:title>
</cp:coreProperties>
</file>