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1968-E461-4591-BEDF-38AFC3DB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FBED-A54A-4825-A7DC-B74D3A1D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CF60-7644-4B80-88DC-984154434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34CC-53BF-480E-930B-551E974FB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E909-2D14-473F-8402-FE382F8F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5C34-8A0F-418C-9692-7E4E8EBF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7E87-65BF-47BC-8164-C0F62BAF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EA8F-AC76-4E9D-ADFF-0C527C7F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83A5-74FA-436C-BA5B-28230B24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7FB2-7752-43AF-8A90-948FCEDD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C2D8-ECD2-4DFF-AEB1-694A8E7A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38EA-DA2F-4F9F-9390-17C77491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19E9-199C-40B1-AF98-232FC056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3C9F-879C-40F3-8FA4-F0C80FDC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C186-7EAE-44FD-B7A7-6260B553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919A-0F94-4DB7-AB0B-D90406D1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9C80-F2B6-4672-85CF-1A379448B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6CF2-F5B4-4E2F-A5D0-CCA01392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5506-CF77-4459-BC32-8E237650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8B12-42B9-4AF5-A34F-9054E97F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22C0-5EBB-43B2-A6B5-9D845DCD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4B0E-8162-4970-8AF0-D64FE7F7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2F61-562E-432E-BCEA-F97A656E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3EF1-AAF6-4121-B241-FF7DFAC1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E64F-76E9-4335-A1A9-37BD7DD46E3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66D9-BBA8-4E73-A4C8-D035CCBAE5C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20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的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了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可编程控制器的硬件结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了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可编程控制器常见应用系统的组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掌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常用编程元件的使用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了解编程软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X Developer V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一般应用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16000" y="1916280"/>
            <a:ext cx="75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实训内容—计数器、特殊功能辅助继电器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的应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75920" y="2448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隶书"/>
              </a:rPr>
              <a:t>实训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334008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掌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计数器的一般使用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掌握典型用途特殊功能辅助继电器的使用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学会使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GX Developer V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程软件在电脑上编辑梯形图程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20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67960" y="5723640"/>
            <a:ext cx="259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2-9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输入输出继电器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接线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14720" y="5771160"/>
            <a:ext cx="271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-1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参考梯形图及指令表程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744720" cy="37209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500720" y="2205000"/>
            <a:ext cx="4643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92000" y="2509920"/>
            <a:ext cx="835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三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应用比较广泛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一，它由基本单元、扩展单元、扩展模块及特殊功能单元构成。其中基本单元内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主机，扩展单元用于增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数，扩展模块用于改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的比例，特殊功能模块用于模拟量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、网络通信等。三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编程元件有输入触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输出继电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辅助继电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定时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计数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状态寄存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数据寄存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变址寄存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指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常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/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思考并将合适的答案填于空白处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定时器的线圈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开始定时，定时时间到时其常开触点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常闭触点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用定时器的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被复位，复位后其常开触点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常闭触点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当前值变为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部计数器的复位输入电路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计数输入电路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当前值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定值时，计数器的当前值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计数当前值等于设定值时，其常开触点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常闭触点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再来计数脉冲时当前值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复位输入电路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计数器被复位，复位后其常开触点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常闭触点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当前值为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④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不能用于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继电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⑤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初始化脉冲，在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它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N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个扫描周期。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处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状态时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8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直为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⑥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程元件中只有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元件号采用八进制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91440" y="145980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边学边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91440" y="145980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边学边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1800" y="1903320"/>
            <a:ext cx="822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八进制数和十六进制数只是二进制数的一种较为方便的写法，但二进制数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是两个不同的概念，一个多位十进制数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和二进制数是不一样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：十进制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和二进制数分别写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进制数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010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进制数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11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很多指令中，既有对二进制数的运算处理，也有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的运算处理，并且有二进制数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的相互转换指令，使用时应予以区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思考和计算，并把结果填入空格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进制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不同数制中应分别写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进制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八进制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六进制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____________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进制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11011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不同数制中应分别写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进制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八进制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11280" y="1483920"/>
            <a:ext cx="42292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1320" rIns="90000" tIns="84240" bIns="8424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8532720" cy="2168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9640" y="4292640"/>
            <a:ext cx="860436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36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br>
              <a:rPr sz="3800"/>
            </a:b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4344840" cy="4724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7728" t="13908" r="10029" b="9645"/>
          <a:stretch/>
        </p:blipFill>
        <p:spPr>
          <a:xfrm>
            <a:off x="4290840" y="260280"/>
            <a:ext cx="485316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3049560"/>
            <a:ext cx="28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2N-□□M□-0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典型输入外部配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538" r="0" b="1109"/>
          <a:stretch/>
        </p:blipFill>
        <p:spPr>
          <a:xfrm>
            <a:off x="3276720" y="1292400"/>
            <a:ext cx="586728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87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30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12760" y="2212920"/>
          <a:ext cx="8642160" cy="4548240"/>
        </p:xfrm>
        <a:graphic>
          <a:graphicData uri="http://schemas.openxmlformats.org/drawingml/2006/table">
            <a:tbl>
              <a:tblPr/>
              <a:tblGrid>
                <a:gridCol w="1220760"/>
                <a:gridCol w="1227240"/>
                <a:gridCol w="1290600"/>
                <a:gridCol w="1226880"/>
                <a:gridCol w="1108080"/>
                <a:gridCol w="1127160"/>
                <a:gridCol w="1441440"/>
              </a:tblGrid>
              <a:tr h="75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电源，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 24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电源，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 24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入点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出点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可连接的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继电器输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晶体管输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继电器输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晶体管输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2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2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zh-CN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zh-CN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ER-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8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8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zh-CN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zh-CN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8ER-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8ET-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2440440" y="1669320"/>
            <a:ext cx="470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1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带电源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扩展单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93480" y="1551960"/>
            <a:ext cx="488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1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不带电源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扩展模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01640" y="2117880"/>
          <a:ext cx="7772400" cy="46321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 入 模 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继电器输出模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晶体管输出模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 入 点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 出 点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EY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EY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EY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EY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EY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X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EY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19280" y="1557000"/>
            <a:ext cx="569916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240" bIns="842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编程元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40160" y="2203560"/>
            <a:ext cx="1893240" cy="43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输入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继电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出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继电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辅助继电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通用辅助继电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掉电保持辅助继电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特殊功能辅助继电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定时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通用定时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累积定时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计数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加计数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双向计数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高速计数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220500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状态寄存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初始状态用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回归原点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一般通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保持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数据寄存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通用型数据寄存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保持型数据寄存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特殊功能寄存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变址寄存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指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用于子程序调用的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号的指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用于中断服务程序入口的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号指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常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/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185760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br>
              <a:rPr sz="4200"/>
            </a:b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br>
              <a:rPr sz="4200"/>
            </a:b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48000" y="0"/>
            <a:ext cx="524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模块二  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FX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系列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PLC</a:t>
            </a:r>
            <a:r>
              <a:rPr b="1" lang="zh-CN" sz="4200" spc="-1" strike="noStrike">
                <a:solidFill>
                  <a:srgbClr val="330033"/>
                </a:solidFill>
                <a:latin typeface="Times New Roman"/>
              </a:rPr>
              <a:t>的基本结构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4320" y="1694160"/>
            <a:ext cx="667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4560" y="1557360"/>
            <a:ext cx="28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定时器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闪光控制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69000" y="6222240"/>
            <a:ext cx="23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-6 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闪光控制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38720" y="6236280"/>
            <a:ext cx="187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-8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演示电路程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3303720" cy="4105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284720" y="2637000"/>
            <a:ext cx="462132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7:07:48Z</dcterms:created>
  <dc:creator>雨林木风</dc:creator>
  <dc:description/>
  <dc:language>en-US</dc:language>
  <cp:lastModifiedBy>雨林木风</cp:lastModifiedBy>
  <dcterms:modified xsi:type="dcterms:W3CDTF">2010-10-06T01:26:56Z</dcterms:modified>
  <cp:revision>34</cp:revision>
  <dc:subject/>
  <dc:title>模块二  S7-200系列PLC的基本结构 </dc:title>
</cp:coreProperties>
</file>