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5B6-4948-41E8-9820-2AA2DF4D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798-1E53-4735-AA2C-B6B8B7D0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EFC-5AC1-4AAF-8A44-36901F50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308-6971-497E-9D55-59FB11F0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E0C1-C106-43E4-971C-37A1C7AF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DFD9-D452-46A2-B026-514E2898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A6A9-7F85-4617-80FC-D880BAA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E2EF-73CF-4DD4-8A77-60E242B9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68B2-E861-45B4-AC3E-DEA5B514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C0DE-D27B-4E8A-8D52-50170EB5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B8D-528E-4775-8595-7048AC1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79D-EF44-45D2-94AB-148FF345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21AD-3837-4E2D-BE1A-AC9D60A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53F-19E5-4FE1-B5FB-40D908F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F3B9-1BBF-4BEB-BC18-F2C37FF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7B7-2516-42EF-BE09-371B008E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9BA-0FEB-446A-97D4-6DF2DBC0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030-6323-4CC4-944D-11400427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823-35F2-4706-AE4E-EB25F53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5DC-304C-4E5C-B169-0A6A64A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B26-7054-4B0C-A507-BEAF3BB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7A5-0C8B-4DFD-BCC5-562EE87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3D0-D004-4504-B07D-50E8501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1A8-054F-472B-B118-DA8965A0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70E-EA22-4A38-9BDC-A1163044BEE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0D5-325B-4D02-8AC4-84FB1C4D4FE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循环移位与移位指令、编解码指令等常用功能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使用常用功能指令进行彩灯循环控制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开发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彩灯循环控制应用系统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1840" y="14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硬件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3591" r="0" b="1437"/>
          <a:stretch/>
        </p:blipFill>
        <p:spPr>
          <a:xfrm>
            <a:off x="5394240" y="3068640"/>
            <a:ext cx="37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408720" cy="262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5013360"/>
            <a:ext cx="1943280" cy="1413000"/>
          </a:xfrm>
          <a:prstGeom prst="wedgeRoundRectCallout">
            <a:avLst>
              <a:gd name="adj1" fmla="val 6537"/>
              <a:gd name="adj2" fmla="val -80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继电器接触器控制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1656000" cy="1440000"/>
          </a:xfrm>
          <a:prstGeom prst="wedgeRoundRectCallout">
            <a:avLst>
              <a:gd name="adj1" fmla="val 99666"/>
              <a:gd name="adj2" fmla="val 2883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8000" y="2276640"/>
            <a:ext cx="310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示演 堂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02400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07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47720"/>
            <a:ext cx="72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移位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熟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-169"/>
          <a:stretch/>
        </p:blipFill>
        <p:spPr>
          <a:xfrm>
            <a:off x="5386320" y="765000"/>
            <a:ext cx="3757680" cy="609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7040" y="907200"/>
            <a:ext cx="44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960720" cy="2865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49991" b="56571"/>
          <a:stretch/>
        </p:blipFill>
        <p:spPr>
          <a:xfrm>
            <a:off x="1116000" y="477036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Arial"/>
              </a:rPr>
              <a:t>模块八  其他功能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07d1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87640" cy="146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3645000"/>
            <a:ext cx="2246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8360" y="1627560"/>
            <a:ext cx="23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试分析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梯形图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2473200" y="3090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3167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设计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电路，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脉冲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一个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彩灯移位是否移位，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左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或右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将彩灯的初值设定为十六进制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F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设计出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8560" y="2059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228"/>
          <a:stretch/>
        </p:blipFill>
        <p:spPr>
          <a:xfrm>
            <a:off x="1258920" y="2565360"/>
            <a:ext cx="7129440" cy="152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8243640" cy="1590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03480" y="616500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右移指令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524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左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9850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7320" y="4508640"/>
            <a:ext cx="8356680" cy="1596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37280" y="622224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2600" y="213264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带进位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13800" cy="153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14598" r="0" b="7462"/>
          <a:stretch/>
        </p:blipFill>
        <p:spPr>
          <a:xfrm>
            <a:off x="611280" y="4292640"/>
            <a:ext cx="8532720" cy="152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97560" y="609192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右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带进位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833760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920" y="616500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8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位右移和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488360" cy="165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14324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22920" y="4344840"/>
            <a:ext cx="422424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210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32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6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3440" y="17722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解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5400" y="1322280"/>
            <a:ext cx="6551280" cy="144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184720" cy="5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30080" y="3689280"/>
          <a:ext cx="8317080" cy="3057480"/>
        </p:xfrm>
        <a:graphic>
          <a:graphicData uri="http://schemas.openxmlformats.org/drawingml/2006/table">
            <a:tbl>
              <a:tblPr/>
              <a:tblGrid>
                <a:gridCol w="1513080"/>
                <a:gridCol w="2092320"/>
                <a:gridCol w="4711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3200" y="179820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6516720" cy="146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608720" cy="5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817560" y="3645000"/>
          <a:ext cx="7772040" cy="3107880"/>
        </p:xfrm>
        <a:graphic>
          <a:graphicData uri="http://schemas.openxmlformats.org/drawingml/2006/table">
            <a:tbl>
              <a:tblPr/>
              <a:tblGrid>
                <a:gridCol w="3894840"/>
                <a:gridCol w="3877200"/>
              </a:tblGrid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0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1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1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1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1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0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8560" y="1627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交替输出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83628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60" y="2205000"/>
            <a:ext cx="5292720" cy="117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2263" r="56064" b="0"/>
          <a:stretch/>
        </p:blipFill>
        <p:spPr>
          <a:xfrm>
            <a:off x="900000" y="3500280"/>
            <a:ext cx="40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49900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44340" t="-16513" r="0" b="0"/>
          <a:stretch/>
        </p:blipFill>
        <p:spPr>
          <a:xfrm>
            <a:off x="684360" y="4581360"/>
            <a:ext cx="439092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5950080"/>
            <a:ext cx="4645080" cy="761760"/>
          </a:xfrm>
          <a:prstGeom prst="wedgeRoundRectCallout">
            <a:avLst>
              <a:gd name="adj1" fmla="val 54680"/>
              <a:gd name="adj2" fmla="val -2395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控制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0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10T02:05:17Z</dcterms:modified>
  <cp:revision>132</cp:revision>
  <dc:subject/>
  <dc:title>模块二  S7-200系列PLC的基本结构 </dc:title>
</cp:coreProperties>
</file>