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520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32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684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32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684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761760"/>
            <a:ext cx="6400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6320" y="76320"/>
            <a:ext cx="1676160" cy="5061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35680" y="640008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4077-C11D-420C-8CE3-E987D58FBCE8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6477120" y="119160"/>
          <a:ext cx="2514600" cy="4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119160"/>
                    <a:ext cx="25146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Protel 99 SE PCB </a:t>
            </a: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设计</a:t>
            </a:r>
            <a:endParaRPr b="1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5486400"/>
            <a:ext cx="5410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Corsiva"/>
              </a:rPr>
              <a:t>____________________________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清华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Motorola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单片机与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DSP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应用开发研究中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48160" y="5410080"/>
            <a:ext cx="19047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003-8-1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PCB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布线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5614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动布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菜单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uto Route/All..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自动完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布线工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手动布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工具栏中的布线工具，或者选择菜单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lace/Li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pLay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层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ottomLay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层完成布线工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导线技巧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75614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ift+Spa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键切换导线模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4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度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圆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4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度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度直角导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圆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任意角度直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度弧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导线属性编辑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75614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布线时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键可对导线属性进行编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46200" y="1979640"/>
            <a:ext cx="590544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放置过孔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3480" y="1484280"/>
            <a:ext cx="4825800" cy="14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过孔可连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pLay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层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ottomLay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层。选择工具栏中的放置过孔工具，或者选择菜单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lace/Vi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放置过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703840" y="1343160"/>
            <a:ext cx="3044880" cy="5398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042920" y="3225960"/>
            <a:ext cx="403236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泪滴的应用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31280" cy="154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添加泪滴是把走线与焊盘或过孔逐渐加大形成泪滴状，使其连接更可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菜单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ols/Teardrops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在弹出的泪滴属性对话框中选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对所选网络添加泪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324320" y="3103560"/>
            <a:ext cx="3776760" cy="2989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87280" y="3662280"/>
            <a:ext cx="235116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敷铜的应用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486560" cy="100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敷铜是在电路板的空白处铺设铜膜。选择工具栏中的敷铜工具，或者选择菜单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lace/Polygon pla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弹出敷铜对话框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097160" y="2421000"/>
            <a:ext cx="4578480" cy="3611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01480" y="2567160"/>
            <a:ext cx="31338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设计规则设置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菜单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sign/Rule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弹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sign Rul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话框，可设置导线间最小间距，导线宽度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16000" y="2063880"/>
            <a:ext cx="67690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69192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设计规则检查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菜单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ols/Design Rule Chec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弹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sign Rule Chec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话框，点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un DR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钮可进行电路板设计规则检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540072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什么是</a:t>
            </a: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PCB</a:t>
            </a: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？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062920" cy="298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C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ed circuit boar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简称，即印刷电路板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C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主要功能是固定各种零件，并提供其上各个零件的相互电气连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C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上的绿色或是棕色，是阻焊漆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older mas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的颜色。这层是绝缘的防护层，可以保护铜线，也可以防止零件被焊到不正确的地方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阻焊层上另外会印刷上一层丝网印刷面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ilk scree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。通常在这上面会印上文字与符号（大多是白色的），以标示出各零件在板子上的位置。丝网印刷面也被称作图标面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ege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PCB</a:t>
            </a: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的种类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280" y="105228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90320" indent="-490320"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单面板（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e-Sided Board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双面板（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uble-Sided Board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多层板（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-Layer Board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信号层（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Signal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），电源层（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），地线层（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Ground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2737080" cy="1469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219640" y="1484280"/>
            <a:ext cx="2592360" cy="1390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547640" y="3429000"/>
            <a:ext cx="2448000" cy="1335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148360" y="3429000"/>
            <a:ext cx="25923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零件封装技术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280" y="105228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53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插入式封装技术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hrough Hole Technolog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这种零件会需要占用大量的空间，并且要为每只接脚钻一个洞。接脚其实占掉两面的空间，而且焊点也比较大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表面黏贴式封装技术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urface Mounted Technolog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表面黏贴式封装的零件，接脚是焊在与零件同一面。体积小，占用空间少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16360" y="2276640"/>
            <a:ext cx="2735280" cy="1466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92360" y="4869000"/>
            <a:ext cx="2232000" cy="1373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508720" y="4869000"/>
            <a:ext cx="223200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建立原理图的网络表文件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468144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执行菜单命令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Design/Create Netlis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将弹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Netlist Creatio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对话框，如图所示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在对话框中确定网络表输出格式、网络定义范围以及产生网络表后相应的执行程序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生成原理图相应的网络表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64000" y="1557360"/>
            <a:ext cx="31546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建立一个印制电路板文件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025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执行菜单命令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File/New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将弹出数据类型对话框，如图所示。选择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CB Documen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建立一个印制电路板文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74920" y="2492280"/>
            <a:ext cx="597672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绘制电路板边框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7025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切换至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KeepOutLay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层，选择工具栏中的布线工具，或者选择菜单中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lace/Lin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命令，绘制封闭的电路板边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575928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载入网络表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96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执行菜单命令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Design/Load Net…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将弹出数据类型对话框，如图所示。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Brows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按钮选择网络表，添加网络表成功后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Execut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命令执行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95640" y="2276640"/>
            <a:ext cx="453708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元器件放置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5614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动布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菜单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ols/Auto Placement/Auto Placer..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自动完成元器件的布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手动布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拖曳的方式分别将元件一个个拖进电路板边框范围内，选中元件时，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空格）键旋转元件，将元件在电路板内一一摆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9T01:57:52Z</dcterms:created>
  <dc:creator>jovy jiang</dc:creator>
  <dc:description/>
  <dc:language>en-US</dc:language>
  <cp:lastModifiedBy>Marco</cp:lastModifiedBy>
  <dcterms:modified xsi:type="dcterms:W3CDTF">2003-07-28T17:00:36Z</dcterms:modified>
  <cp:revision>49</cp:revision>
  <dc:subject/>
  <dc:title>MC68HC908GP32IDK 在线编程开发系统</dc:title>
</cp:coreProperties>
</file>