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803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52080"/>
            <a:ext cx="77803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44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6320" y="15238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6840" y="15238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520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6320" y="39520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6840" y="39520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920" y="761760"/>
            <a:ext cx="6400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44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77803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6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6320" y="76320"/>
            <a:ext cx="1676160" cy="5061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135680" y="640008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6A26-926C-4B18-9D58-EC5E535BFAC5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6477120" y="119160"/>
          <a:ext cx="2514600" cy="41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119160"/>
                    <a:ext cx="25146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Times New Roman"/>
              </a:rPr>
              <a:t>Protel 99 SE</a:t>
            </a:r>
            <a:r>
              <a:rPr b="1" lang="zh-CN" sz="4400" spc="-1" strike="noStrike">
                <a:solidFill>
                  <a:srgbClr val="800080"/>
                </a:solidFill>
                <a:latin typeface="Times New Roman"/>
              </a:rPr>
              <a:t>原理图设计</a:t>
            </a:r>
            <a:endParaRPr b="1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71800" y="5486400"/>
            <a:ext cx="5410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Monotype Corsiva"/>
              </a:rPr>
              <a:t>____________________________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清华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Motorola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单片机与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DSP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应用开发研究中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48160" y="5410080"/>
            <a:ext cx="19047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003-8-1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编辑元件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700280"/>
            <a:ext cx="507672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常用的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ttributes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选项卡中的选项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ib Re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在元件库中定义的元件名称，不会显示在绘图页中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ootprin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包装形式。应输入该元件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C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库里的名称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esignat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流水序号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art Typ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显示在绘图页中的元件名称，默认值与元件库中名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ib Re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致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heet Pat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成为绘图页元件时，定义下层绘图页的路径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定义子元件序号，如与门电路的第一个逻辑门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第二个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等等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elec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切换选取状态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idden Pin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是否显示元件的隐藏引脚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idden Field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是否显示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art Fields 1-8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art Fields 9-16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选项卡中的　元件数据栏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ield Nam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是否显示元件数据栏名称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292720" y="1268280"/>
            <a:ext cx="3419640" cy="4969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50920" y="836640"/>
            <a:ext cx="49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将元件放置到绘图页之前按下〖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A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〗，或放置后双击鼠标，就可打开如图所示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对话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62064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工具栏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2232000" cy="1052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148360" y="1341360"/>
            <a:ext cx="2160360" cy="10191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476360" y="2959200"/>
            <a:ext cx="1440000" cy="13208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616040" y="24210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画原理图工具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70360" y="24210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画图形工具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71640" y="43275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电源符号工具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5435640" y="2887560"/>
            <a:ext cx="1511280" cy="1409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076720" y="443700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数字器件工具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187280" y="4821120"/>
            <a:ext cx="2089440" cy="984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5508720" y="5084640"/>
            <a:ext cx="1368360" cy="627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523880" y="58053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仿真信号源工具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44640" y="5805360"/>
            <a:ext cx="14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器件工具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32000" y="62064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画原理图工具栏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76720" y="2852640"/>
            <a:ext cx="2232000" cy="1052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958760" y="153684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画导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2263320" y="1844280"/>
            <a:ext cx="1228680" cy="13683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73000" y="153684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18ffd"/>
                </a:solidFill>
                <a:latin typeface="Arial"/>
              </a:rPr>
              <a:t>画总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2910960" y="1844280"/>
            <a:ext cx="939960" cy="13683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27560" y="15368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画总线分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3850920" y="1844280"/>
            <a:ext cx="289080" cy="129708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08640" y="15573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18ffd"/>
                </a:solidFill>
                <a:latin typeface="Arial"/>
              </a:rPr>
              <a:t>画网络标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572000" y="1844280"/>
            <a:ext cx="284040" cy="13683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81360" y="155736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画电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932360" y="1844280"/>
            <a:ext cx="787320" cy="13683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55360" y="15573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18ffd"/>
                </a:solidFill>
                <a:latin typeface="Arial"/>
              </a:rPr>
              <a:t>选取元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292720" y="1844280"/>
            <a:ext cx="1219320" cy="13683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44600" y="48927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18ffd"/>
                </a:solidFill>
                <a:latin typeface="Arial"/>
              </a:rPr>
              <a:t>画层次电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24240" y="4792680"/>
            <a:ext cx="79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层次电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输入输出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83800" y="479268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18ffd"/>
                </a:solidFill>
                <a:latin typeface="Arial"/>
              </a:rPr>
              <a:t>电路输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18ffd"/>
                </a:solidFill>
                <a:latin typeface="Arial"/>
              </a:rPr>
              <a:t>输出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91800" y="48927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线路节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56880" y="479268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18ffd"/>
                </a:solidFill>
                <a:latin typeface="Arial"/>
              </a:rPr>
              <a:t>忽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18ffd"/>
                </a:solidFill>
                <a:latin typeface="Arial"/>
              </a:rPr>
              <a:t>电气检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64880" y="479268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C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布线提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763640" y="3716280"/>
            <a:ext cx="1656000" cy="12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843280" y="3789000"/>
            <a:ext cx="936720" cy="10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851280" y="3789360"/>
            <a:ext cx="289080" cy="100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4572000" y="3789000"/>
            <a:ext cx="287280" cy="115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4932360" y="3716280"/>
            <a:ext cx="792000" cy="115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92720" y="3716280"/>
            <a:ext cx="1511280" cy="115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03280" y="476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连接线路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1125360"/>
            <a:ext cx="84978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电路绘制工具栏上的按钮     或执行菜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ace/Wir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将编辑状态切换到连线模式，此时鼠标指针由空心箭头变为十字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只需将鼠标指针指向欲拉连线的元件端点，单击鼠标左键，就会出现一条随鼠标指针移动的预拉线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当鼠标指针移动到连线的转弯点时，单击鼠标左键就可定位一次转弯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若想将编辑状态切回到待命模式，可单击鼠标右键可按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s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键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300720" y="3716280"/>
            <a:ext cx="1911240" cy="2808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427640" y="1203480"/>
            <a:ext cx="209520" cy="2095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116000" y="414972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快捷的连线方法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待命模式，按鼠标右键，出现如图所示的右键菜单，点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ace Wir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菜单项就可以进行连线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画总线及总线分支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1341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总线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u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：一条线表示数条并行的导线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绘制总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绘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总线分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设置网络标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03280" y="2521080"/>
            <a:ext cx="6121440" cy="37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76360" y="90792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放置电源及接地符号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211640" y="2924280"/>
            <a:ext cx="3887640" cy="26589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042920" y="1557360"/>
            <a:ext cx="770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使用电源工具栏放置电源和接地符号，或者使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ace/Power Object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命令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放置后，设置电源和地的网络标识名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403280" y="3284640"/>
            <a:ext cx="151308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原理图设计过程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720108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1. </a:t>
            </a: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设置图纸大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首先要构思好零件图，设计好图纸大小。图纸大小是根据电路图的规模和复杂程度而定的，设置合适的图纸大小是设计好原理图的第一步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2. </a:t>
            </a: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设置</a:t>
            </a: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Protel 99SE/Schematic</a:t>
            </a: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设计环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包括设置格点大小和类型等，大多数参数也可以使用系统默认值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3. </a:t>
            </a: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放置零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根据电路图的需要，将零件从零件库里取出放置到图纸上，并对放置零件的序号、零件封装进行定义和设定等工作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4. </a:t>
            </a: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原理图布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Protel 99 SE/Schematic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提供的各种工具，将图纸上的元件用具有电气意义的导线、符号连接起来，构成一个完整的原理图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5. </a:t>
            </a: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调整线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将初步绘制的电路图作进一步的调整和修改，使原理图更加美观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6. </a:t>
            </a: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报表输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通过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Protel 99 SE/Schematic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提供的各种报表工具生成各种报表，其中最重要的报表是网络表，通过网络表为后续的电路板设计作准备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7. </a:t>
            </a: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文件保存及打印输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最后的步骤是文件保存及打印输出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308720" y="1341360"/>
            <a:ext cx="154944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新建一个设计库（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）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403236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启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otel 99 S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后的启动界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2637000"/>
            <a:ext cx="4105080" cy="280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788000" y="2637000"/>
            <a:ext cx="3960720" cy="3063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003640" y="1484280"/>
            <a:ext cx="352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571680" indent="-57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启动后出现的窗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新建一个设计库（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2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）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1413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选取菜单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ile/New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来新建一个设计库，出现如下图对话框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atabase File Nam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处可输入设计库存盘文件名，点击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rowse..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改变存盘目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050920" y="2637000"/>
            <a:ext cx="49690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新建一个设计库（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3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）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1413000"/>
            <a:ext cx="7920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如果您想用口令保护您的设计文件，可点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选项卡，再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e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并输入口令，点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按钮后，出现如图主设计窗口。在右边的设计管理窗口可以看到新建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yDesig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目录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08000" y="2637000"/>
            <a:ext cx="5400720" cy="37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新建原理图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141300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选取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ile/New..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打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New Documen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话框，如图选取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chematic Documen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建立一个新的原理图文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92360" y="2276640"/>
            <a:ext cx="619272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设置图纸大小和环境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55640" y="141300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选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esign/Options..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打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ocument Option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话框，如图所示。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tandard Styl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选择图纸大小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rientatio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设置图纸方向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Grid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设置格点大小、可见性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597528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7650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添加元件——从元件列表中选取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1484280"/>
            <a:ext cx="5688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添加元件的一种方法是直接从元件列表中选取，该操作必须通过设计库管理器窗口左边的元件库面板来进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18ffd"/>
                </a:solidFill>
                <a:latin typeface="Arial"/>
              </a:rPr>
              <a:t>从元件库管理面板中选取与门元件示范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首先在面板上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ibrar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栏中选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iscellaneous Devices.l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omponents In Librar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栏中利用滚动条找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并选定它。（也可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ilt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输入栏中输入元器件名称直接查找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ac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按钮，此时屏幕上会出现一个随鼠标移动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符号，按空格键可旋转元件，按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方向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方向镜像，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a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键可打开编辑元件对话框。将符号移动到适当的位置后单击鼠标左键使其定位即可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659640" y="550800"/>
            <a:ext cx="21715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47640" y="54900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添加元件——输入元件编号选取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1125360"/>
            <a:ext cx="84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通过菜单命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ace/Par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打开如图所示的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ace Part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话框，然后在该对话框中输入元件的名称及属性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16360" y="1844640"/>
            <a:ext cx="3671640" cy="2341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9640" y="4365720"/>
            <a:ext cx="82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rotel 99s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ace Par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对话框包括以下选项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ib Ref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元件库中所定义的元件名称，不会显示在绘图页中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esignator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流水序号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art Type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显示在绘图页中的元件名称，默认值与元件库中名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ib Re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致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ootprint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包装形式。应输入该元件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C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库里的名称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9T01:57:52Z</dcterms:created>
  <dc:creator>jovy jiang</dc:creator>
  <dc:description/>
  <dc:language>en-US</dc:language>
  <cp:lastModifiedBy>jiang junfeng</cp:lastModifiedBy>
  <dcterms:modified xsi:type="dcterms:W3CDTF">2003-07-17T07:20:08Z</dcterms:modified>
  <cp:revision>45</cp:revision>
  <dc:subject/>
  <dc:title>MC68HC908GP32IDK 在线编程开发系统</dc:title>
</cp:coreProperties>
</file>